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B6A-A4F5-43EC-A1C1-6F48CA8D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E85-4338-4676-9412-6387F282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7DD-145F-411A-811E-C6A0206D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8C1-30DA-4EA9-A4E6-45EC80D3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D35D-E6A9-4F4F-B8D5-E43ABB4F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F9EC-71BD-4673-9732-127BE17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AE92-3B40-4242-9219-A0D417FB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A3BF-C899-4C0D-ADD8-5AF092B8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6ED4-899C-4078-89F0-3C3A6338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2520-02DF-45B8-AE19-1C5DD986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6742-AE64-494B-84BB-08FF435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5ED-ED3E-47B4-823E-022D454C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5EB9-FDCF-43CB-8838-99DE8F2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6422-A7F0-40BE-9818-D17C55A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91C6-68DC-4779-B12B-F7FC16B3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2B65-7033-49DF-A39F-3FE2EFC0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FF9B-3618-48C5-AF14-08EB759A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DB5B-236F-4683-9FD3-61B9F59C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F645-9DF9-4D1E-8502-22BB85DC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EA20-0EAF-4E62-B70A-FFEC89B8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F1E3-55B5-4CE3-84A6-414E024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38B9-9985-4116-93C8-7B548CDF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8A6-6E18-4861-A24B-B781CC8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6CF8-22CE-4E6C-8A65-9DFCF1A9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B07F-7F88-440E-B1C7-84F53831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64AB-3D8B-428B-98E5-A4F16EF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F474-8D72-4D07-90CF-7256416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A21A-D616-42A1-B0CD-C33524B3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2C2F-6F9F-446B-B6A6-60B92C37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04AA-2669-49E4-A668-676D5619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4C0C-4330-4718-8BDB-D1BE3915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DC44-C664-42F0-9185-5F6C4E2B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2748-62B2-4940-A8CC-85B5715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A69-05BB-4396-804F-ED319BED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E420-F4E9-4708-A2C8-181811EA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2BE9-7BCF-475D-BC9C-E387D2C7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11F2-516E-44DE-AB93-D7599501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14CF-2124-4F98-B79B-75F0538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F53D-BA2D-4030-9363-3BA8F56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CBEB-3D46-48B2-AED1-0514A753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52FD-416A-4F47-84BB-8BD6CE99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0668-86B9-48F7-9B78-79B36567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147A-C470-4C9F-A423-92DA56F3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B5B60-6704-4F74-9CAC-0EC06024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64D-7521-46AB-8759-8231585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52FC-B0B0-402F-B5E5-7670EE49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99C94-1E70-44F4-B60C-3C28A6E0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36C0-616A-4B07-A897-79751CD7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CF57-F45D-4C85-9BEC-974105AD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19B9-2CD2-4F7A-BAEB-3B188CC9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5B2BD-02E3-483B-9991-227A077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4E2B-0335-4D95-8851-36EF902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0CBB-1267-4F20-9904-55E51BF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56522-FF06-4D33-BFD7-D48DF036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E355-A32E-4769-8DD4-AD440F94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91A-E238-42BD-94FF-A0533548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58F00-493C-418E-873F-AAFE5335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38FD6-BD4D-4061-A689-73284F78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64A41-C2AD-422D-9F9C-5F96EB12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5EA1B-001B-4BD1-AF27-22F6454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BAF64-942A-482F-BF98-0F4BC9F3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9F045-3D3F-4EA3-BD17-451F752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5BA26-4FE0-490C-BF08-115E9C86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7B9DB-4C00-488F-88B3-4E39D4A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5D0CB-48A8-4EC8-8FDB-7DCB9886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E8555-0722-4EB0-97AC-0827522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2FA-7946-4823-84C6-E0278699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310E6-D94A-4D2A-919B-1A21ACB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6967D-FA68-4DA5-920E-E74EACF5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F84B9-99A7-4E21-B0DE-ECE316BE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506-6D65-454E-ACDD-41301A6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322-EC1B-4F7C-A24B-F72D295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731-5328-41FD-97DF-C89317722EB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D3F8-2243-432F-9079-33AFC4DD6D2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178-18C1-4673-9FE9-3704963D1659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9336-01B9-47B2-A7BD-3B24223ACEDD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0A69-7518-4F54-B205-C0809B1ECA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89E5-C02B-43F8-8E43-ECA22C7F97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ighwell.cn/ArticleShow.asp?ArticleID=293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highwell.cn/ArticleShow.asp?ArticleID=289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highwell.cn/ArticleShow.asp?ArticleID=29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highwell.cn/ArticleShow.asp?ArticleID=29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highwell.cn/ArticleShow.asp?ArticleID=282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highwell.cn/ArticleShow.asp?ArticleID=284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bioo.com/Photo/2006/2566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bioo.com/Photo/2006/2565.htm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bbioo.com/Photo/2006/2563.htm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bbioo.com/Photo/2006/2558.htm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bbioo.com/Photo/2006/2559.htm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www.bbioo.com/Photo/2006/2561.htm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www.bbioo.com/Photo/2006/2556.htm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www.bbioo.com/Photo/2006/2555.htm" TargetMode="External"/><Relationship Id="rId16" Type="http://schemas.openxmlformats.org/officeDocument/2006/relationships/image" Target="../media/image17.jpeg"/><Relationship Id="rId17" Type="http://schemas.openxmlformats.org/officeDocument/2006/relationships/hyperlink" Target="http://www.bbioo.com/Photo/2006/2548.htm" TargetMode="External"/><Relationship Id="rId18" Type="http://schemas.openxmlformats.org/officeDocument/2006/relationships/image" Target="../media/image18.jpeg"/><Relationship Id="rId19" Type="http://schemas.openxmlformats.org/officeDocument/2006/relationships/hyperlink" Target="http://www.bbioo.com/Photo/2006/2552.htm" TargetMode="External"/><Relationship Id="rId20" Type="http://schemas.openxmlformats.org/officeDocument/2006/relationships/image" Target="../media/image19.jpeg"/><Relationship Id="rId21" Type="http://schemas.openxmlformats.org/officeDocument/2006/relationships/hyperlink" Target="http://www.bbioo.com/Photo/2006/2544.htm" TargetMode="External"/><Relationship Id="rId22" Type="http://schemas.openxmlformats.org/officeDocument/2006/relationships/image" Target="../media/image20.jpeg"/><Relationship Id="rId23" Type="http://schemas.openxmlformats.org/officeDocument/2006/relationships/hyperlink" Target="http://www.bbioo.com/Photo/2006/2538.htm" TargetMode="External"/><Relationship Id="rId24" Type="http://schemas.openxmlformats.org/officeDocument/2006/relationships/image" Target="../media/image21.jpeg"/><Relationship Id="rId25" Type="http://schemas.openxmlformats.org/officeDocument/2006/relationships/image" Target="../media/image22.jpeg"/><Relationship Id="rId26" Type="http://schemas.openxmlformats.org/officeDocument/2006/relationships/image" Target="../media/image23.jpeg"/><Relationship Id="rId27" Type="http://schemas.openxmlformats.org/officeDocument/2006/relationships/image" Target="../media/image24.jpe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07240" y="692280"/>
            <a:ext cx="301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15 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玩出了名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6880" y="58770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宋家沟小学 杨艳飞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11280" y="622440"/>
            <a:ext cx="748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英国皇家学会是英国最具名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的科学学术机构，其成员在尖端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学方面饶有贡献。该学会多方面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持不少英国的年轻顶尖科学家、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程师及科技人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9280" y="404640"/>
            <a:ext cx="78850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列文虎克最早发现了微生物，发现了  一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全新的世界，他得到了那些赞美和肯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2492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答：英国皇家学会聘请他为会员、英国女王和俄国沙皇也千里迢迢来拜访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7164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4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学完了课文，你认为列文虎克是怎样一个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2060640"/>
            <a:ext cx="705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92360" y="2133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他是一位爱玩，也会玩的荷兰人。她爱动脑、爱动手，善于观察身边事物的人。通过玩放大镜发现了一个微生物的新世界。我们要向他学习，不但爱玩，还要动脑动手，会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0000" y="9079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五：学学生字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00000" y="1916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16360" y="191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00360" y="191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6720" y="1916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16360" y="3141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4724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16720" y="4724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3357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3284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6720" y="3141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00360" y="4653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340000" y="292428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Comic Sans MS"/>
                <a:ea typeface="华文新魏"/>
              </a:rPr>
              <a:t>再     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00" y="260280"/>
            <a:ext cx="748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一、读课文题目《玩出了名堂》， 你能提出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060640"/>
            <a:ext cx="64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什么是“名堂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谁玩出了名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他玩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、他玩出了什么名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16000" y="1052640"/>
            <a:ext cx="63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二：初读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1989000"/>
            <a:ext cx="55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读课文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画出不认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想办法认识你画出来的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71640" y="404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三：看谁认的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名堂    浪费   镜片    看守   定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2565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清闲   细微   阅读    随意   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36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简单  拜访   玩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465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放大镜   显微镜   微生物  挤来挤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5900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2007417142938542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979640" y="0"/>
              <a:ext cx="243828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427640" y="0"/>
              <a:ext cx="2617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983280" y="0"/>
              <a:ext cx="21607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0" y="2708280"/>
              <a:ext cx="2581200" cy="414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00360" y="2781360"/>
            <a:ext cx="2460600" cy="4076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364000" y="45212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放大镜是用来对细小物体的放大以观察、识别、鉴定等最普遍而方便、有效的仪器。有台式、便携式、带光源、带刻度等多种选择，可用于各行各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116000" y="692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微生物是自然界的重要成员，细菌、病毒和真菌都是微生物。有些微生物会使人生病，流行性感冒就是有病毒引起的；有些微生物却是人类的好助手，如，有的可以分解垃圾，有的可以消灭害虫，还有的是酿酒和做选奶的功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20061030123208661" descr=""/>
          <p:cNvPicPr/>
          <p:nvPr/>
        </p:nvPicPr>
        <p:blipFill>
          <a:blip r:embed="rId1"/>
          <a:stretch/>
        </p:blipFill>
        <p:spPr>
          <a:xfrm>
            <a:off x="4643280" y="3141720"/>
            <a:ext cx="4500720" cy="3517920"/>
          </a:xfrm>
          <a:prstGeom prst="rect">
            <a:avLst/>
          </a:prstGeom>
          <a:ln w="0">
            <a:noFill/>
          </a:ln>
        </p:spPr>
      </p:pic>
      <p:pic>
        <p:nvPicPr>
          <p:cNvPr id="411" name="20061030123338429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68640"/>
          </a:xfrm>
          <a:prstGeom prst="rect">
            <a:avLst/>
          </a:prstGeom>
          <a:ln w="0">
            <a:noFill/>
          </a:ln>
        </p:spPr>
      </p:pic>
      <p:pic>
        <p:nvPicPr>
          <p:cNvPr id="412" name="20061030123446710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068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042560" y="4581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黑体"/>
              </a:rPr>
              <a:t>显微镜下的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5092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活动四：精读课文，理解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1268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列文虎克磨厚玻璃做什么？（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3--5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1989000"/>
            <a:ext cx="7632720" cy="3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他是怎样玩的？玩出了什么名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想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玩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（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）有新的发现：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16360" y="2708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把两片放大镜放在一起会怎么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16360" y="3645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一片放大镜固定，另一片可以随意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87640" y="4797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看到了一个平时看不到的“小人国”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99fa"/>
            </a:gs>
            <a:gs pos="100000">
              <a:srgbClr val="6a43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2006103012311646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5445000"/>
            <a:ext cx="1238400" cy="857520"/>
          </a:xfrm>
          <a:prstGeom prst="rect">
            <a:avLst/>
          </a:prstGeom>
          <a:ln w="0">
            <a:noFill/>
          </a:ln>
        </p:spPr>
      </p:pic>
      <p:pic>
        <p:nvPicPr>
          <p:cNvPr id="421" name="2006103012300229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6520" y="907920"/>
            <a:ext cx="987480" cy="1506600"/>
          </a:xfrm>
          <a:prstGeom prst="rect">
            <a:avLst/>
          </a:prstGeom>
          <a:ln w="0">
            <a:noFill/>
          </a:ln>
        </p:spPr>
      </p:pic>
      <p:pic>
        <p:nvPicPr>
          <p:cNvPr id="422" name="2006103012252230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907920"/>
            <a:ext cx="2016000" cy="1540080"/>
          </a:xfrm>
          <a:prstGeom prst="rect">
            <a:avLst/>
          </a:prstGeom>
          <a:ln w="0">
            <a:noFill/>
          </a:ln>
        </p:spPr>
      </p:pic>
      <p:pic>
        <p:nvPicPr>
          <p:cNvPr id="423" name="2006103012133838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1640" y="2852640"/>
            <a:ext cx="1513080" cy="1720800"/>
          </a:xfrm>
          <a:prstGeom prst="rect">
            <a:avLst/>
          </a:prstGeom>
          <a:ln w="0">
            <a:noFill/>
          </a:ln>
        </p:spPr>
      </p:pic>
      <p:pic>
        <p:nvPicPr>
          <p:cNvPr id="424" name="2006103012175841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79640" y="907920"/>
            <a:ext cx="1728720" cy="1578240"/>
          </a:xfrm>
          <a:prstGeom prst="rect">
            <a:avLst/>
          </a:prstGeom>
          <a:ln w="0">
            <a:noFill/>
          </a:ln>
        </p:spPr>
      </p:pic>
      <p:pic>
        <p:nvPicPr>
          <p:cNvPr id="425" name="20061030122225637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9079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26" name="20061030120846606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2927520"/>
            <a:ext cx="2050920" cy="1719000"/>
          </a:xfrm>
          <a:prstGeom prst="rect">
            <a:avLst/>
          </a:prstGeom>
          <a:ln w="0">
            <a:noFill/>
          </a:ln>
        </p:spPr>
      </p:pic>
      <p:pic>
        <p:nvPicPr>
          <p:cNvPr id="427" name="20061030120446585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68360" y="2978280"/>
            <a:ext cx="1582920" cy="1595160"/>
          </a:xfrm>
          <a:prstGeom prst="rect">
            <a:avLst/>
          </a:prstGeom>
          <a:ln w="0">
            <a:noFill/>
          </a:ln>
        </p:spPr>
      </p:pic>
      <p:pic>
        <p:nvPicPr>
          <p:cNvPr id="428" name="20061030114705198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140360" y="2924280"/>
            <a:ext cx="1223640" cy="1644480"/>
          </a:xfrm>
          <a:prstGeom prst="rect">
            <a:avLst/>
          </a:prstGeom>
          <a:ln w="0">
            <a:noFill/>
          </a:ln>
        </p:spPr>
      </p:pic>
      <p:pic>
        <p:nvPicPr>
          <p:cNvPr id="429" name="20061030115947906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940360" y="2924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430" name="20061030090034147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732720" y="981000"/>
            <a:ext cx="1238040" cy="1505160"/>
          </a:xfrm>
          <a:prstGeom prst="rect">
            <a:avLst/>
          </a:prstGeom>
          <a:ln w="0">
            <a:noFill/>
          </a:ln>
        </p:spPr>
      </p:pic>
      <p:pic>
        <p:nvPicPr>
          <p:cNvPr id="431" name="20061030083650601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0" y="5438880"/>
            <a:ext cx="2050920" cy="1419120"/>
          </a:xfrm>
          <a:prstGeom prst="rect">
            <a:avLst/>
          </a:prstGeom>
          <a:ln w="0">
            <a:noFill/>
          </a:ln>
        </p:spPr>
      </p:pic>
      <p:pic>
        <p:nvPicPr>
          <p:cNvPr id="432" name="20061030084129623" descr=""/>
          <p:cNvPicPr/>
          <p:nvPr/>
        </p:nvPicPr>
        <p:blipFill>
          <a:blip r:embed="rId25"/>
          <a:stretch/>
        </p:blipFill>
        <p:spPr>
          <a:xfrm>
            <a:off x="2195640" y="5411880"/>
            <a:ext cx="2089080" cy="1446120"/>
          </a:xfrm>
          <a:prstGeom prst="rect">
            <a:avLst/>
          </a:prstGeom>
          <a:ln w="0">
            <a:noFill/>
          </a:ln>
        </p:spPr>
      </p:pic>
      <p:pic>
        <p:nvPicPr>
          <p:cNvPr id="433" name="20061030083757344" descr=""/>
          <p:cNvPicPr/>
          <p:nvPr/>
        </p:nvPicPr>
        <p:blipFill>
          <a:blip r:embed="rId26"/>
          <a:stretch/>
        </p:blipFill>
        <p:spPr>
          <a:xfrm>
            <a:off x="4500720" y="5313240"/>
            <a:ext cx="2232000" cy="1544760"/>
          </a:xfrm>
          <a:prstGeom prst="rect">
            <a:avLst/>
          </a:prstGeom>
          <a:ln w="0">
            <a:noFill/>
          </a:ln>
        </p:spPr>
      </p:pic>
      <p:pic>
        <p:nvPicPr>
          <p:cNvPr id="434" name="20061030080351499" descr=""/>
          <p:cNvPicPr/>
          <p:nvPr/>
        </p:nvPicPr>
        <p:blipFill>
          <a:blip r:embed="rId27"/>
          <a:stretch/>
        </p:blipFill>
        <p:spPr>
          <a:xfrm>
            <a:off x="6804000" y="5238720"/>
            <a:ext cx="2340000" cy="16192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0600" y="-4531680"/>
            <a:ext cx="23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-34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-258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-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-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-1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8108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69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255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512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598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684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769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855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41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027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0" y="1112796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68360" y="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各种各样的微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20:20Z</dcterms:created>
  <dc:creator>番茄花园</dc:creator>
  <dc:description/>
  <dc:language>en-US</dc:language>
  <cp:lastModifiedBy>USER</cp:lastModifiedBy>
  <dcterms:modified xsi:type="dcterms:W3CDTF">2010-07-12T01:17:14Z</dcterms:modified>
  <cp:revision>5</cp:revision>
  <dc:subject/>
  <dc:title>幻灯片 1</dc:title>
</cp:coreProperties>
</file>