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9BB-258B-42A9-96A1-B7D4ADE6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D589-F9F0-456E-B6BE-EAA55262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6D5-A2EA-4BC3-BF7B-1D8202B2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B3F-188B-4AEC-88A0-335B051B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026A-37BD-4245-8826-E038B2FF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3FE7-759A-4FD9-8405-B444687D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FA6E-4165-4CBC-B7F4-9A2C63B6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F2ED-CC24-4815-927E-C21FC337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B60F-8331-4CE9-953C-6AAB7C7D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7C5D-1425-4B33-BB0A-0B3A6F7C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CA5A-0E04-43DC-AA0E-C324ACE5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750-74BF-4580-9A94-13AFD220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946F-2EC4-47C3-A2C5-EB824CF5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F9AC-A3A5-46E7-B3BB-D4FFEA95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A314-6B2B-4003-80CF-798C72DC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091E-8124-4BA0-A00F-5193889C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0334-A631-43F7-9649-C2106C58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CCA03-16AD-4973-B715-3A83C7E5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E0B96-DE1B-4425-8329-77A6E0E7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B9FE-83BC-4855-A776-8E6B9147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A6FED-4121-4C25-9FFC-095F3C52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A3503-318D-4B9B-82CC-26E18B8F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F066-C91A-47C1-94D0-BB7A0008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D4710-207B-4581-BC1B-9DCEE447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3E62A-479E-4891-8FA7-F5C18000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56A52-FED1-48DA-B9FA-750F4116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8156D-3C07-41ED-8FFA-3B1C7624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0A781-01BC-46E1-8870-C193326C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3DA77-83D5-4061-9293-E11674DA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CCC33-760D-458A-9E6B-65932F22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787BF-1D18-4D5B-80D3-42D2CE71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36E15-23F8-4BC0-9230-9B556517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F4156-E385-4488-835F-D14A9E0D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552-49DD-40D4-A482-8C813F0C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3EAD9-413C-4783-A8BB-0C382040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E9056-4B35-4094-8698-CFF400CC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4B98A-5A2A-4D15-9AC5-C441B9A0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665B9-01F7-4948-95A5-CC806711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A0C09-E311-4375-90BD-239E4877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09A3B-0ADE-4B54-BAAF-416BD75F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2AA4C-3A86-4990-8DC6-7DE68CCC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75FF1-F531-4A3E-AFE3-6FA78A0C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A1F38-888C-4F57-90EE-FC3E84F6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125E2-272C-49D1-AA8C-9EAA64E0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297-BA31-414A-84A6-DFF27F0E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08196-9B83-4874-8D55-3BEDEAA6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D1E2A-336F-41AC-95DD-7D0A2B1E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50D8D-E4E6-41B6-9CFC-023D1935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3FECD-E26A-434E-A75A-BAC6E040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1F8A6-8740-4A4B-A8E1-D77F9136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13EB9-45A6-4B24-92A5-B6E67033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BBD0F-77C1-4145-8602-F8EA51C4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4583C-BE86-4FB3-A226-B9BA0AC6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FB7A6-F050-4F91-BDA4-D107A6B7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DCB1E-FC3A-4528-AC1A-7E648505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062-BBF1-493E-8692-76F98411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30F37-3FB1-4384-AF02-943D5489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A5009E-7F7A-4C03-A37E-9C43C26E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A96EB3-B3EA-433C-99DC-9A429230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056B31-C687-4CD7-B0D5-84BAA975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BE0777-C0E6-423F-9FB4-53461AFC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BE6CD9-5640-4A9A-A110-3FBD8523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E77E07-A1AD-4EAE-9CD0-2A0FFD17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7C1D80-8DC3-4811-BFD8-2836C5DB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D1AD90-6E3C-4862-8977-5B3D6306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1018D-AD0F-40D8-ACC4-5A6C8789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85D-FF13-4A97-8A10-020391EB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370422-6B91-45E8-AB15-9663E3C1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0C369C-0FD3-4DEC-96A1-70BB8253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ACD631-7933-4E2A-953A-64E069BD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3C4-EB78-41E0-9A3A-AEA6C4A0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5C75-08AE-40CF-A66F-FB007AF7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7EE4-8E96-4174-B81D-FE046A6DCEA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4C2E-F94F-43C6-A7B1-2D76C7F96AD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5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5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8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5CA3-D4E0-40C5-865E-0917FF62C2F9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2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0623-86E9-4762-95A7-3DD46859EF24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26A9-1713-4E68-9048-ABF83FDF8B5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F3D9-0410-4B0F-9AB5-CCBD9CC13FD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ighwell.cn/ArticleShow.asp?ArticleID=293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highwell.cn/ArticleShow.asp?ArticleID=289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highwell.cn/ArticleShow.asp?ArticleID=292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www.highwell.cn/ArticleShow.asp?ArticleID=291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highwell.cn/ArticleShow.asp?ArticleID=282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www.highwell.cn/ArticleShow.asp?ArticleID=284" TargetMode="External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bioo.com/Photo/2006/2566.htm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bbioo.com/Photo/2006/2565.htm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www.bbioo.com/Photo/2006/2563.htm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www.bbioo.com/Photo/2006/2558.htm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www.bbioo.com/Photo/2006/2559.htm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www.bbioo.com/Photo/2006/2561.htm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www.bbioo.com/Photo/2006/2556.htm" TargetMode="External"/><Relationship Id="rId14" Type="http://schemas.openxmlformats.org/officeDocument/2006/relationships/image" Target="../media/image16.jpeg"/><Relationship Id="rId15" Type="http://schemas.openxmlformats.org/officeDocument/2006/relationships/hyperlink" Target="http://www.bbioo.com/Photo/2006/2555.htm" TargetMode="External"/><Relationship Id="rId16" Type="http://schemas.openxmlformats.org/officeDocument/2006/relationships/image" Target="../media/image17.jpeg"/><Relationship Id="rId17" Type="http://schemas.openxmlformats.org/officeDocument/2006/relationships/hyperlink" Target="http://www.bbioo.com/Photo/2006/2548.htm" TargetMode="External"/><Relationship Id="rId18" Type="http://schemas.openxmlformats.org/officeDocument/2006/relationships/image" Target="../media/image18.jpeg"/><Relationship Id="rId19" Type="http://schemas.openxmlformats.org/officeDocument/2006/relationships/hyperlink" Target="http://www.bbioo.com/Photo/2006/2552.htm" TargetMode="External"/><Relationship Id="rId20" Type="http://schemas.openxmlformats.org/officeDocument/2006/relationships/image" Target="../media/image19.jpeg"/><Relationship Id="rId21" Type="http://schemas.openxmlformats.org/officeDocument/2006/relationships/hyperlink" Target="http://www.bbioo.com/Photo/2006/2544.htm" TargetMode="External"/><Relationship Id="rId22" Type="http://schemas.openxmlformats.org/officeDocument/2006/relationships/image" Target="../media/image20.jpeg"/><Relationship Id="rId23" Type="http://schemas.openxmlformats.org/officeDocument/2006/relationships/hyperlink" Target="http://www.bbioo.com/Photo/2006/2538.htm" TargetMode="External"/><Relationship Id="rId24" Type="http://schemas.openxmlformats.org/officeDocument/2006/relationships/image" Target="../media/image21.jpeg"/><Relationship Id="rId25" Type="http://schemas.openxmlformats.org/officeDocument/2006/relationships/image" Target="../media/image22.jpeg"/><Relationship Id="rId26" Type="http://schemas.openxmlformats.org/officeDocument/2006/relationships/image" Target="../media/image23.jpeg"/><Relationship Id="rId27" Type="http://schemas.openxmlformats.org/officeDocument/2006/relationships/image" Target="../media/image24.jpe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207240" y="692280"/>
            <a:ext cx="301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15 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玩出了名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66880" y="587700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宋家沟小学 杨艳飞制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11280" y="622440"/>
            <a:ext cx="748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英国皇家学会是英国最具名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的科学学术机构，其成员在尖端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学方面饶有贡献。该学会多方面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持不少英国的年轻顶尖科学家、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程师及科技人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79280" y="404640"/>
            <a:ext cx="788508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3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列文虎克最早发现了微生物，发现了  一个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全新的世界，他得到了那些赞美和肯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1280" y="249228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答：英国皇家学会聘请他为会员、英国女王和俄国沙皇也千里迢迢来拜访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7164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4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学完了课文，你认为列文虎克是怎样一个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2060640"/>
            <a:ext cx="705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92360" y="213372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他是一位爱玩，也会玩的荷兰人。她爱动脑、爱动手，善于观察身边事物的人。通过玩放大镜发现了一个微生物的新世界。我们要向他学习，不但爱玩，还要动脑动手，会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900000" y="90792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活动五：学学生字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00000" y="191628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716360" y="1916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00360" y="1916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516720" y="1916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00000" y="4724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716360" y="31417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59280" y="4724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16720" y="4724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6920" y="3357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00360" y="3284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516720" y="3141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00360" y="4653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340000" y="2924280"/>
            <a:ext cx="46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Comic Sans MS"/>
                <a:ea typeface="华文新魏"/>
              </a:rPr>
              <a:t>再     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24000" y="260280"/>
            <a:ext cx="748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活动一、读课文题目《玩出了名堂》， 你能提出什么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47640" y="2060640"/>
            <a:ext cx="64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、什么是“名堂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、谁玩出了名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3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、他玩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4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、他玩出了什么名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116000" y="1052640"/>
            <a:ext cx="63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活动二：初读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76360" y="1989000"/>
            <a:ext cx="554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读课文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画出不认识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生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0" y="414972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2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想办法认识你画出来的生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971640" y="404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活动三：看谁认的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1557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名堂    浪费   镜片    看守   定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8360" y="2565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清闲   细微   阅读    随意   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3645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简单  拜访   玩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465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放大镜   显微镜   微生物  挤来挤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02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25900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2007417142938542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979640" y="0"/>
              <a:ext cx="243828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427640" y="0"/>
              <a:ext cx="2617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983280" y="0"/>
              <a:ext cx="216072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0" y="2708280"/>
              <a:ext cx="2581200" cy="414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700360" y="2781360"/>
            <a:ext cx="2460600" cy="40766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364000" y="45212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放大镜是用来对细小物体的放大以观察、识别、鉴定等最普遍而方便、有效的仪器。有台式、便携式、带光源、带刻度等多种选择，可用于各行各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116000" y="69228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微生物是自然界的重要成员，细菌、病毒和真菌都是微生物。有些微生物会使人生病，流行性感冒就是有病毒引起的；有些微生物却是人类的好助手，如，有的可以分解垃圾，有的可以消灭害虫，还有的是酿酒和做选奶的功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20061030123208661" descr=""/>
          <p:cNvPicPr/>
          <p:nvPr/>
        </p:nvPicPr>
        <p:blipFill>
          <a:blip r:embed="rId1"/>
          <a:stretch/>
        </p:blipFill>
        <p:spPr>
          <a:xfrm>
            <a:off x="4643280" y="3141720"/>
            <a:ext cx="4500720" cy="3517920"/>
          </a:xfrm>
          <a:prstGeom prst="rect">
            <a:avLst/>
          </a:prstGeom>
          <a:ln w="0">
            <a:noFill/>
          </a:ln>
        </p:spPr>
      </p:pic>
      <p:pic>
        <p:nvPicPr>
          <p:cNvPr id="411" name="20061030123338429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68640"/>
          </a:xfrm>
          <a:prstGeom prst="rect">
            <a:avLst/>
          </a:prstGeom>
          <a:ln w="0">
            <a:noFill/>
          </a:ln>
        </p:spPr>
      </p:pic>
      <p:pic>
        <p:nvPicPr>
          <p:cNvPr id="412" name="20061030123446710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30686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042560" y="4581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  <a:ea typeface="黑体"/>
              </a:rPr>
              <a:t>显微镜下的细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50920" y="33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活动四：精读课文，理解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5280" y="1268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列文虎克磨厚玻璃做什么？（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3--5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8360" y="1989000"/>
            <a:ext cx="7632720" cy="33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2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他是怎样玩的？玩出了什么名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（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1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）有新的想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（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2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）有新的玩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（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3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）有新的发现：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916360" y="270828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Comic Sans MS"/>
              </a:rPr>
              <a:t>把两片放大镜放在一起会怎么样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916360" y="364500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Comic Sans MS"/>
              </a:rPr>
              <a:t>一片放大镜固定，另一片可以随意调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987640" y="4797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Comic Sans MS"/>
              </a:rPr>
              <a:t>看到了一个平时看不到的“小人国”世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2006103012311646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5445000"/>
            <a:ext cx="1238400" cy="857520"/>
          </a:xfrm>
          <a:prstGeom prst="rect">
            <a:avLst/>
          </a:prstGeom>
          <a:ln w="0">
            <a:noFill/>
          </a:ln>
        </p:spPr>
      </p:pic>
      <p:pic>
        <p:nvPicPr>
          <p:cNvPr id="421" name="2006103012300229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56520" y="907920"/>
            <a:ext cx="987480" cy="1506600"/>
          </a:xfrm>
          <a:prstGeom prst="rect">
            <a:avLst/>
          </a:prstGeom>
          <a:ln w="0">
            <a:noFill/>
          </a:ln>
        </p:spPr>
      </p:pic>
      <p:pic>
        <p:nvPicPr>
          <p:cNvPr id="422" name="2006103012252230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7640" y="907920"/>
            <a:ext cx="2016000" cy="1540080"/>
          </a:xfrm>
          <a:prstGeom prst="rect">
            <a:avLst/>
          </a:prstGeom>
          <a:ln w="0">
            <a:noFill/>
          </a:ln>
        </p:spPr>
      </p:pic>
      <p:pic>
        <p:nvPicPr>
          <p:cNvPr id="423" name="2006103012133838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51640" y="2852640"/>
            <a:ext cx="1513080" cy="1720800"/>
          </a:xfrm>
          <a:prstGeom prst="rect">
            <a:avLst/>
          </a:prstGeom>
          <a:ln w="0">
            <a:noFill/>
          </a:ln>
        </p:spPr>
      </p:pic>
      <p:pic>
        <p:nvPicPr>
          <p:cNvPr id="424" name="20061030121758411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979640" y="907920"/>
            <a:ext cx="1728720" cy="1578240"/>
          </a:xfrm>
          <a:prstGeom prst="rect">
            <a:avLst/>
          </a:prstGeom>
          <a:ln w="0">
            <a:noFill/>
          </a:ln>
        </p:spPr>
      </p:pic>
      <p:pic>
        <p:nvPicPr>
          <p:cNvPr id="425" name="20061030122225637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90792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426" name="20061030120846606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0" y="2927520"/>
            <a:ext cx="2050920" cy="1719000"/>
          </a:xfrm>
          <a:prstGeom prst="rect">
            <a:avLst/>
          </a:prstGeom>
          <a:ln w="0">
            <a:noFill/>
          </a:ln>
        </p:spPr>
      </p:pic>
      <p:pic>
        <p:nvPicPr>
          <p:cNvPr id="427" name="20061030120446585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268360" y="2978280"/>
            <a:ext cx="1582920" cy="1595160"/>
          </a:xfrm>
          <a:prstGeom prst="rect">
            <a:avLst/>
          </a:prstGeom>
          <a:ln w="0">
            <a:noFill/>
          </a:ln>
        </p:spPr>
      </p:pic>
      <p:pic>
        <p:nvPicPr>
          <p:cNvPr id="428" name="20061030114705198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140360" y="2924280"/>
            <a:ext cx="1223640" cy="1644480"/>
          </a:xfrm>
          <a:prstGeom prst="rect">
            <a:avLst/>
          </a:prstGeom>
          <a:ln w="0">
            <a:noFill/>
          </a:ln>
        </p:spPr>
      </p:pic>
      <p:pic>
        <p:nvPicPr>
          <p:cNvPr id="429" name="20061030115947906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940360" y="2924280"/>
            <a:ext cx="1224000" cy="1728720"/>
          </a:xfrm>
          <a:prstGeom prst="rect">
            <a:avLst/>
          </a:prstGeom>
          <a:ln w="0">
            <a:noFill/>
          </a:ln>
        </p:spPr>
      </p:pic>
      <p:pic>
        <p:nvPicPr>
          <p:cNvPr id="430" name="20061030090034147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6732720" y="981000"/>
            <a:ext cx="1238040" cy="1505160"/>
          </a:xfrm>
          <a:prstGeom prst="rect">
            <a:avLst/>
          </a:prstGeom>
          <a:ln w="0">
            <a:noFill/>
          </a:ln>
        </p:spPr>
      </p:pic>
      <p:pic>
        <p:nvPicPr>
          <p:cNvPr id="431" name="20061030083650601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0" y="5438880"/>
            <a:ext cx="2050920" cy="1419120"/>
          </a:xfrm>
          <a:prstGeom prst="rect">
            <a:avLst/>
          </a:prstGeom>
          <a:ln w="0">
            <a:noFill/>
          </a:ln>
        </p:spPr>
      </p:pic>
      <p:pic>
        <p:nvPicPr>
          <p:cNvPr id="432" name="20061030084129623" descr=""/>
          <p:cNvPicPr/>
          <p:nvPr/>
        </p:nvPicPr>
        <p:blipFill>
          <a:blip r:embed="rId25"/>
          <a:stretch/>
        </p:blipFill>
        <p:spPr>
          <a:xfrm>
            <a:off x="2195640" y="5411880"/>
            <a:ext cx="2089080" cy="1446120"/>
          </a:xfrm>
          <a:prstGeom prst="rect">
            <a:avLst/>
          </a:prstGeom>
          <a:ln w="0">
            <a:noFill/>
          </a:ln>
        </p:spPr>
      </p:pic>
      <p:pic>
        <p:nvPicPr>
          <p:cNvPr id="433" name="20061030083757344" descr=""/>
          <p:cNvPicPr/>
          <p:nvPr/>
        </p:nvPicPr>
        <p:blipFill>
          <a:blip r:embed="rId26"/>
          <a:stretch/>
        </p:blipFill>
        <p:spPr>
          <a:xfrm>
            <a:off x="4500720" y="5313240"/>
            <a:ext cx="2232000" cy="1544760"/>
          </a:xfrm>
          <a:prstGeom prst="rect">
            <a:avLst/>
          </a:prstGeom>
          <a:ln w="0">
            <a:noFill/>
          </a:ln>
        </p:spPr>
      </p:pic>
      <p:pic>
        <p:nvPicPr>
          <p:cNvPr id="434" name="20061030080351499" descr=""/>
          <p:cNvPicPr/>
          <p:nvPr/>
        </p:nvPicPr>
        <p:blipFill>
          <a:blip r:embed="rId27"/>
          <a:stretch/>
        </p:blipFill>
        <p:spPr>
          <a:xfrm>
            <a:off x="6804000" y="5238720"/>
            <a:ext cx="2340000" cy="16192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0600" y="-4531680"/>
            <a:ext cx="23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-344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-258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-17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-87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-1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18108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169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255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685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512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598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684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769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855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941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027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60" y="1112796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68360" y="0"/>
            <a:ext cx="44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各种各样的微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20:20Z</dcterms:created>
  <dc:creator>番茄花园</dc:creator>
  <dc:description/>
  <dc:language>en-US</dc:language>
  <cp:lastModifiedBy>USER</cp:lastModifiedBy>
  <dcterms:modified xsi:type="dcterms:W3CDTF">2010-07-12T01:17:14Z</dcterms:modified>
  <cp:revision>5</cp:revision>
  <dc:subject/>
  <dc:title>幻灯片 1</dc:title>
</cp:coreProperties>
</file>