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96B-D463-43D1-BC1C-1F220AB7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4DF-14C3-4501-B9ED-707DA7AD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7E0-CA03-456A-9BA5-BC32F2CB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743-56C0-4B3C-95FE-8B662E1E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82AC-ED97-4CB5-8F4B-27A0C9E3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06E-C0F6-4FFC-8CC6-003C47E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0FD-803B-4840-9AC5-F5E929A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E9FE-24F8-4514-98A3-29FDF35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BAE9-F55B-45CA-971F-59DEF0B5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60EA-0AC0-4A75-B9A9-715353F4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140-EAA3-4C83-A787-3B320E6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6CF-19C4-45F3-93C3-3F960AF1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95A6-A97B-4913-8AEE-A99B604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D29B-C9B5-4AB3-8010-93883A77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9D4-485F-42A5-A450-A4E904C1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C08-7AF5-4443-A406-60EBB56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A80-96A7-451B-99A3-C871FF59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B8F1-25FF-4A5A-B3FF-589015CB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CCB2-C671-4CDC-BDA1-34BC4D7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E030-F614-4CDF-A2AD-66600904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14CC-5C24-4A93-8D7A-89D20221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2E7C-01CE-4DB0-B4F6-6418FD91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97B-D475-4CB8-B218-6A85FD01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62D1-3EAC-4D3B-A24C-EDCF89D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7424-9FE3-426D-84CE-5370C1B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39CC-2E56-4D67-8079-26FD8AB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1D0F-9F49-45A8-8072-059897A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7DA7-1B82-4D05-858D-763D1B8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AC3D-030D-45AC-9F27-86CB9CB5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CEAB-E9DC-4DBC-BFDE-4E82B465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6350-39A3-4F7A-8F5C-AE0F1AC6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F3AE-4381-4A0F-A6B0-697EFD8B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3003-66E9-45E8-A321-60BA86A9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5E5-272E-4588-9045-7C4ED652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C231-DE3E-413C-94F6-8F93516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62EE-D837-431F-A7B5-99D0235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CEF1-BCA6-4C84-BFF4-6B3D7FA5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5F45-3C12-4F9A-899E-56DFF58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7880-1E8D-47B4-AF0A-7B23452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19DB-A82F-41F4-9C95-C9E6A84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AC0E-F53C-43B0-836E-46075EC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ECFB-C668-4DB4-8595-7059E52E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9078-E3CC-4EE5-BFC6-E91D9ABB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C3A7-B245-49BD-AE10-6D0337F8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809-34AC-4A8A-A63E-815B873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0991-E612-4EA3-952C-DDE9F35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29F9-A789-42B3-865C-041D426E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CB32-135C-48E0-B731-757A130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42DA-A3A3-4930-BE30-70ED441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F6F6-CB8D-4651-AE17-45BEBA9B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E627-C7D5-4311-9F00-45A3301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857A-CCA4-405F-86F0-3084E7F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306F6-0E82-433C-AE4F-CA8DF9C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6B9E-2408-4291-8851-96A3049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8412-8561-42FB-B9C0-9C284E61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2C5-B585-4D2C-A567-0E5DB2E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9A58-9C04-400D-829E-52404F4E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E7740-B4F7-498E-8FAD-5800E094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D362C-78FD-4929-8F72-1B30D0F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9A116-35F7-4B07-85D9-CBE5A3A0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25088-6B17-4E32-974D-50E707C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292D8-1552-4CC6-AB70-F04A866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66B2B-89D5-4E99-90FA-33DD9A30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4C6F6-783C-439F-A62A-6A67452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57795-A218-4CA5-A6E9-6D07317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30D37-43AE-43D7-B2C3-390FE6A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FC9-064D-46D0-9BD9-81AA596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4EFEA-E5BB-4101-AA30-3CB668F8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C96C4-1BC8-41C0-8BBF-02336BAC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EEF58-7A26-4385-BEEA-060E70BE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220-96F4-4866-A5B7-CFD3FAE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110-A39C-4143-ADDA-224E3EB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A644-85F3-4916-9571-2F5E76D9422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ACD-A29F-4269-B224-9D143354219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4572-ED2B-4C08-9074-D9D644142E4A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385-3109-4DAC-AEFD-5A142035F17F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9CA-557A-4528-89CF-87C3A138F8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2C2-3F7E-41C3-BF44-913876E8B0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ghwell.cn/ArticleShow.asp?ArticleID=293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highwell.cn/ArticleShow.asp?ArticleID=289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highwell.cn/ArticleShow.asp?ArticleID=29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highwell.cn/ArticleShow.asp?ArticleID=29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highwell.cn/ArticleShow.asp?ArticleID=282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highwell.cn/ArticleShow.asp?ArticleID=284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bioo.com/Photo/2006/2566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bioo.com/Photo/2006/2565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bbioo.com/Photo/2006/2563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bbioo.com/Photo/2006/2558.htm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bbioo.com/Photo/2006/2559.htm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www.bbioo.com/Photo/2006/2561.htm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www.bbioo.com/Photo/2006/2556.htm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www.bbioo.com/Photo/2006/2555.htm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www.bbioo.com/Photo/2006/2548.htm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www.bbioo.com/Photo/2006/2552.htm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www.bbioo.com/Photo/2006/2544.htm" TargetMode="External"/><Relationship Id="rId22" Type="http://schemas.openxmlformats.org/officeDocument/2006/relationships/image" Target="../media/image20.jpeg"/><Relationship Id="rId23" Type="http://schemas.openxmlformats.org/officeDocument/2006/relationships/hyperlink" Target="http://www.bbioo.com/Photo/2006/2538.htm" TargetMode="External"/><Relationship Id="rId24" Type="http://schemas.openxmlformats.org/officeDocument/2006/relationships/image" Target="../media/image21.jpeg"/><Relationship Id="rId25" Type="http://schemas.openxmlformats.org/officeDocument/2006/relationships/image" Target="../media/image22.jpeg"/><Relationship Id="rId26" Type="http://schemas.openxmlformats.org/officeDocument/2006/relationships/image" Target="../media/image23.jpeg"/><Relationship Id="rId27" Type="http://schemas.openxmlformats.org/officeDocument/2006/relationships/image" Target="../media/image24.jpe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07240" y="692280"/>
            <a:ext cx="30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15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玩出了名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6880" y="5877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宋家沟小学 杨艳飞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11280" y="622440"/>
            <a:ext cx="748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英国皇家学会是英国最具名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的科学学术机构，其成员在尖端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方面饶有贡献。该学会多方面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持不少英国的年轻顶尖科学家、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程师及科技人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280" y="404640"/>
            <a:ext cx="78850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列文虎克最早发现了微生物，发现了  一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全新的世界，他得到了那些赞美和肯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2492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答：英国皇家学会聘请他为会员、英国女王和俄国沙皇也千里迢迢来拜访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7164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完了课文，你认为列文虎克是怎样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2060640"/>
            <a:ext cx="705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9236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他是一位爱玩，也会玩的荷兰人。她爱动脑、爱动手，善于观察身边事物的人。通过玩放大镜发现了一个微生物的新世界。我们要向他学习，不但爱玩，还要动脑动手，会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0000" y="9079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五：学学生字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1916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16360" y="19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19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1916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16360" y="31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1672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3357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328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141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00360" y="4653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340000" y="292428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Comic Sans MS"/>
                <a:ea typeface="华文新魏"/>
              </a:rPr>
              <a:t>再   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260280"/>
            <a:ext cx="74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一、读课文题目《玩出了名堂》， 你能提出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06064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什么是“名堂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谁玩出了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出了什么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16000" y="1052640"/>
            <a:ext cx="63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二：初读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1989000"/>
            <a:ext cx="55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读课文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画出不认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想办法认识你画出来的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71640" y="40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三：看谁认的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名堂    浪费   镜片    看守   定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256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清闲   细微   阅读    随意   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36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简单  拜访   玩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465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放大镜   显微镜   微生物  挤来挤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5900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200741714293854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79640" y="0"/>
              <a:ext cx="24382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427640" y="0"/>
              <a:ext cx="2617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983280" y="0"/>
              <a:ext cx="216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0" y="2708280"/>
              <a:ext cx="2581200" cy="414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00360" y="2781360"/>
            <a:ext cx="2460600" cy="4076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64000" y="45212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放大镜是用来对细小物体的放大以观察、识别、鉴定等最普遍而方便、有效的仪器。有台式、便携式、带光源、带刻度等多种选择，可用于各行各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16000" y="692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微生物是自然界的重要成员，细菌、病毒和真菌都是微生物。有些微生物会使人生病，流行性感冒就是有病毒引起的；有些微生物却是人类的好助手，如，有的可以分解垃圾，有的可以消灭害虫，还有的是酿酒和做选奶的功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20061030123208661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500720" cy="3517920"/>
          </a:xfrm>
          <a:prstGeom prst="rect">
            <a:avLst/>
          </a:prstGeom>
          <a:ln w="0">
            <a:noFill/>
          </a:ln>
        </p:spPr>
      </p:pic>
      <p:pic>
        <p:nvPicPr>
          <p:cNvPr id="411" name="20061030123338429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412" name="20061030123446710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042560" y="45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黑体"/>
              </a:rPr>
              <a:t>显微镜下的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092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四：精读课文，理解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1268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列文虎克磨厚玻璃做什么？（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3--5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1989000"/>
            <a:ext cx="763272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他是怎样玩的？玩出了什么名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想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玩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发现：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16360" y="2708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把两片放大镜放在一起会怎么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16360" y="3645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一片放大镜固定，另一片可以随意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87640" y="4797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看到了一个平时看不到的“小人国”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2006103012311646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45000"/>
            <a:ext cx="12384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200610301230022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6520" y="907920"/>
            <a:ext cx="987480" cy="1506600"/>
          </a:xfrm>
          <a:prstGeom prst="rect">
            <a:avLst/>
          </a:prstGeom>
          <a:ln w="0">
            <a:noFill/>
          </a:ln>
        </p:spPr>
      </p:pic>
      <p:pic>
        <p:nvPicPr>
          <p:cNvPr id="422" name="2006103012252230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907920"/>
            <a:ext cx="2016000" cy="1540080"/>
          </a:xfrm>
          <a:prstGeom prst="rect">
            <a:avLst/>
          </a:prstGeom>
          <a:ln w="0">
            <a:noFill/>
          </a:ln>
        </p:spPr>
      </p:pic>
      <p:pic>
        <p:nvPicPr>
          <p:cNvPr id="423" name="200610301213383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1640" y="2852640"/>
            <a:ext cx="1513080" cy="1720800"/>
          </a:xfrm>
          <a:prstGeom prst="rect">
            <a:avLst/>
          </a:prstGeom>
          <a:ln w="0">
            <a:noFill/>
          </a:ln>
        </p:spPr>
      </p:pic>
      <p:pic>
        <p:nvPicPr>
          <p:cNvPr id="424" name="2006103012175841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79640" y="907920"/>
            <a:ext cx="1728720" cy="1578240"/>
          </a:xfrm>
          <a:prstGeom prst="rect">
            <a:avLst/>
          </a:prstGeom>
          <a:ln w="0">
            <a:noFill/>
          </a:ln>
        </p:spPr>
      </p:pic>
      <p:pic>
        <p:nvPicPr>
          <p:cNvPr id="425" name="20061030122225637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907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26" name="20061030120846606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2927520"/>
            <a:ext cx="2050920" cy="1719000"/>
          </a:xfrm>
          <a:prstGeom prst="rect">
            <a:avLst/>
          </a:prstGeom>
          <a:ln w="0">
            <a:noFill/>
          </a:ln>
        </p:spPr>
      </p:pic>
      <p:pic>
        <p:nvPicPr>
          <p:cNvPr id="427" name="20061030120446585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68360" y="2978280"/>
            <a:ext cx="1582920" cy="1595160"/>
          </a:xfrm>
          <a:prstGeom prst="rect">
            <a:avLst/>
          </a:prstGeom>
          <a:ln w="0">
            <a:noFill/>
          </a:ln>
        </p:spPr>
      </p:pic>
      <p:pic>
        <p:nvPicPr>
          <p:cNvPr id="428" name="20061030114705198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140360" y="2924280"/>
            <a:ext cx="1223640" cy="1644480"/>
          </a:xfrm>
          <a:prstGeom prst="rect">
            <a:avLst/>
          </a:prstGeom>
          <a:ln w="0">
            <a:noFill/>
          </a:ln>
        </p:spPr>
      </p:pic>
      <p:pic>
        <p:nvPicPr>
          <p:cNvPr id="429" name="20061030115947906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940360" y="2924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430" name="20061030090034147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732720" y="981000"/>
            <a:ext cx="1238040" cy="1505160"/>
          </a:xfrm>
          <a:prstGeom prst="rect">
            <a:avLst/>
          </a:prstGeom>
          <a:ln w="0">
            <a:noFill/>
          </a:ln>
        </p:spPr>
      </p:pic>
      <p:pic>
        <p:nvPicPr>
          <p:cNvPr id="431" name="20061030083650601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5438880"/>
            <a:ext cx="2050920" cy="1419120"/>
          </a:xfrm>
          <a:prstGeom prst="rect">
            <a:avLst/>
          </a:prstGeom>
          <a:ln w="0">
            <a:noFill/>
          </a:ln>
        </p:spPr>
      </p:pic>
      <p:pic>
        <p:nvPicPr>
          <p:cNvPr id="432" name="20061030084129623" descr=""/>
          <p:cNvPicPr/>
          <p:nvPr/>
        </p:nvPicPr>
        <p:blipFill>
          <a:blip r:embed="rId25"/>
          <a:stretch/>
        </p:blipFill>
        <p:spPr>
          <a:xfrm>
            <a:off x="2195640" y="5411880"/>
            <a:ext cx="2089080" cy="1446120"/>
          </a:xfrm>
          <a:prstGeom prst="rect">
            <a:avLst/>
          </a:prstGeom>
          <a:ln w="0">
            <a:noFill/>
          </a:ln>
        </p:spPr>
      </p:pic>
      <p:pic>
        <p:nvPicPr>
          <p:cNvPr id="433" name="20061030083757344" descr=""/>
          <p:cNvPicPr/>
          <p:nvPr/>
        </p:nvPicPr>
        <p:blipFill>
          <a:blip r:embed="rId26"/>
          <a:stretch/>
        </p:blipFill>
        <p:spPr>
          <a:xfrm>
            <a:off x="4500720" y="5313240"/>
            <a:ext cx="2232000" cy="1544760"/>
          </a:xfrm>
          <a:prstGeom prst="rect">
            <a:avLst/>
          </a:prstGeom>
          <a:ln w="0">
            <a:noFill/>
          </a:ln>
        </p:spPr>
      </p:pic>
      <p:pic>
        <p:nvPicPr>
          <p:cNvPr id="434" name="20061030080351499" descr=""/>
          <p:cNvPicPr/>
          <p:nvPr/>
        </p:nvPicPr>
        <p:blipFill>
          <a:blip r:embed="rId27"/>
          <a:stretch/>
        </p:blipFill>
        <p:spPr>
          <a:xfrm>
            <a:off x="6804000" y="5238720"/>
            <a:ext cx="2340000" cy="1619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600" y="-453168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-34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-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-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-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-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08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69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5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12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598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684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769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55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41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027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0" y="111279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各种各样的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20:20Z</dcterms:created>
  <dc:creator>番茄花园</dc:creator>
  <dc:description/>
  <dc:language>en-US</dc:language>
  <cp:lastModifiedBy>USER</cp:lastModifiedBy>
  <dcterms:modified xsi:type="dcterms:W3CDTF">2010-07-12T01:17:14Z</dcterms:modified>
  <cp:revision>5</cp:revision>
  <dc:subject/>
  <dc:title>幻灯片 1</dc:title>
</cp:coreProperties>
</file>