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7E79-CCC8-4B20-875A-D1683214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7E5-00CE-4B01-93EE-13C780DF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9F1B-F4B0-42B4-A2F6-0E5036C8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AAE-8400-480D-B91D-800E3744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F51E-F9E6-4EC1-826F-3A342E37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BD13-2BA7-4E21-8EEA-EC7FBFE9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9FAE-07CF-410F-84DC-9AF2888E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DA0D-04B3-490A-AAE7-16ACD5B0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ED84-D46F-4373-83E8-4549CAEE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C07-4EEF-4954-8CF8-06BAE8CF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F3DD-52C9-43F9-82CF-90180933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78B3-C88F-4700-BFB2-F1D57ACC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6971-EEBE-464D-8316-C6348812A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24400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3" descr="1000100228324.JPG"/>
          <p:cNvPicPr/>
          <p:nvPr/>
        </p:nvPicPr>
        <p:blipFill>
          <a:blip r:embed="rId3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47640" y="333360"/>
            <a:ext cx="5329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1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柳树醒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373720"/>
            <a:ext cx="777564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中山市小榄镇绩东二小学   何小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3393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3" descr="10001002283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9640" y="333360"/>
            <a:ext cx="7345440" cy="266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看谁写得好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3" descr="10001002283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333360"/>
            <a:ext cx="7345440" cy="266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小朋友，再见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3" descr="1000100228324.JPG"/>
          <p:cNvPicPr/>
          <p:nvPr/>
        </p:nvPicPr>
        <p:blipFill>
          <a:blip r:embed="rId2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2637000"/>
            <a:ext cx="5329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ff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柳树醒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春雷跟柳树说话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说着说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小柳树呀，醒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春雨给柳树洗澡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洗着洗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小柳枝哟，软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88000" y="2852640"/>
            <a:ext cx="120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春风给柳树梳头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梳着梳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柳梢啊，绿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春燕跟柳树捉迷藏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藏着藏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柳絮呀，飞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柳树跟孩子们玩耍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玩着玩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朋友们，长高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3" descr="10001002283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0" y="1341360"/>
            <a:ext cx="8820000" cy="68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xǐng     léi     zǎo     zhī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醒     雷     澡     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ruǎn   shū   shāo  shu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  梳   梢   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" descr="10001002283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24000" y="0"/>
            <a:ext cx="8820000" cy="68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醒      雷    澡      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  梳  梢   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" descr="10001002283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2124000" y="1268280"/>
            <a:ext cx="655164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Arial"/>
              </a:rPr>
              <a:t>醒</a:t>
            </a: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—</a:t>
            </a:r>
            <a:r>
              <a:rPr b="1" lang="zh-CN" sz="6000" spc="-1" strike="noStrike">
                <a:solidFill>
                  <a:srgbClr val="ff9900"/>
                </a:solidFill>
                <a:latin typeface="Arial"/>
              </a:rPr>
              <a:t>星      雷</a:t>
            </a: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—</a:t>
            </a:r>
            <a:r>
              <a:rPr b="1" lang="zh-CN" sz="6000" spc="-1" strike="noStrike">
                <a:solidFill>
                  <a:srgbClr val="ff9900"/>
                </a:solidFill>
                <a:latin typeface="Arial"/>
              </a:rPr>
              <a:t>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Arial"/>
              </a:rPr>
              <a:t>枝</a:t>
            </a: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—</a:t>
            </a:r>
            <a:r>
              <a:rPr b="1" lang="zh-CN" sz="6000" spc="-1" strike="noStrike">
                <a:solidFill>
                  <a:srgbClr val="ff9900"/>
                </a:solidFill>
                <a:latin typeface="Arial"/>
              </a:rPr>
              <a:t>支      软</a:t>
            </a: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—</a:t>
            </a:r>
            <a:r>
              <a:rPr b="1" lang="zh-CN" sz="6000" spc="-1" strike="noStrike">
                <a:solidFill>
                  <a:srgbClr val="ff9900"/>
                </a:solidFill>
                <a:latin typeface="Arial"/>
              </a:rPr>
              <a:t>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Arial"/>
              </a:rPr>
              <a:t>梢</a:t>
            </a: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—</a:t>
            </a:r>
            <a:r>
              <a:rPr b="1" lang="zh-CN" sz="6000" spc="-1" strike="noStrike">
                <a:solidFill>
                  <a:srgbClr val="ff9900"/>
                </a:solidFill>
                <a:latin typeface="Arial"/>
              </a:rPr>
              <a:t>肖      耍</a:t>
            </a: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—</a:t>
            </a:r>
            <a:r>
              <a:rPr b="1" lang="zh-CN" sz="6000" spc="-1" strike="noStrike">
                <a:solidFill>
                  <a:srgbClr val="ff9900"/>
                </a:solidFill>
                <a:latin typeface="Arial"/>
              </a:rPr>
              <a:t>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澡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操      梳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0"/>
            <a:ext cx="1800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2124000" cy="148428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我会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3" descr="10001002283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324000" y="1736640"/>
            <a:ext cx="835164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睡醒   苏醒   春雷   打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雷雨   洗澡   树枝   柳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软和   梳头   梳洗   树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玩耍   柔软   软硬   木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2124000" cy="148428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我会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3" descr="1000100228324.JPG"/>
          <p:cNvPicPr/>
          <p:nvPr/>
        </p:nvPicPr>
        <p:blipFill>
          <a:blip r:embed="rId2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3933720"/>
            <a:ext cx="5329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ff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柳树醒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春雷跟柳树说话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说着说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小柳树呀，醒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春雨给柳树洗澡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洗着洗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小柳枝哟，软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88000" y="2852640"/>
            <a:ext cx="120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春风给柳树梳头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梳着梳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柳梢啊，绿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春燕跟柳树捉迷藏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藏着藏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柳絮呀，飞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柳树跟孩子们玩耍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玩着玩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朋友们，长高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2124000" cy="148428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我会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3" descr="10001002283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5640" cy="1844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9640" y="2205000"/>
            <a:ext cx="7344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说      话     朋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友      春     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6:05:08Z</dcterms:created>
  <dc:creator>Teacher</dc:creator>
  <dc:description/>
  <dc:language>en-US</dc:language>
  <cp:lastModifiedBy>雨林木风</cp:lastModifiedBy>
  <dcterms:modified xsi:type="dcterms:W3CDTF">2010-02-10T14:34:38Z</dcterms:modified>
  <cp:revision>7</cp:revision>
  <dc:subject/>
  <dc:title>幻灯片 1</dc:title>
</cp:coreProperties>
</file>