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9D1-80B2-4866-8DE5-C55451D5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1BA-8752-46EE-8E4C-53249C64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975-78B9-4D49-8567-D3191215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E12F-2F4B-4597-A44C-9D5A4290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C009-E52D-4EA6-ACD3-D412C2BA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A711-2206-4DC8-973E-5C81BE16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3CAF-411C-4BB7-AF01-BE5428E0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4BC5-E1A7-423F-8758-6917C747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2812-BB7C-44C6-8782-4EBDDAC0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1D30-3635-4EEA-BCC5-97C90C90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8489-DD62-4009-AE0C-3A1C7923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085-A323-4B05-9A43-0404FFDE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07B1-F463-4E3E-984A-506941A5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49E2-EEED-4404-935C-628257C5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3062-B5FC-4AFA-9B01-7DD79EF5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6E69-EA41-4AF8-92D3-0426B73C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30AE-F348-401F-9A42-B0437C05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A70C9-BF2B-46BD-A36A-446A97ED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31F2A-585A-40DF-8D71-FA034FF7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4A9DE-F86A-4F4A-8A10-8E314F15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FE3DE-8C90-4A34-9BDA-859AD262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F2DB6-B855-442E-BC94-07DEE67F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435-9EDF-4EDB-96EE-63C8FD24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71B6E-7CCA-4953-B6E9-6A4716E7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22295-E3DD-4240-8AE2-B56AD80E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903C0-F585-4A57-B860-FE32A2FD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4AC6B-80F4-4BAB-A81B-208F81FA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977B6-532D-40F7-B5B2-65D1A578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125F6-45F1-451D-A8A9-FC88EBEA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2CB3C-2B05-4018-B84A-1734C45D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7867-37AD-4BB1-8884-C2028F88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F6B0-D4CA-4ACE-B43B-A6F51689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2107-129B-40AA-B293-F9DE0E83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667-1092-4D73-B387-886EDE73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1F7-DCAF-473D-86EC-E54C9263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6DB-BB2E-45B0-9104-5CE0EDA5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4496-2DFD-408A-BB9D-8346E43FB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144C-E5C9-4502-B66A-AAAE67A6D847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9986-10D5-4676-93B6-069AD7DCBABA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403280" y="234936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两只鸟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971640" y="2349360"/>
            <a:ext cx="78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7 </a:t>
            </a:r>
            <a:r>
              <a:rPr b="1" lang="zh-CN" sz="7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壁虎借尾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2924280" y="189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中宋"/>
              </a:rPr>
              <a:t>义务教育课程标准实验教科书人教版小学语文一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6201720" y="623736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江西省九江市长虹小学　刘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W020090206487447328351"/>
          <p:cNvPicPr/>
          <p:nvPr/>
        </p:nvPicPr>
        <p:blipFill>
          <a:blip r:embed="rId1"/>
          <a:srcRect l="8835" t="4200" r="42028" b="59733"/>
          <a:stretch/>
        </p:blipFill>
        <p:spPr>
          <a:xfrm>
            <a:off x="971640" y="0"/>
            <a:ext cx="76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W020090206487447328351"/>
          <p:cNvPicPr/>
          <p:nvPr/>
        </p:nvPicPr>
        <p:blipFill>
          <a:blip r:embed="rId1"/>
          <a:srcRect l="46615" t="43621" r="0" b="14428"/>
          <a:stretch/>
        </p:blipFill>
        <p:spPr>
          <a:xfrm>
            <a:off x="900000" y="0"/>
            <a:ext cx="734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1403280" y="298080"/>
            <a:ext cx="6281640" cy="6272640"/>
            <a:chOff x="1403280" y="298080"/>
            <a:chExt cx="6281640" cy="6272640"/>
          </a:xfrm>
        </p:grpSpPr>
        <p:sp>
          <p:nvSpPr>
            <p:cNvPr id="212" name="Rectangle 3"/>
            <p:cNvSpPr/>
            <p:nvPr/>
          </p:nvSpPr>
          <p:spPr>
            <a:xfrm>
              <a:off x="1419120" y="304920"/>
              <a:ext cx="6265800" cy="62658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4"/>
            <p:cNvGrpSpPr/>
            <p:nvPr/>
          </p:nvGrpSpPr>
          <p:grpSpPr>
            <a:xfrm>
              <a:off x="1403280" y="298080"/>
              <a:ext cx="6264360" cy="6264360"/>
              <a:chOff x="1403280" y="298080"/>
              <a:chExt cx="6264360" cy="6264360"/>
            </a:xfrm>
          </p:grpSpPr>
          <p:sp>
            <p:nvSpPr>
              <p:cNvPr id="214" name="Line 5"/>
              <p:cNvSpPr/>
              <p:nvPr/>
            </p:nvSpPr>
            <p:spPr>
              <a:xfrm>
                <a:off x="1403280" y="3429000"/>
                <a:ext cx="6264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6"/>
              <p:cNvSpPr/>
              <p:nvPr/>
            </p:nvSpPr>
            <p:spPr>
              <a:xfrm flipV="1">
                <a:off x="4557600" y="298080"/>
                <a:ext cx="0" cy="6264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" name="Text Box 7"/>
          <p:cNvSpPr/>
          <p:nvPr/>
        </p:nvSpPr>
        <p:spPr>
          <a:xfrm>
            <a:off x="3086280" y="476280"/>
            <a:ext cx="28476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ff0066"/>
                </a:solidFill>
                <a:latin typeface="Arial"/>
                <a:ea typeface="楷体_GB2312"/>
              </a:rPr>
              <a:t>河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11"/>
          <p:cNvGrpSpPr/>
          <p:nvPr/>
        </p:nvGrpSpPr>
        <p:grpSpPr>
          <a:xfrm>
            <a:off x="1403280" y="298080"/>
            <a:ext cx="6281640" cy="6272640"/>
            <a:chOff x="1403280" y="298080"/>
            <a:chExt cx="6281640" cy="6272640"/>
          </a:xfrm>
        </p:grpSpPr>
        <p:sp>
          <p:nvSpPr>
            <p:cNvPr id="218" name="Rectangle 7"/>
            <p:cNvSpPr/>
            <p:nvPr/>
          </p:nvSpPr>
          <p:spPr>
            <a:xfrm>
              <a:off x="1419120" y="304920"/>
              <a:ext cx="6265800" cy="62658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10"/>
            <p:cNvGrpSpPr/>
            <p:nvPr/>
          </p:nvGrpSpPr>
          <p:grpSpPr>
            <a:xfrm>
              <a:off x="1403280" y="298080"/>
              <a:ext cx="6264360" cy="6264360"/>
              <a:chOff x="1403280" y="298080"/>
              <a:chExt cx="6264360" cy="6264360"/>
            </a:xfrm>
          </p:grpSpPr>
          <p:sp>
            <p:nvSpPr>
              <p:cNvPr id="220" name="Line 8"/>
              <p:cNvSpPr/>
              <p:nvPr/>
            </p:nvSpPr>
            <p:spPr>
              <a:xfrm>
                <a:off x="1403280" y="3429000"/>
                <a:ext cx="6264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9"/>
              <p:cNvSpPr/>
              <p:nvPr/>
            </p:nvSpPr>
            <p:spPr>
              <a:xfrm flipV="1">
                <a:off x="4557600" y="298080"/>
                <a:ext cx="0" cy="6264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Text Box 12"/>
          <p:cNvSpPr/>
          <p:nvPr/>
        </p:nvSpPr>
        <p:spPr>
          <a:xfrm>
            <a:off x="3375000" y="-27000"/>
            <a:ext cx="28476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ff0066"/>
                </a:solidFill>
                <a:latin typeface="Arial"/>
                <a:ea typeface="楷体_GB2312"/>
              </a:rPr>
              <a:t>姐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1403280" y="298080"/>
            <a:ext cx="6281640" cy="6272640"/>
            <a:chOff x="1403280" y="298080"/>
            <a:chExt cx="6281640" cy="6272640"/>
          </a:xfrm>
        </p:grpSpPr>
        <p:sp>
          <p:nvSpPr>
            <p:cNvPr id="224" name="Rectangle 3"/>
            <p:cNvSpPr/>
            <p:nvPr/>
          </p:nvSpPr>
          <p:spPr>
            <a:xfrm>
              <a:off x="1419120" y="304920"/>
              <a:ext cx="6265800" cy="62658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4"/>
            <p:cNvGrpSpPr/>
            <p:nvPr/>
          </p:nvGrpSpPr>
          <p:grpSpPr>
            <a:xfrm>
              <a:off x="1403280" y="298080"/>
              <a:ext cx="6264360" cy="6264360"/>
              <a:chOff x="1403280" y="298080"/>
              <a:chExt cx="6264360" cy="6264360"/>
            </a:xfrm>
          </p:grpSpPr>
          <p:sp>
            <p:nvSpPr>
              <p:cNvPr id="226" name="Line 5"/>
              <p:cNvSpPr/>
              <p:nvPr/>
            </p:nvSpPr>
            <p:spPr>
              <a:xfrm>
                <a:off x="1403280" y="3429000"/>
                <a:ext cx="6264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6"/>
              <p:cNvSpPr/>
              <p:nvPr/>
            </p:nvSpPr>
            <p:spPr>
              <a:xfrm flipV="1">
                <a:off x="4557600" y="298080"/>
                <a:ext cx="0" cy="6264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Text Box 7"/>
          <p:cNvSpPr/>
          <p:nvPr/>
        </p:nvSpPr>
        <p:spPr>
          <a:xfrm>
            <a:off x="3354480" y="476280"/>
            <a:ext cx="28476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ff0066"/>
                </a:solidFill>
                <a:latin typeface="Arial"/>
                <a:ea typeface="楷体_GB2312"/>
              </a:rPr>
              <a:t>借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1403280" y="298080"/>
            <a:ext cx="6281640" cy="6272640"/>
            <a:chOff x="1403280" y="298080"/>
            <a:chExt cx="6281640" cy="6272640"/>
          </a:xfrm>
        </p:grpSpPr>
        <p:sp>
          <p:nvSpPr>
            <p:cNvPr id="230" name="Rectangle 3"/>
            <p:cNvSpPr/>
            <p:nvPr/>
          </p:nvSpPr>
          <p:spPr>
            <a:xfrm>
              <a:off x="1419120" y="304920"/>
              <a:ext cx="6265800" cy="62658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4"/>
            <p:cNvGrpSpPr/>
            <p:nvPr/>
          </p:nvGrpSpPr>
          <p:grpSpPr>
            <a:xfrm>
              <a:off x="1403280" y="298080"/>
              <a:ext cx="6264360" cy="6264360"/>
              <a:chOff x="1403280" y="298080"/>
              <a:chExt cx="6264360" cy="6264360"/>
            </a:xfrm>
          </p:grpSpPr>
          <p:sp>
            <p:nvSpPr>
              <p:cNvPr id="232" name="Line 5"/>
              <p:cNvSpPr/>
              <p:nvPr/>
            </p:nvSpPr>
            <p:spPr>
              <a:xfrm>
                <a:off x="1403280" y="3429000"/>
                <a:ext cx="6264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6"/>
              <p:cNvSpPr/>
              <p:nvPr/>
            </p:nvSpPr>
            <p:spPr>
              <a:xfrm flipV="1">
                <a:off x="4557600" y="298080"/>
                <a:ext cx="0" cy="6264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Text Box 7"/>
          <p:cNvSpPr/>
          <p:nvPr/>
        </p:nvSpPr>
        <p:spPr>
          <a:xfrm>
            <a:off x="2941560" y="595440"/>
            <a:ext cx="28476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ff0066"/>
                </a:solidFill>
                <a:latin typeface="Arial"/>
                <a:ea typeface="楷体_GB2312"/>
              </a:rPr>
              <a:t>呢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1403280" y="298080"/>
            <a:ext cx="6281640" cy="6272640"/>
            <a:chOff x="1403280" y="298080"/>
            <a:chExt cx="6281640" cy="6272640"/>
          </a:xfrm>
        </p:grpSpPr>
        <p:sp>
          <p:nvSpPr>
            <p:cNvPr id="236" name="Rectangle 3"/>
            <p:cNvSpPr/>
            <p:nvPr/>
          </p:nvSpPr>
          <p:spPr>
            <a:xfrm>
              <a:off x="1419120" y="304920"/>
              <a:ext cx="6265800" cy="62658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1403280" y="298080"/>
              <a:ext cx="6264360" cy="6264360"/>
              <a:chOff x="1403280" y="298080"/>
              <a:chExt cx="6264360" cy="6264360"/>
            </a:xfrm>
          </p:grpSpPr>
          <p:sp>
            <p:nvSpPr>
              <p:cNvPr id="238" name="Line 5"/>
              <p:cNvSpPr/>
              <p:nvPr/>
            </p:nvSpPr>
            <p:spPr>
              <a:xfrm>
                <a:off x="1403280" y="3429000"/>
                <a:ext cx="6264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6"/>
              <p:cNvSpPr/>
              <p:nvPr/>
            </p:nvSpPr>
            <p:spPr>
              <a:xfrm flipV="1">
                <a:off x="4557600" y="298080"/>
                <a:ext cx="0" cy="6264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Text Box 7"/>
          <p:cNvSpPr/>
          <p:nvPr/>
        </p:nvSpPr>
        <p:spPr>
          <a:xfrm>
            <a:off x="3425760" y="476280"/>
            <a:ext cx="28476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ff0066"/>
                </a:solidFill>
                <a:latin typeface="Arial"/>
                <a:ea typeface="楷体_GB2312"/>
              </a:rPr>
              <a:t>呀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1403280" y="298080"/>
            <a:ext cx="6281640" cy="6272640"/>
            <a:chOff x="1403280" y="298080"/>
            <a:chExt cx="6281640" cy="6272640"/>
          </a:xfrm>
        </p:grpSpPr>
        <p:sp>
          <p:nvSpPr>
            <p:cNvPr id="242" name="Rectangle 3"/>
            <p:cNvSpPr/>
            <p:nvPr/>
          </p:nvSpPr>
          <p:spPr>
            <a:xfrm>
              <a:off x="1419120" y="304920"/>
              <a:ext cx="6265800" cy="62658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4"/>
            <p:cNvGrpSpPr/>
            <p:nvPr/>
          </p:nvGrpSpPr>
          <p:grpSpPr>
            <a:xfrm>
              <a:off x="1403280" y="298080"/>
              <a:ext cx="6264360" cy="6264360"/>
              <a:chOff x="1403280" y="298080"/>
              <a:chExt cx="6264360" cy="6264360"/>
            </a:xfrm>
          </p:grpSpPr>
          <p:sp>
            <p:nvSpPr>
              <p:cNvPr id="244" name="Line 5"/>
              <p:cNvSpPr/>
              <p:nvPr/>
            </p:nvSpPr>
            <p:spPr>
              <a:xfrm>
                <a:off x="1403280" y="3429000"/>
                <a:ext cx="6264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6"/>
              <p:cNvSpPr/>
              <p:nvPr/>
            </p:nvSpPr>
            <p:spPr>
              <a:xfrm flipV="1">
                <a:off x="4557600" y="298080"/>
                <a:ext cx="0" cy="6264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Text Box 7"/>
          <p:cNvSpPr/>
          <p:nvPr/>
        </p:nvSpPr>
        <p:spPr>
          <a:xfrm>
            <a:off x="3641760" y="235080"/>
            <a:ext cx="28476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ff0066"/>
                </a:solidFill>
                <a:latin typeface="Arial"/>
                <a:ea typeface="楷体_GB2312"/>
              </a:rPr>
              <a:t>哪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468360" y="506520"/>
            <a:ext cx="83167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68360" y="258840"/>
            <a:ext cx="7775640" cy="73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宋体"/>
              </a:rPr>
              <a:t>bì      hǔ      jiè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壁     虎      借</a:t>
            </a: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宋体"/>
              </a:rPr>
              <a:t>wén    shé      táo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蚊     蛇      逃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宋体"/>
              </a:rPr>
              <a:t>nán    jiě      xī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难     姐      新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258920" y="981000"/>
            <a:ext cx="7273800" cy="65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壁    虎    借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蚊    蛇    逃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难    姐    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8"/>
          <p:cNvSpPr/>
          <p:nvPr/>
        </p:nvSpPr>
        <p:spPr>
          <a:xfrm>
            <a:off x="3995640" y="907920"/>
            <a:ext cx="38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5411880" y="2319480"/>
            <a:ext cx="2238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长长的小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826920" y="4724280"/>
            <a:ext cx="44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苹果甜甜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216000" y="260280"/>
            <a:ext cx="889308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壁虎  尾巴  墙角  咬住  挣断  逃走  难看  看见  摇着  姐姐  拨水  大树  甩着  吃草  伯伯房檐  燕子  摆着  阿姨  掌握方向  难过  转身  告诉  起来捉蚊子   赶蝇子     游来游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"/>
          <p:cNvSpPr/>
          <p:nvPr/>
        </p:nvSpPr>
        <p:spPr>
          <a:xfrm>
            <a:off x="1402920" y="907920"/>
            <a:ext cx="7861680" cy="39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游来游去  飞来飞去  跑来跑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跳来跳去  走来走去  转来转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飘来飘去  荡来荡去  踢来踢去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W020090206487448104829"/>
          <p:cNvPicPr/>
          <p:nvPr/>
        </p:nvPicPr>
        <p:blipFill>
          <a:blip r:embed="rId1"/>
          <a:srcRect l="52530" t="17279" r="4639" b="533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W020090206487448104829"/>
          <p:cNvPicPr/>
          <p:nvPr/>
        </p:nvPicPr>
        <p:blipFill>
          <a:blip r:embed="rId1"/>
          <a:srcRect l="7167" t="54202" r="46223" b="100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W020090206487447634357"/>
          <p:cNvPicPr/>
          <p:nvPr/>
        </p:nvPicPr>
        <p:blipFill>
          <a:blip r:embed="rId1"/>
          <a:srcRect l="4639" t="4697" r="48750" b="60066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W020090206487447634357"/>
          <p:cNvPicPr/>
          <p:nvPr/>
        </p:nvPicPr>
        <p:blipFill>
          <a:blip r:embed="rId1"/>
          <a:srcRect l="42448" t="45801" r="0" b="72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2:20:04Z</dcterms:created>
  <dc:creator>微软用户</dc:creator>
  <dc:description/>
  <dc:language>en-US</dc:language>
  <cp:lastModifiedBy>user</cp:lastModifiedBy>
  <dcterms:modified xsi:type="dcterms:W3CDTF">2010-04-15T02:13:23Z</dcterms:modified>
  <cp:revision>32</cp:revision>
  <dc:subject/>
  <dc:title>幻灯片 1</dc:title>
</cp:coreProperties>
</file>