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73F-08E6-4B8C-8412-8C75A8A8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FD4-4B11-4729-BD01-DF9F755A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202-576D-4A18-A403-7D646DEB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A79-7F15-4A09-89D3-AFCD856F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CF8-428C-4FAD-9C39-15894F67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E37-AB6D-42C0-BCFD-5B75FC5A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C2B-8A79-4EA5-A035-BB99C7BA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70E-6D4B-4484-BCF2-8EFE39A3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06E-747B-4E85-BE01-CC9846BD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881-8C89-4EED-BB88-27D5FBF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B2F-872F-4F9E-8DB4-198F1213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B16-0B0D-41AC-9288-71BD1BC8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9073-759D-4F96-BFF0-545AAF7A4D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" Target="slide4.xml"/><Relationship Id="rId11" Type="http://schemas.openxmlformats.org/officeDocument/2006/relationships/image" Target="../media/image6.png"/><Relationship Id="rId12" Type="http://schemas.openxmlformats.org/officeDocument/2006/relationships/slide" Target="slide3.xml"/><Relationship Id="rId13" Type="http://schemas.openxmlformats.org/officeDocument/2006/relationships/image" Target="../media/image7.png"/><Relationship Id="rId14" Type="http://schemas.openxmlformats.org/officeDocument/2006/relationships/slide" Target="slide1.xml"/><Relationship Id="rId15" Type="http://schemas.openxmlformats.org/officeDocument/2006/relationships/image" Target="../media/image8.png"/><Relationship Id="rId16" Type="http://schemas.openxmlformats.org/officeDocument/2006/relationships/slide" Target="slide2.xml"/><Relationship Id="rId17" Type="http://schemas.openxmlformats.org/officeDocument/2006/relationships/slide" Target="slide3.xml"/><Relationship Id="rId18" Type="http://schemas.openxmlformats.org/officeDocument/2006/relationships/slide" Target="slide6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-977760"/>
            <a:ext cx="9524880" cy="908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33920" y="0"/>
            <a:ext cx="5410080" cy="29718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95680" y="120168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丑小鸭</a:t>
            </a:r>
            <a:endParaRPr b="1" i="1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38680" y="44956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51055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5257800"/>
            <a:ext cx="647640" cy="60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781680" y="480060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086600" y="52578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772400" y="464832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8229600" y="533412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189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义务教育课程标准实验教科书人教版小学语文二年级下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60278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108000" y="6165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2195640" y="6165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识字组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4213080" y="6165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文景并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27640" y="6165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交流欣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72360" y="6162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退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595008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山东省济南市平阴县实验小学　吴子庆</a:t>
            </a:r>
            <a:r>
              <a:rPr b="0" lang="zh-CN" sz="1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066680"/>
            <a:ext cx="9448920" cy="7391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120" y="445140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难道是自己的影子？啊，原来我不是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丑小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只漂亮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天鹅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6308640"/>
            <a:ext cx="792000" cy="5050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609480"/>
            <a:ext cx="807732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只“丑小鸭”变成了“白天鹅”后，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了“鸭妈妈”“哥哥”“姐姐”“小鸟”“猎狗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们会对现在的“白天鹅”说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小组里说一说，看谁说的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鸭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丑小鸭的哥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丑小鸭的姐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小鸟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猎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44956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533520" y="-914400"/>
            <a:ext cx="9677520" cy="7772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19280" y="40464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假如你就是丑小鸭，经历了那么多。这时候你想些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么呢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快快说出来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52480" y="1484280"/>
            <a:ext cx="5988240" cy="225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、把今天学习的丑小鸭这个故事，回家讲给爸爸妈妈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、读一读《安徒生童话精选》中你喜欢的故事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03640" y="98100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540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0" lang="en-US" sz="2400" spc="1" strike="noStrike">
              <a:ln w="540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43080" y="685800"/>
            <a:ext cx="73080" cy="7308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7466760" y="913680"/>
            <a:ext cx="142920" cy="2890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6000" y="765000"/>
            <a:ext cx="72720" cy="7164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0" y="5661000"/>
            <a:ext cx="73080" cy="73080"/>
          </a:xfrm>
          <a:custGeom>
            <a:avLst/>
            <a:gdLst>
              <a:gd name="textAreaLeft" fmla="*/ 30240 w 73080"/>
              <a:gd name="textAreaRight" fmla="*/ 42840 w 730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56720" y="5950080"/>
            <a:ext cx="71280" cy="71280"/>
          </a:xfrm>
          <a:prstGeom prst="flowChartSor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5373720"/>
            <a:ext cx="71280" cy="71280"/>
          </a:xfrm>
          <a:prstGeom prst="cloudCallout">
            <a:avLst>
              <a:gd name="adj1" fmla="val -43333"/>
              <a:gd name="adj2" fmla="val 49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6093000"/>
            <a:ext cx="71640" cy="7272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692360" y="6020640"/>
            <a:ext cx="287280" cy="36036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91440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1268280"/>
            <a:ext cx="71280" cy="73080"/>
          </a:xfrm>
          <a:custGeom>
            <a:avLst/>
            <a:gdLst>
              <a:gd name="textAreaLeft" fmla="*/ 0 w 71280"/>
              <a:gd name="textAreaRight" fmla="*/ 71640 w 71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5950080"/>
            <a:ext cx="71640" cy="7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6165720"/>
            <a:ext cx="73080" cy="71640"/>
          </a:xfrm>
          <a:prstGeom prst="flowChartSor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73360"/>
            <a:ext cx="71640" cy="712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5734080"/>
            <a:ext cx="73080" cy="730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2000" y="1197000"/>
            <a:ext cx="505080" cy="71280"/>
          </a:xfrm>
          <a:prstGeom prst="wedgeRoundRectCallout">
            <a:avLst>
              <a:gd name="adj1" fmla="val 8175"/>
              <a:gd name="adj2" fmla="val -3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1484280"/>
            <a:ext cx="936720" cy="914400"/>
          </a:xfrm>
          <a:custGeom>
            <a:avLst/>
            <a:gdLst>
              <a:gd name="textAreaLeft" fmla="*/ 385920 w 936720"/>
              <a:gd name="textAreaRight" fmla="*/ 550800 w 93672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948360" y="476280"/>
            <a:ext cx="144720" cy="2887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6000" y="5805360"/>
            <a:ext cx="72720" cy="1447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96360" y="5589720"/>
            <a:ext cx="647640" cy="215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72360" y="5084640"/>
            <a:ext cx="71640" cy="73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5589720"/>
            <a:ext cx="216000" cy="14436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5877000"/>
            <a:ext cx="73080" cy="73080"/>
          </a:xfrm>
          <a:custGeom>
            <a:avLst/>
            <a:gdLst>
              <a:gd name="textAreaLeft" fmla="*/ 16560 w 73080"/>
              <a:gd name="textAreaRight" fmla="*/ 56520 w 73080"/>
              <a:gd name="textAreaTop" fmla="*/ 16560 h 73080"/>
              <a:gd name="textAreaBottom" fmla="*/ 5652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5562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172200"/>
            <a:ext cx="76320" cy="7632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6172200"/>
            <a:ext cx="75960" cy="7632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6858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6172200"/>
            <a:ext cx="380880" cy="7632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09560" y="609480"/>
            <a:ext cx="381240" cy="685800"/>
          </a:xfrm>
          <a:prstGeom prst="sun">
            <a:avLst>
              <a:gd name="adj" fmla="val 36666"/>
            </a:avLst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780960" y="5791320"/>
            <a:ext cx="381240" cy="30456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6172200"/>
            <a:ext cx="228600" cy="15228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685800"/>
            <a:ext cx="75960" cy="76320"/>
          </a:xfrm>
          <a:custGeom>
            <a:avLst/>
            <a:gdLst>
              <a:gd name="textAreaLeft" fmla="*/ 17640 w 75960"/>
              <a:gd name="textAreaRight" fmla="*/ 58320 w 7596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1981080"/>
            <a:ext cx="7596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56720" y="6165720"/>
            <a:ext cx="792000" cy="5050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55640" y="4915080"/>
            <a:ext cx="727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谢谢，再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平阴县实验小学 吴子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85714E-006 L -0.00382 -0.41031 E">
                                      <p:cBhvr>
                                        <p:cTn id="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09320" y="685800"/>
            <a:ext cx="5791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安徒生是一百多年前的丹麦人，他是世界上著名的童话作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《卖火柴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hái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小女孩》《皇帝的新装》和 海的女儿》都是他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4008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17080" y="623736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990720"/>
            <a:ext cx="7772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ōnɡ   wò    shènɡ    liè     qī    f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烘        卧       剩       裂     欺    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ǎo     yàn      ɡū     bā       jī    w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讨       厌       孤      笆      讥     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iānɡ    kuī     chì     bǎnɡ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僵        亏        翅       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9120" y="304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560" y="255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6156360" y="5877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2556000" y="5877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4356000" y="5877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18288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剩    卧    欺    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笆    讥    讨    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僵    亏    翅    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裂    苇    烘    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10120" y="7621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帮鸭妈妈点点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2560" y="76212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42900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07920"/>
            <a:ext cx="431640" cy="50328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0464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33360"/>
            <a:ext cx="431640" cy="730440"/>
          </a:xfrm>
          <a:custGeom>
            <a:avLst/>
            <a:gdLst>
              <a:gd name="textAreaLeft" fmla="*/ 177840 w 431640"/>
              <a:gd name="textAreaRight" fmla="*/ 253800 w 431640"/>
              <a:gd name="textAreaTop" fmla="*/ 300960 h 730440"/>
              <a:gd name="textAreaBottom" fmla="*/ 4294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33360"/>
            <a:ext cx="432000" cy="503280"/>
          </a:xfrm>
          <a:custGeom>
            <a:avLst/>
            <a:gdLst>
              <a:gd name="textAreaLeft" fmla="*/ 0 w 432000"/>
              <a:gd name="textAreaRight" fmla="*/ 432360 w 432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5280" y="765000"/>
            <a:ext cx="216000" cy="7308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33360"/>
            <a:ext cx="432000" cy="503280"/>
          </a:xfrm>
          <a:custGeom>
            <a:avLst/>
            <a:gdLst>
              <a:gd name="textAreaLeft" fmla="*/ 177840 w 432000"/>
              <a:gd name="textAreaRight" fmla="*/ 254160 w 432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5486400"/>
            <a:ext cx="73080" cy="7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914400"/>
            <a:ext cx="71280" cy="216000"/>
          </a:xfrm>
          <a:custGeom>
            <a:avLst/>
            <a:gdLst>
              <a:gd name="textAreaLeft" fmla="*/ 16560 w 71280"/>
              <a:gd name="textAreaRight" fmla="*/ 54720 w 71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6156360" y="5877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56000" y="5877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5877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60600" y="16686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08320" y="16686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409840"/>
            <a:ext cx="510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灰     讨      厌       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蛋     壳      鸭       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欺     负      翅       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5120" y="11811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朋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8920" y="114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38280" y="30481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1371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762120"/>
            <a:ext cx="6324840" cy="47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黑体"/>
                <a:ea typeface="黑体"/>
              </a:rPr>
              <a:t>找朋友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灰   讨   厌   冰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蛋   壳   欺   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鸭   鹅   翅   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244000" y="4437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44000" y="1628640"/>
            <a:ext cx="792000" cy="5050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44000" y="299736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33520"/>
            <a:ext cx="3809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钻出一只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又大又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鸭子。他的毛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灰灰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嘴巴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大大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身子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瘦瘦的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350532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丑小鸭来到世界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除了鸭妈妈，谁都</a:t>
            </a:r>
            <a:r>
              <a:rPr b="1" lang="zh-CN" sz="3600" spc="-1" strike="noStrike">
                <a:solidFill>
                  <a:srgbClr val="b2b2b2"/>
                </a:solidFill>
                <a:latin typeface="黑体"/>
                <a:ea typeface="黑体"/>
              </a:rPr>
              <a:t>欺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。哥哥、姐姐</a:t>
            </a:r>
            <a:r>
              <a:rPr b="1" lang="zh-CN" sz="3600" spc="-1" strike="noStrike">
                <a:solidFill>
                  <a:srgbClr val="b2b2b2"/>
                </a:solidFill>
                <a:latin typeface="黑体"/>
                <a:ea typeface="黑体"/>
              </a:rPr>
              <a:t>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，公鸡</a:t>
            </a:r>
            <a:r>
              <a:rPr b="1" lang="zh-CN" sz="3600" spc="-1" strike="noStrike">
                <a:solidFill>
                  <a:srgbClr val="b2b2b2"/>
                </a:solidFill>
                <a:latin typeface="黑体"/>
                <a:ea typeface="黑体"/>
              </a:rPr>
              <a:t>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，连养鸭的小姑娘也</a:t>
            </a:r>
            <a:r>
              <a:rPr b="1" lang="zh-CN" sz="3600" spc="-1" strike="noStrike">
                <a:solidFill>
                  <a:srgbClr val="b2b2b2"/>
                </a:solidFill>
                <a:latin typeface="黑体"/>
                <a:ea typeface="黑体"/>
              </a:rPr>
              <a:t>讨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。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丑小鸭感到非常孤单，就钻出篱笆，离开了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761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16120" y="4571640"/>
            <a:ext cx="56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丑小鸭望着洁白美丽的天鹅，惊奇极了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他心里想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30880" y="56671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、丑小鸭望着洁白美丽的天鹅，羡慕极了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他心里想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9917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丑小鸭望着洁白美丽的天鹅，又惊奇又羡慕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7" descr=""/>
          <p:cNvPicPr/>
          <p:nvPr/>
        </p:nvPicPr>
        <p:blipFill>
          <a:blip r:embed="rId1"/>
          <a:srcRect l="10084" t="0" r="0" b="10082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30492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越来越冷，湖面结了厚的冰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丑小鸭趴在冰上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冻僵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幸亏一位农夫看见了，把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回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719520"/>
            <a:ext cx="2640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如果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刻你就在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身边，你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怎么说，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会怎么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7080" y="114768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6:37:20Z</dcterms:created>
  <dc:creator>平阴惠普专卖店(精诚电脑)</dc:creator>
  <dc:description/>
  <dc:language>en-US</dc:language>
  <cp:lastModifiedBy>user</cp:lastModifiedBy>
  <dcterms:modified xsi:type="dcterms:W3CDTF">2010-05-12T01:20:51Z</dcterms:modified>
  <cp:revision>170</cp:revision>
  <dc:subject/>
  <dc:title>平阴县少岱小学  魏华</dc:title>
</cp:coreProperties>
</file>