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EBC-1A4D-4AFF-BC09-DABB3427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18F-8DD3-49A4-9F0E-50CFE4C6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0B1-B554-48EF-9980-EE14DE1F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0C3-5881-4388-9435-BA768917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7501-122B-466E-8613-745D04F9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9C6A-165B-4BE8-AC65-1E933994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E526-828E-470C-A1C6-C1B17843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F448-F824-43CB-A943-CA6867B0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0821-DFDC-4532-BA79-013D26F5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82E0-498A-4C26-9FC9-29A4B4E3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2109-E913-4D82-9A79-20CD1A29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345-EB62-4F99-B68E-57BC16A3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0A65-E558-4226-94CD-94DF7900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DC39-3F70-4BB8-9CFB-7C06DE45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006E-0C9E-4DA5-A5DE-420B1D5D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D28-762E-4E09-9FD3-351E9AF5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EE69-9255-4A35-A571-ABBA26CA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B166-F9E1-4F13-AC77-C7793FD6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4623-A05F-4D91-AACC-7F186762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2344-6408-4055-B1B4-1A13672F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0D37-CF3D-4108-95D9-C2D4170E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272D-CE04-409A-A82C-8976BED5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5C2-DA30-4CA5-B48F-548C47CE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C9A6-195B-40E6-9C51-18DCFC1E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5C50-16BF-4475-BE77-02B9AC36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F57D-65B2-4B71-B095-3A75C547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80B7-6E50-4E2D-B344-3793E60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AF9B-7246-4576-87D0-296FCBD4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624E-603A-40B9-8617-6B7F34B2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A5B0-732C-49CD-8452-256E53AC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1D9-5948-4CE9-9FC6-BA822960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B96-CA46-45A0-B60A-B0119EEC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264-7F26-4A6B-B356-CA55343D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742-0A2B-4CE4-8303-16EB68E7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D86-2040-4A79-980E-7FF6FF9D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A74-9A60-417E-B0FC-F0652871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28BF-E90D-480F-9D6D-0AB1848F0A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F45D-5267-4D35-BF47-E3280C77E4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2" descr=""/>
          <p:cNvPicPr/>
          <p:nvPr/>
        </p:nvPicPr>
        <p:blipFill>
          <a:blip r:embed="rId2"/>
          <a:srcRect l="-1139" t="10158" r="-645" b="67549"/>
          <a:stretch/>
        </p:blipFill>
        <p:spPr>
          <a:xfrm>
            <a:off x="2021040" y="5834160"/>
            <a:ext cx="7122960" cy="102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8922-A18E-4E9A-AB53-F5BF48D91462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AB9-57EC-402D-A3A4-1D6783A9F86E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dd4f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rcRect l="7595" t="0" r="1084" b="0"/>
          <a:stretch/>
        </p:blipFill>
        <p:spPr>
          <a:xfrm>
            <a:off x="0" y="0"/>
            <a:ext cx="9144000" cy="6583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FBDC-BE4C-4367-B46D-8DE06BF61289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05A4-6DF1-491B-ABC0-44F025DC2567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1514520" y="2471400"/>
            <a:ext cx="64468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4520" y="2471400"/>
            <a:ext cx="64468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b0f0"/>
                </a:solidFill>
                <a:latin typeface="微软雅黑"/>
              </a:rPr>
              <a:t>横渠四句</a:t>
            </a:r>
            <a:endParaRPr b="1" lang="en-US" sz="88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17400" y="3348000"/>
            <a:ext cx="6460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51bab"/>
                </a:solidFill>
                <a:latin typeface="幼圆"/>
              </a:rPr>
              <a:t>冯友兰</a:t>
            </a:r>
            <a:endParaRPr b="0" lang="en-US" sz="5400" spc="-1" strike="noStrike">
              <a:solidFill>
                <a:srgbClr val="00b0f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76ad"/>
                </a:solidFill>
                <a:latin typeface="微软雅黑"/>
              </a:rPr>
              <a:t>生字词</a:t>
            </a:r>
            <a:endParaRPr b="1" lang="en-US" sz="48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f83c"/>
                </a:solidFill>
                <a:latin typeface="幼圆"/>
              </a:rPr>
              <a:t>郿</a:t>
            </a:r>
            <a:r>
              <a:rPr b="1" lang="zh-CN" sz="2400" spc="-1" strike="noStrike">
                <a:solidFill>
                  <a:srgbClr val="f0423a"/>
                </a:solidFill>
                <a:latin typeface="幼圆"/>
              </a:rPr>
              <a:t> </a:t>
            </a:r>
            <a:r>
              <a:rPr b="1" lang="zh-CN" sz="2400" spc="-1" strike="noStrike">
                <a:solidFill>
                  <a:srgbClr val="f0423a"/>
                </a:solidFill>
                <a:latin typeface="幼圆"/>
              </a:rPr>
              <a:t>méi</a:t>
            </a:r>
            <a:r>
              <a:rPr b="1" lang="zh-CN" sz="2400" spc="-1" strike="noStrike">
                <a:solidFill>
                  <a:srgbClr val="f0423a"/>
                </a:solidFill>
                <a:latin typeface="幼圆"/>
              </a:rPr>
              <a:t>〔～县〕地名，在中国陕西省，现作“眉县”。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f83c"/>
                </a:solidFill>
                <a:latin typeface="幼圆"/>
              </a:rPr>
              <a:t>美育 </a:t>
            </a:r>
            <a:r>
              <a:rPr b="1" lang="zh-CN" sz="2400" spc="-1" strike="noStrike">
                <a:solidFill>
                  <a:srgbClr val="313ffa"/>
                </a:solidFill>
                <a:latin typeface="幼圆"/>
              </a:rPr>
              <a:t>培养学生健康的审美观，发展学生鉴赏美和创造美的能力的教育。也称审美教育或美感教育。美育要通过各种艺术以及自然界和社会生活中美好的事物来进行。通过艺术进行的美育就是艺术教育。在人的全面发展教育中，美育占有重要地位。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f83c"/>
                </a:solidFill>
                <a:latin typeface="幼圆"/>
              </a:rPr>
              <a:t>程颢 </a:t>
            </a:r>
            <a:r>
              <a:rPr b="1" lang="zh-CN" sz="2400" spc="-1" strike="noStrike">
                <a:solidFill>
                  <a:srgbClr val="33f83c"/>
                </a:solidFill>
                <a:latin typeface="幼圆"/>
              </a:rPr>
              <a:t>hào   </a:t>
            </a:r>
            <a:r>
              <a:rPr b="1" lang="zh-CN" sz="2400" spc="-1" strike="noStrike">
                <a:solidFill>
                  <a:srgbClr val="33f83c"/>
                </a:solidFill>
                <a:latin typeface="幼圆"/>
              </a:rPr>
              <a:t>程颐 </a:t>
            </a:r>
            <a:r>
              <a:rPr b="1" lang="zh-CN" sz="2400" spc="-1" strike="noStrike">
                <a:solidFill>
                  <a:srgbClr val="33f83c"/>
                </a:solidFill>
                <a:latin typeface="幼圆"/>
              </a:rPr>
              <a:t>yí 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36a6"/>
                </a:solidFill>
                <a:latin typeface="幼圆"/>
              </a:rPr>
              <a:t>兄弟二人曾学于周敦颐，世称“二程”，同为北宋理学的奠基者，其学说在理学发展史上占有重要地位，后来为朱熹所继承和发展，世称程朱学派。其所亲撰有《定性书》、《识仁篇》等，后人集其言论所编的著述书籍《遗书》《文集》等，皆收入《二程全书》。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9bcf"/>
                </a:solidFill>
                <a:latin typeface="幼圆"/>
              </a:rPr>
              <a:t> </a:t>
            </a:r>
            <a:endParaRPr b="0" lang="en-US" sz="1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0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76ad"/>
                </a:solidFill>
                <a:latin typeface="微软雅黑"/>
              </a:rPr>
              <a:t>作者</a:t>
            </a:r>
            <a:endParaRPr b="1" lang="en-US" sz="48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47d3"/>
                </a:solidFill>
                <a:latin typeface="幼圆"/>
              </a:rPr>
              <a:t>冯友兰（</a:t>
            </a:r>
            <a:r>
              <a:rPr b="1" lang="en-US" sz="2800" spc="-1" strike="noStrike">
                <a:solidFill>
                  <a:srgbClr val="e347d3"/>
                </a:solidFill>
                <a:latin typeface="幼圆"/>
              </a:rPr>
              <a:t>1895.12.04</a:t>
            </a:r>
            <a:r>
              <a:rPr b="1" lang="zh-CN" sz="2800" spc="-1" strike="noStrike">
                <a:solidFill>
                  <a:srgbClr val="e347d3"/>
                </a:solidFill>
                <a:latin typeface="幼圆"/>
              </a:rPr>
              <a:t>～</a:t>
            </a:r>
            <a:r>
              <a:rPr b="1" lang="en-US" sz="2800" spc="-1" strike="noStrike">
                <a:solidFill>
                  <a:srgbClr val="e347d3"/>
                </a:solidFill>
                <a:latin typeface="幼圆"/>
              </a:rPr>
              <a:t>1990.11.26</a:t>
            </a:r>
            <a:r>
              <a:rPr b="1" lang="zh-CN" sz="2800" spc="-1" strike="noStrike">
                <a:solidFill>
                  <a:srgbClr val="e347d3"/>
                </a:solidFill>
                <a:latin typeface="幼圆"/>
              </a:rPr>
              <a:t>），字芝生，河南省南阳市唐河县祁仪镇人。中国当代著名哲学家、教育家。</a:t>
            </a:r>
            <a:r>
              <a:rPr b="1" lang="en-US" sz="2800" spc="-1" strike="noStrike">
                <a:solidFill>
                  <a:srgbClr val="e347d3"/>
                </a:solidFill>
                <a:latin typeface="幼圆"/>
              </a:rPr>
              <a:t>1918</a:t>
            </a:r>
            <a:r>
              <a:rPr b="1" lang="zh-CN" sz="2800" spc="-1" strike="noStrike">
                <a:solidFill>
                  <a:srgbClr val="e347d3"/>
                </a:solidFill>
                <a:latin typeface="幼圆"/>
              </a:rPr>
              <a:t>年毕业于北京大学哲学系，</a:t>
            </a:r>
            <a:r>
              <a:rPr b="1" lang="en-US" sz="2800" spc="-1" strike="noStrike">
                <a:solidFill>
                  <a:srgbClr val="e347d3"/>
                </a:solidFill>
                <a:latin typeface="幼圆"/>
              </a:rPr>
              <a:t>1924</a:t>
            </a:r>
            <a:r>
              <a:rPr b="1" lang="zh-CN" sz="2800" spc="-1" strike="noStrike">
                <a:solidFill>
                  <a:srgbClr val="e347d3"/>
                </a:solidFill>
                <a:latin typeface="幼圆"/>
              </a:rPr>
              <a:t>年获美国哥伦比亚大学哲学博士学位。回国后，任清华大学教授、哲学系主任、文学院院长，西南联合大学教授、文学院院长；第四届全国人大代表，第二至四届政协委员，第六、七届全国政协常委。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3ffa"/>
                </a:solidFill>
                <a:latin typeface="幼圆"/>
              </a:rPr>
              <a:t>曾获美国普林斯顿大学、印度德里大学、美国哥伦比亚大学名誉文学博士。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0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76ad"/>
                </a:solidFill>
                <a:latin typeface="微软雅黑"/>
              </a:rPr>
              <a:t>冯友兰主要著作</a:t>
            </a:r>
            <a:endParaRPr b="1" lang="en-US" sz="48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583b"/>
                </a:solidFill>
                <a:latin typeface="幼圆"/>
              </a:rPr>
              <a:t>《中国哲学史》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3520" indent="-3535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583b"/>
                </a:solidFill>
                <a:latin typeface="幼圆"/>
              </a:rPr>
              <a:t>《中国哲学简史》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3520" indent="-3535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583b"/>
                </a:solidFill>
                <a:latin typeface="幼圆"/>
              </a:rPr>
              <a:t>《中国哲学史新编》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3520" indent="-3535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583b"/>
                </a:solidFill>
                <a:latin typeface="幼圆"/>
              </a:rPr>
              <a:t>《贞元六书》等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3520" indent="-3535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36a6"/>
                </a:solidFill>
                <a:latin typeface="幼圆"/>
              </a:rPr>
              <a:t>成为</a:t>
            </a:r>
            <a:r>
              <a:rPr b="1" lang="en-US" sz="2800" spc="-1" strike="noStrike">
                <a:solidFill>
                  <a:srgbClr val="f436a6"/>
                </a:solidFill>
                <a:latin typeface="幼圆"/>
              </a:rPr>
              <a:t>20</a:t>
            </a:r>
            <a:r>
              <a:rPr b="1" lang="zh-CN" sz="2800" spc="-1" strike="noStrike">
                <a:solidFill>
                  <a:srgbClr val="f436a6"/>
                </a:solidFill>
                <a:latin typeface="幼圆"/>
              </a:rPr>
              <a:t>世纪中国学术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3520" indent="-3535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36a6"/>
                </a:solidFill>
                <a:latin typeface="幼圆"/>
              </a:rPr>
              <a:t>重要经典，对中国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3520" indent="-3535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36a6"/>
                </a:solidFill>
                <a:latin typeface="幼圆"/>
              </a:rPr>
              <a:t>现当代学界乃至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3520" indent="-3535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36a6"/>
                </a:solidFill>
                <a:latin typeface="幼圆"/>
              </a:rPr>
              <a:t>国外学界影响深远。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3520" indent="-3535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36a6"/>
                </a:solidFill>
                <a:latin typeface="幼圆"/>
              </a:rPr>
              <a:t>被誉为“现代新儒家”</a:t>
            </a:r>
            <a:r>
              <a:rPr b="1" lang="en-US" sz="2800" spc="-1" strike="noStrike">
                <a:solidFill>
                  <a:srgbClr val="5b9bcf"/>
                </a:solidFill>
                <a:latin typeface="幼圆"/>
              </a:rPr>
              <a:t> 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70280" y="968400"/>
            <a:ext cx="42102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29952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76ad"/>
                </a:solidFill>
                <a:latin typeface="微软雅黑"/>
              </a:rPr>
              <a:t>张载简介</a:t>
            </a:r>
            <a:endParaRPr b="1" lang="en-US" sz="48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9bcf"/>
                </a:solidFill>
                <a:latin typeface="幼圆"/>
              </a:rPr>
              <a:t>张载，又称张子，北宋哲学家，理学创始人之一，程颢、程颐的表叔，理学支脉——关学创始人，封先贤，奉祀孔庙西庑第</a:t>
            </a:r>
            <a:r>
              <a:rPr b="1" lang="zh-CN" sz="2800" spc="-1" strike="noStrike">
                <a:solidFill>
                  <a:srgbClr val="5b9bcf"/>
                </a:solidFill>
                <a:latin typeface="幼圆"/>
              </a:rPr>
              <a:t>38</a:t>
            </a:r>
            <a:r>
              <a:rPr b="1" lang="zh-CN" sz="2800" spc="-1" strike="noStrike">
                <a:solidFill>
                  <a:srgbClr val="5b9bcf"/>
                </a:solidFill>
                <a:latin typeface="幼圆"/>
              </a:rPr>
              <a:t>位。其庙庭与周敦颐庙、邵雍庙、程颐庙、程颢庙合称“北宋五子”庙。字子厚，汉族，祖籍大梁（今开封），徙家凤翔郿县（今宝鸡眉县）横渠镇，人称横渠先生。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9bcf"/>
                </a:solidFill>
                <a:latin typeface="幼圆"/>
              </a:rPr>
              <a:t> </a:t>
            </a:r>
            <a:r>
              <a:rPr b="1" lang="zh-CN" sz="2800" spc="-1" strike="noStrike">
                <a:solidFill>
                  <a:srgbClr val="5b9bcf"/>
                </a:solidFill>
                <a:latin typeface="幼圆"/>
              </a:rPr>
              <a:t>主要著作：《崇文集》、《正蒙》、《横渠易说》、《张子语录》等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0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76ad"/>
                </a:solidFill>
                <a:latin typeface="微软雅黑"/>
              </a:rPr>
              <a:t>结构分析</a:t>
            </a:r>
            <a:endParaRPr b="1" lang="en-US" sz="48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一（</a:t>
            </a: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1</a:t>
            </a: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）：总说“横渠四句”是北宋哲学家张载的四句话，引起下文。</a:t>
            </a: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二（</a:t>
            </a: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2-4</a:t>
            </a: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）：具体阐述“横渠四句”的深刻内涵。（第一第二部分，总分关系）</a:t>
            </a: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三（</a:t>
            </a: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5-9</a:t>
            </a: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）：进一步阐述四个“为”与人的精神境界的关系。</a:t>
            </a: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0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76ad"/>
                </a:solidFill>
                <a:latin typeface="微软雅黑"/>
              </a:rPr>
              <a:t>文章主旨</a:t>
            </a:r>
            <a:endParaRPr b="1" lang="en-US" sz="48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10d"/>
                </a:solidFill>
                <a:uFillTx/>
                <a:latin typeface="幼圆"/>
              </a:rPr>
              <a:t>分组讨论：用自己的话概括课文主旨。（课下第一题）</a:t>
            </a: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1f7"/>
                </a:solidFill>
                <a:latin typeface="幼圆"/>
              </a:rPr>
              <a:t>为人类社会创造历史文化，为老百姓谋取幸福，为以往的圣人传承发扬已经中断的学问传统，为后代万世开创太平天下。冯友兰认为，一个人能这样做了，就达到了做人的最高境界。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423a"/>
                </a:solidFill>
                <a:latin typeface="幼圆"/>
              </a:rPr>
              <a:t>冯友兰从人与动物的不同角度，阐释了人应有的作为，能做到四个“为”就达到了做人的最高境界。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0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76ad"/>
                </a:solidFill>
                <a:latin typeface="微软雅黑"/>
              </a:rPr>
              <a:t>拓展</a:t>
            </a:r>
            <a:endParaRPr b="1" lang="en-US" sz="48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36a6"/>
                </a:solidFill>
                <a:latin typeface="幼圆"/>
              </a:rPr>
              <a:t>人只有献身于社会，才能找出那实际上是短暂而有风险的生命的意义。——爱因斯坦</a:t>
            </a: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3ffa"/>
                </a:solidFill>
                <a:latin typeface="幼圆"/>
              </a:rPr>
              <a:t>生无益于时，死无闻于后，是自弃也。 ——司马光</a:t>
            </a: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0423a"/>
                </a:solidFill>
                <a:latin typeface="幼圆"/>
              </a:rPr>
              <a:t>为自己寻求庸俗乏味的生活的人，才是真正可怜而渺小的。 ——约尔旦</a:t>
            </a: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f83c"/>
                </a:solidFill>
                <a:latin typeface="幼圆"/>
              </a:rPr>
              <a:t>生命的长短以时间来计算，生命的价值以贡献来计算。——裴多菲</a:t>
            </a: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0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5b9bcf"/>
                </a:solidFill>
                <a:latin typeface="幼圆"/>
              </a:rPr>
              <a:t>    </a:t>
            </a:r>
            <a:r>
              <a:rPr b="1" lang="zh-CN" sz="9600" spc="-1" strike="noStrike">
                <a:solidFill>
                  <a:srgbClr val="5b9bcf"/>
                </a:solidFill>
                <a:latin typeface="幼圆"/>
              </a:rPr>
              <a:t>谢谢！</a:t>
            </a:r>
            <a:endParaRPr b="0" lang="en-US" sz="96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5-20T14:3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