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F44D-10C0-4340-80CA-5954AFF318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B07-931B-4460-A48D-013D8B3B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27C-9FB2-4188-96B8-C3511E23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DA1-4CAF-4554-AF44-E8CB12BB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E56-D385-4E3E-823F-4F8C346D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12A1-1C7B-4503-B38F-BE03973B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5E50-3392-4559-91AA-68CFFED5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9468-2FD5-4BDD-B5C1-A83CD67C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FAC5-AB25-455A-839F-A1E7300D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2C5-1D6A-4247-858F-92CA5282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DF9-A7E1-463A-8C56-592AB113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1B8A-4724-44DE-AA6B-C290660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186-1C05-4C5B-805F-F928C460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2B4A-0224-4B35-8CFC-5B35E96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A9FE-D207-4EAC-99DE-F81F7E1D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C67D-A42C-4E21-82C1-501F5291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87B-F537-448E-AAC5-3F2AE967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9F5-AB33-4320-BCF8-79663DC4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C225-37DD-4545-8DB6-FFEF19E1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0D14-9D42-4580-BFED-477E8279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C16F-3624-44D1-B272-9C7707DD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C89B-453C-433B-93E1-8F1BD382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96E4-AB36-4B99-A3A3-72E8DF0D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9D1-76F1-4885-844C-C9EECB2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F9D0-E36F-4A2F-BE77-A68A9AAA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7BC5-5E78-4782-A9D1-56F50B1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DB95-4AF9-4FC0-AF6D-1DE4832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A3E2-A93F-40BA-BA5F-B70E4F95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754C-1CCC-4261-9FC0-27E2AED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7973-B741-400B-BA2F-C3A13418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03B0-5B46-4C3F-9A13-3F2163EE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8AD-D71B-4C6B-83D8-33610229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F91-A72A-4EF6-B78D-8C38D431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F30-0C42-4913-BB5E-5430024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4FC-F051-47CE-A8F2-8ECCA563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094-BE01-40CA-B466-90D03D7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F61-24D1-4851-91B3-DF05282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18D1-AF57-46E0-92CA-35178372B82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FFF0-BAD6-4B03-8792-F6BACD96D97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D5B-B596-4DCB-826C-0B9FE0E1AA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C:\Documents and Settings\All Users\Documents\课案\新建文件夹\00011425111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19640" y="2852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执教：傅菊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132000" y="184464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骑马上天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23400" y="184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骑马上天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98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自读提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971640" y="2060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１、读：将课文读通顺，认准生字生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971640" y="2781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２、想：课文是按什么顺序写的？并画出文中提示游览路线的句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3860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３、找：顺着这条路，作者饱赏了天山哪些景物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45813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４、思：七月的天山留给你怎样的印象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7093080" y="580536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  <a:path fill="darken" w="21600" h="24664">
                <a:moveTo>
                  <a:pt x="3794" y="5325"/>
                </a:moveTo>
                <a:lnTo>
                  <a:pt x="17806" y="12332"/>
                </a:lnTo>
                <a:lnTo>
                  <a:pt x="3794" y="19338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35280" y="1844640"/>
            <a:ext cx="572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哈萨克　撇开　矗立　白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洄水涡　马鞍　鳞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伊犁　绣花　俯视　马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五彩斑斓　　烤火　触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0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读一读  记一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5013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869000"/>
            <a:ext cx="216000" cy="93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>
              <a:alpha val="8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5084640"/>
            <a:ext cx="935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5084640"/>
            <a:ext cx="1439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5805360"/>
            <a:ext cx="935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5805360"/>
            <a:ext cx="1439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537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yìn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yǐ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450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饮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522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饮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3280" cy="28764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773" h="21600">
                <a:moveTo>
                  <a:pt x="0" y="0"/>
                </a:moveTo>
                <a:lnTo>
                  <a:pt x="37773" y="0"/>
                </a:lnTo>
                <a:lnTo>
                  <a:pt x="37773" y="21600"/>
                </a:lnTo>
                <a:lnTo>
                  <a:pt x="0" y="21600"/>
                </a:lnTo>
                <a:close/>
              </a:path>
              <a:path fill="lightenLess" w="37773" h="21600">
                <a:moveTo>
                  <a:pt x="0" y="0"/>
                </a:moveTo>
                <a:lnTo>
                  <a:pt x="37773" y="0"/>
                </a:lnTo>
                <a:lnTo>
                  <a:pt x="36373" y="1400"/>
                </a:lnTo>
                <a:lnTo>
                  <a:pt x="1400" y="1400"/>
                </a:lnTo>
                <a:close/>
              </a:path>
              <a:path fill="darken" w="37773" h="21600">
                <a:moveTo>
                  <a:pt x="37773" y="0"/>
                </a:moveTo>
                <a:lnTo>
                  <a:pt x="37773" y="21600"/>
                </a:lnTo>
                <a:lnTo>
                  <a:pt x="36373" y="20200"/>
                </a:lnTo>
                <a:lnTo>
                  <a:pt x="36373" y="1400"/>
                </a:lnTo>
                <a:close/>
              </a:path>
              <a:path fill="darkenLess" w="37773" h="21600">
                <a:moveTo>
                  <a:pt x="37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3" y="20200"/>
                </a:lnTo>
                <a:close/>
              </a:path>
              <a:path fill="lighten" w="37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3" h="21600">
                <a:moveTo>
                  <a:pt x="11880" y="10800"/>
                </a:moveTo>
                <a:lnTo>
                  <a:pt x="25893" y="3794"/>
                </a:lnTo>
                <a:lnTo>
                  <a:pt x="25893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/>
          <p:cNvSpPr/>
          <p:nvPr/>
        </p:nvSpPr>
        <p:spPr>
          <a:xfrm>
            <a:off x="755640" y="306864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蜿蜒无尽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里指原始森林连绵不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幽静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幽雅寂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绵延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延续不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峭壁断崖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陡直的山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彩斑斓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形容颜色很多，很漂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蜿蜒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山脉、河流、道路等）弯弯曲曲的延伸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凝脂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凝固了的油脂，多用来比喻洁白             细腻的皮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755640" y="1125360"/>
            <a:ext cx="341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山涧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山间的水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矗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高高的直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白皑皑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洁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萦绕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缠绕，盘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矫健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强壮有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7093080" y="6237360"/>
            <a:ext cx="934920" cy="43164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64" h="21600">
                <a:moveTo>
                  <a:pt x="0" y="0"/>
                </a:moveTo>
                <a:lnTo>
                  <a:pt x="46764" y="0"/>
                </a:lnTo>
                <a:lnTo>
                  <a:pt x="46764" y="21600"/>
                </a:lnTo>
                <a:lnTo>
                  <a:pt x="0" y="21600"/>
                </a:lnTo>
                <a:close/>
              </a:path>
              <a:path fill="lightenLess" w="46764" h="21600">
                <a:moveTo>
                  <a:pt x="0" y="0"/>
                </a:moveTo>
                <a:lnTo>
                  <a:pt x="46764" y="0"/>
                </a:lnTo>
                <a:lnTo>
                  <a:pt x="45364" y="1400"/>
                </a:lnTo>
                <a:lnTo>
                  <a:pt x="1400" y="1400"/>
                </a:lnTo>
                <a:close/>
              </a:path>
              <a:path fill="darken" w="46764" h="21600">
                <a:moveTo>
                  <a:pt x="46764" y="0"/>
                </a:moveTo>
                <a:lnTo>
                  <a:pt x="46764" y="21600"/>
                </a:lnTo>
                <a:lnTo>
                  <a:pt x="45364" y="20200"/>
                </a:lnTo>
                <a:lnTo>
                  <a:pt x="45364" y="1400"/>
                </a:lnTo>
                <a:close/>
              </a:path>
              <a:path fill="darkenLess" w="46764" h="21600">
                <a:moveTo>
                  <a:pt x="4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4" y="20200"/>
                </a:lnTo>
                <a:close/>
              </a:path>
              <a:path fill="lighten" w="4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4" h="21600">
                <a:moveTo>
                  <a:pt x="16376" y="10800"/>
                </a:moveTo>
                <a:lnTo>
                  <a:pt x="30388" y="3794"/>
                </a:lnTo>
                <a:lnTo>
                  <a:pt x="3038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00000" y="2133720"/>
            <a:ext cx="65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先写天山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戈壁滩炎暑逼人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再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进入天山……立刻会使你感到像秋天似的凉爽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接着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再往里走，天山显得越来越优美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最后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再往里走就像是春天了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709308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12591"/>
                </a:moveTo>
                <a:lnTo>
                  <a:pt x="17806" y="5585"/>
                </a:lnTo>
                <a:lnTo>
                  <a:pt x="17806" y="19597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981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本文以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游踪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为序，由山的外围写到山的深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640" y="184464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第一部分（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）：简要介绍了骑马上天山的时间及原因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第二部分（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2—4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）：具体介绍了天山的雪峰、原始森林和花海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第三部分（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）：写作者对天山的喜爱之情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000" y="973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清课文脉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2501640"/>
            <a:ext cx="77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远望天山，美丽多姿，那长年积雪高插云霄的群峰，像集体起舞时的维吾尔少女的珠冠，银光闪闪；那富于色彩的连绵不断的山峦，像孔雀开屏，艳丽迷人……”</a:t>
            </a:r>
            <a:r>
              <a:rPr b="1" lang="zh-CN" sz="3200" spc="-1" strike="noStrike">
                <a:solidFill>
                  <a:srgbClr val="008000"/>
                </a:solidFill>
                <a:latin typeface="Verdana"/>
                <a:ea typeface="楷体_GB2312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54520" y="907920"/>
            <a:ext cx="21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碧野先生写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40120" y="4869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Verdana"/>
                <a:ea typeface="楷体_GB2312"/>
              </a:rPr>
              <a:t>那近在脚下的天山又如何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5"/>
          <p:cNvPicPr/>
          <p:nvPr/>
        </p:nvPicPr>
        <p:blipFill>
          <a:blip r:embed="rId2"/>
          <a:srcRect l="28598" t="25394" r="32278" b="37200"/>
          <a:stretch/>
        </p:blipFill>
        <p:spPr>
          <a:xfrm>
            <a:off x="755640" y="90792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88" name="矩形 3"/>
          <p:cNvSpPr/>
          <p:nvPr/>
        </p:nvSpPr>
        <p:spPr>
          <a:xfrm>
            <a:off x="3150720" y="141300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进入天山</a:t>
            </a:r>
            <a:r>
              <a:rPr b="1" lang="zh-CN" sz="2400" spc="-1" strike="noStrike">
                <a:solidFill>
                  <a:srgbClr val="9400e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1052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自由读第二自然段，思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213372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、这段主要写了什么景物？你印象最深的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、这些景物有什么特点？作者是怎样抓住景物的特点把它写具体的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All Users\Documents\课案\新建文件夹\200583012546165[1].jpg"/>
          <p:cNvPicPr/>
          <p:nvPr/>
        </p:nvPicPr>
        <p:blipFill>
          <a:blip r:embed="rId2"/>
          <a:stretch/>
        </p:blipFill>
        <p:spPr>
          <a:xfrm>
            <a:off x="611280" y="1700280"/>
            <a:ext cx="3313080" cy="32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356000" y="177336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蓝天衬着　　　　的　　的雪峰，在太阳下，几块白云在雪峰间投下云影，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56000" y="3068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像白缎上绣了几朵银灰的暗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5800" y="177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高高矗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220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巨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雪峰：高大、静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03640" y="4076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（１、比喻：生动形象，突出了天山雪峰的美。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084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（２、衬托：蓝天和云影衬托出雪峰的高大。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ll Users\Documents\课案\新建文件夹\NewsMedia_29777[1].jpg"/>
          <p:cNvPicPr/>
          <p:nvPr/>
        </p:nvPicPr>
        <p:blipFill>
          <a:blip r:embed="rId2"/>
          <a:stretch/>
        </p:blipFill>
        <p:spPr>
          <a:xfrm>
            <a:off x="611280" y="1700280"/>
            <a:ext cx="3419280" cy="3457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F:\学案与教案\23221_1036813200.jpg"/>
          <p:cNvPicPr/>
          <p:nvPr/>
        </p:nvPicPr>
        <p:blipFill>
          <a:blip r:embed="rId3"/>
          <a:stretch/>
        </p:blipFill>
        <p:spPr>
          <a:xfrm>
            <a:off x="611280" y="5013360"/>
            <a:ext cx="3384360" cy="1701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4356000" y="1773360"/>
            <a:ext cx="43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那融化的雪水，从高悬的山涧，从峭壁断崖上　　下来，　　　　　　　　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4180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飞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263700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　似千百条闪耀的银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306864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这飞泻下来的雪水，在山脚汇成冲激的溪流，浪花往上　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944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51920" y="3933720"/>
            <a:ext cx="33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　　　　形成千万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盛开的白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83664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雪水：壮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4797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（比喻：形象生动，突出了雪水与浪花的美丽和生机。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1916280"/>
            <a:ext cx="72741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蓝天  　白云　　雪峰　　云影　　飞泻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银灰的暗花　　闪耀的银链　　冲激的溪流　　　　　　盛开的白莲　　密密的塔松　　细碎的日影　　　　耀眼的彩霞　　绚烂的长虹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五彩斑斓的水石　　洒满阳光的水底　　　重重叠叠的枝丫　　绵延无尽的织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1052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-PUA"/>
              </a:rPr>
              <a:t>读词语，想象画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:\学案与教案\大图.bmp"/>
          <p:cNvPicPr/>
          <p:nvPr/>
        </p:nvPicPr>
        <p:blipFill>
          <a:blip r:embed="rId2"/>
          <a:stretch/>
        </p:blipFill>
        <p:spPr>
          <a:xfrm>
            <a:off x="395280" y="2924280"/>
            <a:ext cx="5940360" cy="3644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324000" y="189000"/>
            <a:ext cx="84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这个时候，饮马溪边，你坐在马鞍上，就可以俯视那　　　　　　　。在　　　　的水石间，　　闪闪的　　映着雪水清流，给寂静的天山增添了无限生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6920" y="3068640"/>
            <a:ext cx="14094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溪流：清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（衬托：通过水底的阳光和鱼群衬托出溪流的清澈；通过充满生机的溪流和鱼群衬托出天山的寂静。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2708280"/>
            <a:ext cx="71294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344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洒满阳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五彩斑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520" y="62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鱼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800" y="10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鳞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1440" y="62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水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04000" y="2565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（以动衬静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4360" y="1052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自主学习三、四自然段，思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213372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、这段主要写了什么景物？你印象最深的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、这些景物有什么特点？作者是怎样抓住景物的特点把它写具体的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C:\Documents and Settings\All Users\Documents\课案\新建文件夹\IMAGE60[1].jpg"/>
          <p:cNvPicPr/>
          <p:nvPr/>
        </p:nvPicPr>
        <p:blipFill>
          <a:blip r:embed="rId2"/>
          <a:stretch/>
        </p:blipFill>
        <p:spPr>
          <a:xfrm>
            <a:off x="-612720" y="-243000"/>
            <a:ext cx="5689440" cy="293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C:\Documents and Settings\All Users\Documents\课案\新建文件夹\1_33-148-2100-217_20030811143420[1].jpg"/>
          <p:cNvPicPr/>
          <p:nvPr/>
        </p:nvPicPr>
        <p:blipFill>
          <a:blip r:embed="rId3"/>
          <a:stretch/>
        </p:blipFill>
        <p:spPr>
          <a:xfrm>
            <a:off x="-1044720" y="2133720"/>
            <a:ext cx="6120000" cy="2422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C:\Documents and Settings\All Users\Documents\课案\新建文件夹\tianshan-16[1].jpg"/>
          <p:cNvPicPr/>
          <p:nvPr/>
        </p:nvPicPr>
        <p:blipFill>
          <a:blip r:embed="rId4"/>
          <a:stretch/>
        </p:blipFill>
        <p:spPr>
          <a:xfrm>
            <a:off x="-612720" y="4005360"/>
            <a:ext cx="5761080" cy="3030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219640" y="98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原始森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205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广大　稠密幽静　富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Documents and Settings\All Users\Documents\课案\新建文件夹\tianmu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419640" y="333360"/>
            <a:ext cx="43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里溪流缓慢，萦绕着每一个山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Documents and Settings\All Users\Documents\课案\新建文件夹\2022707_411380[1].jpg"/>
          <p:cNvPicPr/>
          <p:nvPr/>
        </p:nvPicPr>
        <p:blipFill>
          <a:blip r:embed="rId2"/>
          <a:stretch/>
        </p:blipFill>
        <p:spPr>
          <a:xfrm>
            <a:off x="611280" y="333360"/>
            <a:ext cx="3097080" cy="299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C:\Documents and Settings\All Users\Documents\课案\新建文件夹\photo040602-52[1].jpg"/>
          <p:cNvPicPr/>
          <p:nvPr/>
        </p:nvPicPr>
        <p:blipFill>
          <a:blip r:embed="rId3"/>
          <a:stretch/>
        </p:blipFill>
        <p:spPr>
          <a:xfrm>
            <a:off x="5364000" y="3429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C:\Documents and Settings\All Users\Documents\课案\新建文件夹\yPzA78S+uv4=_mjnvtWfGu0Oq[1].jpg"/>
          <p:cNvPicPr/>
          <p:nvPr/>
        </p:nvPicPr>
        <p:blipFill>
          <a:blip r:embed="rId4"/>
          <a:stretch/>
        </p:blipFill>
        <p:spPr>
          <a:xfrm>
            <a:off x="5364000" y="260280"/>
            <a:ext cx="3095640" cy="3014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Documents and Settings\All Users\Documents\课案\新建文件夹\2022708_989240[1].jpg"/>
          <p:cNvPicPr/>
          <p:nvPr/>
        </p:nvPicPr>
        <p:blipFill>
          <a:blip r:embed="rId5"/>
          <a:stretch/>
        </p:blipFill>
        <p:spPr>
          <a:xfrm>
            <a:off x="611280" y="3429000"/>
            <a:ext cx="3097080" cy="3016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24360" y="9079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野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1773360"/>
            <a:ext cx="136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楷体_GB2312"/>
              </a:rPr>
              <a:t>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楷体_GB2312"/>
              </a:rPr>
              <a:t>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楷体_GB2312"/>
              </a:rPr>
              <a:t>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楷体_GB2312"/>
              </a:rPr>
              <a:t>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7" descr="http://image2.sina.com.cn/bj/ul/2005/0715/U114P52DT20050715135526.jpg"/>
          <p:cNvPicPr/>
          <p:nvPr/>
        </p:nvPicPr>
        <p:blipFill>
          <a:blip r:embed="rId2"/>
          <a:stretch/>
        </p:blipFill>
        <p:spPr>
          <a:xfrm>
            <a:off x="826920" y="1916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3"/>
          <p:cNvSpPr/>
          <p:nvPr/>
        </p:nvSpPr>
        <p:spPr>
          <a:xfrm>
            <a:off x="61128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虽然天山这时并不是春天，但是有哪一个春天的花园能比得过这繁花无边的天山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17002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反问强调了天山的美景是无可比拟的，表达了作者对天山的喜爱、赞美之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39720" y="907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天山也是诗人心中的圣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19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月出天山，苍茫云海间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脉至此断，天山已包天。日月何处栖，总挂青松巅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洪亮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苍苍浮紫气，天山真雄伟。陵谷分阴阳， 不假皴擦美。初阳照积雪，色如胭脂水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汪曾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26920" y="981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写作手法：移步换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1628640"/>
            <a:ext cx="7201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移步换景：就是不固定立足点与观察点，而是一边走一边看，依次把看到的景物写下来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本文先写天山外“戈壁滩炎暑逼人”，再写“进入天山……立刻会使你感到像秋天似的凉爽”，接着写“再往里走，天山显得越来越优美” ，最后写“再往里走就像是春天了”，用移步换景的方法交代了作者先后游览的顺序，也写出了这些地方的变　化特点。观察角度也由远到近，由高到低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1988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　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6920" y="2133720"/>
            <a:ext cx="734544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ff"/>
                </a:solidFill>
                <a:latin typeface="Verdana"/>
              </a:rPr>
              <a:t>          </a:t>
            </a:r>
            <a:r>
              <a:rPr b="1" lang="zh-CN" sz="3400" spc="-1" strike="noStrike">
                <a:solidFill>
                  <a:srgbClr val="0000ff"/>
                </a:solidFill>
                <a:latin typeface="Verdana"/>
              </a:rPr>
              <a:t>本文通过写七月天山雪峰高耸、水美、林幽、花艳的特点表达了作者对天山的喜爱之情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692280"/>
            <a:ext cx="331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文章主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87280" y="105264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练一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2914200"/>
            <a:ext cx="72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　　天山如此美景，请参考课文的优美词句和自己搜集的诗文、图片资料，为天山写几句赞美的话，或写一首小诗。你还可以变幻成天山上的一片云、一条小鱼、一朵花等，以它们的口吻来写也很好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55520" y="2970360"/>
            <a:ext cx="16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天山如此美景，请参考课文的优美词句和自己搜集的诗文、图片资料，为天山写几句赞美的话，或写一首小诗。你还可以变幻成天山上的一片云、一条小鱼、一朵花等，以它们的口吻来写也很好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6920" y="3245760"/>
            <a:ext cx="13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天山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博格达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1240" y="41194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天山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博格达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9162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　　亚洲中部的大山系，横贯新疆中部，西端伸入哈萨克斯坦、吉尔吉斯斯坦，全长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２５００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千米，宽</a:t>
            </a:r>
            <a:r>
              <a:rPr b="1" lang="zh-CN" sz="1800" spc="-1" strike="noStrike">
                <a:solidFill>
                  <a:srgbClr val="0000ff"/>
                </a:solidFill>
                <a:latin typeface="Verdana"/>
              </a:rPr>
              <a:t>２５０－３００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千米。平均海拔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５０００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米，最高峰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托木尔峰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海拔为　　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７４３５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·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３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米，峰顶白雪皑皑。天山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博格达峰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上的积雪终年不化，人们叫它“雪海”。在博格达峰的山腰上，有一个名叫“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天池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”的湖泊，海拔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１９００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米，深约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９０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米。池中的水是冰雪融化而成，清澈透明，像一面大镜子。洁白的雪峰，翠绿的云杉倒影湖中，构成了一幅美丽的图画。　　相传三千多年前周朝的天子来到这里，王母娘娘就　　　在这里设蟠桃宴招待他，因而古称“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瑶池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”。现　　　　在这里已成为有名的旅游胜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03320" y="803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天山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rcRect l="24154" t="39173" r="27118" b="24414"/>
          <a:stretch/>
        </p:blipFill>
        <p:spPr>
          <a:xfrm>
            <a:off x="900000" y="177336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627280" y="90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楷体_GB2312"/>
              </a:rPr>
              <a:t>谢谢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24720" cy="3992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9079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天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5329440" cy="3789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16000" y="1989000"/>
            <a:ext cx="64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最高峰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托木尔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5257800" cy="3805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16000" y="2852640"/>
            <a:ext cx="6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博格达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4360" y="9079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天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3887640" cy="2908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116000" y="3357720"/>
            <a:ext cx="4103640" cy="2681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4537080" cy="3002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067280" y="115920"/>
            <a:ext cx="4176720" cy="3011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50920" y="2060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天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a2_52_54_01300000248737122607545407662_s.jpg"/>
          <p:cNvPicPr/>
          <p:nvPr/>
        </p:nvPicPr>
        <p:blipFill>
          <a:blip r:embed="rId2"/>
          <a:stretch/>
        </p:blipFill>
        <p:spPr>
          <a:xfrm>
            <a:off x="900000" y="1989000"/>
            <a:ext cx="2952720" cy="26672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4211640" y="90792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原名黄潮洋，广东大埔人，著名作家。他的代表作有：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《月亮湖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《边疆的风貌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被湖北省政府授予“终身成就艺术家”荣誉称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836640"/>
            <a:ext cx="35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碧野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1916-2008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02:43Z</dcterms:created>
  <dc:creator>微软用户</dc:creator>
  <dc:description/>
  <dc:language>en-US</dc:language>
  <cp:lastModifiedBy>微软用户</cp:lastModifiedBy>
  <dcterms:modified xsi:type="dcterms:W3CDTF">2015-07-26T12:47:25Z</dcterms:modified>
  <cp:revision>29</cp:revision>
  <dc:subject/>
  <dc:title>幻灯片 1</dc:title>
</cp:coreProperties>
</file>