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12.jpeg" ContentType="image/jpeg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4884-A66C-4CF1-8E8B-8BB6EB22C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F6B8-740C-46CE-A70C-E759AD6F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BEC8-F715-407B-A9B0-21AC07F48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EE9E-3688-4E18-AF0F-FBCE0B540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4B09-2F11-4722-9510-9A655F17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7080-5FAB-444B-912F-1185DF7C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F289-4A2F-4D82-B61E-61D1618B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2140-C46D-4AE4-820D-DDB9B017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E722-84EF-4CAC-BC5B-A109D18F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47F5-892C-4B8D-8599-F978E5AE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A13B-C646-46E3-9613-9745A6B7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A52F-FE45-4EDB-8D39-08E8A8BA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8669-B5D6-40E7-B755-4C902E80F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&#39540;&#23376;&#21483;&#22768;.mp3" TargetMode="External"/><Relationship Id="rId3" Type="http://schemas.openxmlformats.org/officeDocument/2006/relationships/hyperlink" Target="&#37326;&#29983;&#29422;&#23376;&#21564;&#21483;&#22768;.mp3" TargetMode="Externa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&#26391;&#35835;.mp3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85,16,&#24187;&#28783;&#29255; 16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86,17,&#24187;&#28783;&#29255; 17" TargetMode="External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95640" y="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黔之驴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64000" y="422100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方正姚体"/>
              </a:rPr>
              <a:t>[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方正姚体"/>
              </a:rPr>
              <a:t>唐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方正姚体"/>
              </a:rPr>
              <a:t>]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方正姚体"/>
              </a:rPr>
              <a:t>柳宗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563200" y="3049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文中写虎动作的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995640" y="4648320"/>
            <a:ext cx="1131840" cy="2209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896000" y="2730600"/>
            <a:ext cx="4248000" cy="4127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14400" y="1219320"/>
            <a:ext cx="4114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蔽、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大骇、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近之、视之、近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荡倚冲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跳踉、断、尽、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95680" y="1219320"/>
            <a:ext cx="4114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急于摸底好奇害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恐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一再试探生性胆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工于心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干脆利落志得意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4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866320" y="990720"/>
            <a:ext cx="151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黔驴之“技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14400" y="3505320"/>
            <a:ext cx="3505320" cy="2557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209680" y="2057400"/>
            <a:ext cx="25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一鸣；一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342900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2971800"/>
            <a:ext cx="49528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形象写出驴在“庞然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形体掩盖之下的平庸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能。所以，它被老虎吃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也就不足为奇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议一议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5081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虎为什么能吃掉驴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36576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驴为什么会被虎吃掉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9810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没有弄清对方底细之前，存有戒惧心理；它反应迅速，行动灵活。谨慎小心，善于观察，反复试探，在摸清驴子的底细以后，大胆果断地攻击对方要害，立即致敌于死命，是一个机智、勇敢的形象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42670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庞然大物，善于怪叫，蹄踢，装腔作势，借以骇人，是一个虚有其表、实际无能的蠢物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09480" y="304920"/>
            <a:ext cx="22100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00ff00"/>
                    </a:gs>
                    <a:gs pos="100000">
                      <a:srgbClr val="ffff00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我来说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00ff00"/>
                  </a:gs>
                  <a:gs pos="100000">
                    <a:srgbClr val="ffff00"/>
                  </a:gs>
                </a:gsLst>
                <a:lin ang="81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1371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这则寓言故事的深刻含义（启示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234936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这则寓言叙写了老虎吃掉“庞然大物”驴子的故事，表现了老虎的机智勇敢和驴子的外强中干。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告诉人们：不要被貌似强大的东西所吓倒，只要敢于斗争，善于斗争，定能获得胜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686800" y="6629400"/>
            <a:ext cx="304920" cy="22860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"/>
          <p:cNvPicPr/>
          <p:nvPr/>
        </p:nvPicPr>
        <p:blipFill>
          <a:blip r:embed="rId2"/>
          <a:srcRect l="1984" t="15026" r="0" b="0"/>
          <a:stretch/>
        </p:blipFill>
        <p:spPr>
          <a:xfrm>
            <a:off x="0" y="0"/>
            <a:ext cx="3124080" cy="228600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5"/>
          <p:cNvSpPr/>
          <p:nvPr/>
        </p:nvSpPr>
        <p:spPr>
          <a:xfrm>
            <a:off x="198360" y="212760"/>
            <a:ext cx="8785440" cy="6340320"/>
          </a:xfrm>
          <a:prstGeom prst="roundRect">
            <a:avLst>
              <a:gd name="adj" fmla="val 4296"/>
            </a:avLst>
          </a:prstGeom>
          <a:solidFill>
            <a:srgbClr val="ccffff">
              <a:alpha val="30000"/>
            </a:srgbClr>
          </a:solidFill>
          <a:ln cap="rnd" w="38160">
            <a:solidFill>
              <a:srgbClr val="00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19160" y="380880"/>
            <a:ext cx="60195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深入体会故事的寓意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从驴的角度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讽刺那些毫无只知之明，外强中干而自招祸患的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从虎的角度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貌似强大的东西并不可怕，只要敢于斗争、善于斗争，就一定能战而胜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从其它角度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要知己知彼；要正确估计对手；要坚持，不放弃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000"/>
                            </p:stCondLst>
                            <p:childTnLst>
                              <p:par>
                                <p:cTn id="47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581280" y="3276720"/>
            <a:ext cx="5029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喻虚有其表，本领有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喻仅有的一点本领用完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外表上庞大的东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3276720"/>
            <a:ext cx="3276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黔驴之技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黔驴技穷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庞然大物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1295280"/>
            <a:ext cx="8312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这则寓言故事寓意深刻，后来由此演化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一些成语，你能想出几个吗？你能否再把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出的成语连成一句话，表达一个完整的意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228600"/>
            <a:ext cx="259092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隶书"/>
              </a:rPr>
              <a:t>露一手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隶书"/>
              <a:ea typeface="隶书"/>
            </a:endParaRPr>
          </a:p>
        </p:txBody>
      </p:sp>
      <p:sp>
        <p:nvSpPr>
          <p:cNvPr id="135" name=""/>
          <p:cNvSpPr/>
          <p:nvPr/>
        </p:nvSpPr>
        <p:spPr>
          <a:xfrm>
            <a:off x="3200400" y="6858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找出带有动物的成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752480"/>
            <a:ext cx="89917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沉鱼落雁     打草惊蛇     对牛弹琴     非牛非马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飞鸟惊蛇     狗尾续貂     管中窥豹      害群之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鹤立鸡群    狐假虎威     鸡鸣狗盗      惊弓之鸟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井底之蛙    九牛一毛     狼狈为奸      如鱼得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守株待兔    指鹿为马     鹬蚌相争      杀鸡吓猴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895480" y="5638680"/>
            <a:ext cx="3581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黔驴技穷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randomBar dir="vert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黔之驴后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946080"/>
            <a:ext cx="9144000" cy="560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193840" y="228600"/>
            <a:ext cx="110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作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1371600"/>
            <a:ext cx="746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944640"/>
            <a:ext cx="8001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一、解释加线的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宋体"/>
              </a:rPr>
              <a:t>蔽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林间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宋体"/>
              </a:rPr>
              <a:t>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之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宋体"/>
              </a:rPr>
              <a:t>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止此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虎大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宋体"/>
              </a:rPr>
              <a:t>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远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宋体"/>
              </a:rPr>
              <a:t>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宋体"/>
              </a:rPr>
              <a:t>然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往来视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稍出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宋体"/>
              </a:rPr>
              <a:t>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之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以为且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宋体"/>
              </a:rPr>
              <a:t>噬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己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二、区别多义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16640" y="5257800"/>
            <a:ext cx="124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以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84840" y="4952880"/>
            <a:ext cx="164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以为且噬己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以为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5105520"/>
            <a:ext cx="152640" cy="838080"/>
          </a:xfrm>
          <a:custGeom>
            <a:avLst/>
            <a:gdLst>
              <a:gd name="textAreaLeft" fmla="*/ 97560 w 152640"/>
              <a:gd name="textAreaRight" fmla="*/ 153000 w 15264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066680" y="838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2349360"/>
            <a:ext cx="8504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三、说说句子的大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黔无驴，有好事者船载以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因跳踉大</a:t>
            </a:r>
            <a:r>
              <a:rPr b="1" lang="zh-CN" sz="2000" spc="-1" strike="noStrike" baseline="30000">
                <a:solidFill>
                  <a:srgbClr val="000000"/>
                </a:solidFill>
                <a:latin typeface="宋体"/>
              </a:rPr>
              <a:t>口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阚，断其喉，尽其肉，乃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27280" y="620640"/>
            <a:ext cx="161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虎见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窥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62320" y="533520"/>
            <a:ext cx="228600" cy="1143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2492280"/>
            <a:ext cx="7920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　　　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寓言：一种文学体裁，常带有讽刺或劝戒的性质，用假托的故事或拟人手法说明某个道理或教训。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　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87280" y="189000"/>
            <a:ext cx="28101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文体小知识</a:t>
            </a:r>
            <a:endParaRPr b="1" lang="en-US" sz="44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152360" cy="11476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04920" y="533520"/>
            <a:ext cx="8534160" cy="41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各抒己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人认为驴是被迫运到黔地的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失去了原来的生活环境和生活方式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颇有怀才不遇之运。你如何看待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ccff"/>
                </a:solidFill>
                <a:latin typeface="方正舒体"/>
                <a:ea typeface="方正舒体"/>
              </a:rPr>
              <a:t>作业</a:t>
            </a:r>
            <a:r>
              <a:rPr b="1" lang="en-US" sz="4400" spc="-1" strike="noStrike">
                <a:solidFill>
                  <a:srgbClr val="ccccff"/>
                </a:solidFill>
                <a:latin typeface="方正舒体"/>
                <a:ea typeface="方正舒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老虎见驴从“庞然大物”“以为神”到“断其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尽其肉”有一个认识过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请选择任一细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写出老虎的心理和行动状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少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读了本文以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有何感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联系实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写一篇读后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904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cc"/>
                </a:solidFill>
                <a:latin typeface="Times New Roman"/>
              </a:rPr>
              <a:t>黔这个地方没有驴子，有个喜好多事的人用船运载了一头驴进入黔地。运到后却没有什么用处，便把它放置在山下。老虎见到它，一看原来是个巨大的动物，就把它当作了神奇的东西。于是隐藏在树林中偷偷地窥探它。老虎渐渐地走出来接近它，很小心谨慎，不了解它究竟有多大本领。</a:t>
            </a:r>
            <a:r>
              <a:rPr b="0" lang="en-US" sz="3200" spc="-1" strike="noStrike">
                <a:solidFill>
                  <a:srgbClr val="ff66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53964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一天，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驴子一声长鸣</a:t>
            </a: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，老虎大为惊骇，顿时远远地逃跑；认为驴子将要吞噬自己，非常恐惧。然而老虎来来往往地观察它，觉得驴子好象没有什么特殊的本领似的；渐渐地习惯了它的叫声，又靠近它前前后后地走动；但老虎始终不敢和驴子搏击。慢慢地，老虎又靠近了驴子，态度更为随便，碰擦闯荡、冲撞冒犯它。</a:t>
            </a:r>
            <a:r>
              <a:rPr b="0" lang="en-US" sz="28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驴禁不住发怒，用蹄子踢老虎。</a:t>
            </a:r>
            <a:r>
              <a:rPr b="0" lang="en-US" sz="28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老虎因此而欣喜，盘算此事。心想到：“驴子的本领只不过如此罢了！”于是跳跃起来，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大声吼叫</a:t>
            </a: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，咬断驴的喉咙，吃完了它的肉，才离去。</a:t>
            </a:r>
            <a:r>
              <a:rPr b="0" lang="en-US" sz="2800" spc="-1" strike="noStrike">
                <a:solidFill>
                  <a:srgbClr val="ff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随堂训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你能不能复述《黔之驴》的故事情节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你能不能利用课文的翻译和故事情节背诵课文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295280"/>
            <a:ext cx="6499080" cy="14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本文是一篇寓言，选自《柳 河东集》。是其《三戒》之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作者柳宗元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7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81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，唐代文学家、哲学家。字子厚，河东（今山西永济）人，世称柳河东。与韩愈同为唐代古文运动的倡导者。因积极参加王叔文为首的革新派被贬官永州、柳州。在十几年的贬逐生活中，他有机会深入了解人民的疾苦，也游览了一些山水名胜，写下了不少著名的诗文。这阶段虽在政治上失意，但文学上却获得了巨大的成就。是唐宋八大家之一。作品有《江雪》、《渔翁》等，都是脍炙人口的名作。 《黔之驴》是柳宗元《三戒》中的一则。《三戒》是作者寓言作品中的代表作，包括《临江之麋》《黔之驴》和《永某氏之鼠》。作者认为这三首寓言都可以使人引以为戒，故称“三戒”。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唐宋八大家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唐代的韩愈、柳宗元，宋代的苏洵、苏轼、苏辙、欧阳修、王安石、曾巩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94120" y="3808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作家作品简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42080" y="1371600"/>
            <a:ext cx="2401920" cy="33526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76520" y="685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286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注    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447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1447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144792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94760" y="14479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56080" y="3124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312408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42280" y="3124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312408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9000" y="1447920"/>
            <a:ext cx="102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qi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á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05320" y="1447920"/>
            <a:ext cx="99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ku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11880" y="144792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à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239960" y="144792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ù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5320" y="31240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h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59400" y="312408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xi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11880" y="312408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iá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92600" y="31240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yì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523880" y="8380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651672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   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黔之驴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柳宗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黔无驴，有好事者船载以入。至则无可用，放之山下。虎见之，庞然大物也，以为神。蔽林间窥之，稍出近之，慭慭然，莫相知。</a:t>
            </a:r>
            <a:br>
              <a:rPr sz="3200"/>
            </a:b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　　他日</a:t>
            </a:r>
            <a:r>
              <a:rPr b="0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驴一鸣</a:t>
            </a:r>
            <a:r>
              <a:rPr b="0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虎大骇</a:t>
            </a:r>
            <a:r>
              <a:rPr b="0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远遁</a:t>
            </a:r>
            <a:r>
              <a:rPr b="0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以为且噬己也</a:t>
            </a:r>
            <a:r>
              <a:rPr b="0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甚恐。然往来视之，觉无异能者。益习其声</a:t>
            </a:r>
            <a:r>
              <a:rPr b="0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又近出前后，终不敢搏。稍近，益狎，荡倚冲冒，驴不胜怒，蹄之。虎因喜</a:t>
            </a:r>
            <a:r>
              <a:rPr b="0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计之曰：“技止此耳！”因跳踉大 阚</a:t>
            </a:r>
            <a:r>
              <a:rPr b="0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断其喉，尽其肉，乃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6095880"/>
            <a:ext cx="2286000" cy="5770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朗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5238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324480" y="0"/>
            <a:ext cx="2819520" cy="27687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9640" y="907920"/>
            <a:ext cx="807732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黔无驴，有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好事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船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入。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至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，放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山下。虎见之，庞然大物也，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以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神。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林间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，稍出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，憖憖然，莫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知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01800" y="1484280"/>
            <a:ext cx="60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　喜欢多事的人 到了                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-489600" y="2997360"/>
            <a:ext cx="1127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它（到）                                          把（它）作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-96840" y="4437000"/>
            <a:ext cx="1015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躲避    偷看                靠近             一方对另一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00400" y="0"/>
            <a:ext cx="2811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黔 之 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方正姚体"/>
              </a:rPr>
              <a:t>柳宗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08720" y="5948280"/>
            <a:ext cx="3743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试着翻译这段内容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3640" y="6021360"/>
            <a:ext cx="2087640" cy="432000"/>
          </a:xfrm>
          <a:prstGeom prst="rightArrow">
            <a:avLst>
              <a:gd name="adj1" fmla="val 50000"/>
              <a:gd name="adj2" fmla="val 120812"/>
            </a:avLst>
          </a:prstGeom>
          <a:solidFill>
            <a:srgbClr val="fcc8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070720" y="476280"/>
            <a:ext cx="4932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日，驴一鸣，虎大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以为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己也，甚恐。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往来视之，觉无异能者。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声，又近出前后，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敢搏。稍近，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狎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荡倚冲冒，驴不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怒，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。虎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喜， 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计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曰：“技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此耳！”因跳踉大阚，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喉，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肉，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乃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60920" y="836640"/>
            <a:ext cx="572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害怕      逃跑             将 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79640" y="1844640"/>
            <a:ext cx="66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　　但是 ，但是                                  渐渐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78360" y="2781360"/>
            <a:ext cx="426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始终                            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11280" y="3789360"/>
            <a:ext cx="61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能承受　  用蹄子踢       因此       盘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66960" y="4724280"/>
            <a:ext cx="688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只                                         咬断           吃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6080" y="5445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才 离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08720" y="5948280"/>
            <a:ext cx="3671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试着翻译这段内容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6021360"/>
            <a:ext cx="2087280" cy="432000"/>
          </a:xfrm>
          <a:prstGeom prst="rightArrow">
            <a:avLst>
              <a:gd name="adj1" fmla="val 50000"/>
              <a:gd name="adj2" fmla="val 120792"/>
            </a:avLst>
          </a:prstGeom>
          <a:solidFill>
            <a:srgbClr val="fcc8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95280" y="5859360"/>
            <a:ext cx="1368360" cy="998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492360" y="47628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段落划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1197000"/>
            <a:ext cx="739152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一、黔驴的来历及虎初见驴的心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二、故事的主体。写虎逐步摸清驴的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细，终于吃掉驴。（分四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虎惧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虎戏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③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虎识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　　④ 虎吃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95280" y="5859360"/>
            <a:ext cx="1368360" cy="998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2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2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7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645280" y="4572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虎认识驴的心理过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86120" y="18288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以为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76680" y="18288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莫相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08920" y="18288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以为且噬己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32004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觉无异能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36040" y="3200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终不敢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06880" y="3200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技止此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48769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38280" y="2133720"/>
            <a:ext cx="838440" cy="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2133720"/>
            <a:ext cx="838080" cy="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3505320"/>
            <a:ext cx="838080" cy="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3505320"/>
            <a:ext cx="838440" cy="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7" idx="3"/>
            <a:endCxn id="98" idx="1"/>
          </p:cNvCxnSpPr>
          <p:nvPr/>
        </p:nvCxnSpPr>
        <p:spPr>
          <a:xfrm flipH="1">
            <a:off x="837720" y="2119320"/>
            <a:ext cx="7509600" cy="1372320"/>
          </a:xfrm>
          <a:prstGeom prst="curvedConnector5">
            <a:avLst>
              <a:gd name="adj1" fmla="val -3044"/>
              <a:gd name="adj2" fmla="val 24927"/>
              <a:gd name="adj3" fmla="val -3044"/>
            </a:avLst>
          </a:prstGeom>
          <a:ln w="9360">
            <a:solidFill>
              <a:srgbClr val="ff33cc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914400" y="4419720"/>
            <a:ext cx="7696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动描绘虎认识驴的心理过程，推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情节发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50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5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500"/>
                            </p:stCondLst>
                            <p:childTnLst>
                              <p:par>
                                <p:cTn id="3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8T12:39:42Z</dcterms:created>
  <dc:creator>文昌</dc:creator>
  <dc:description/>
  <dc:language>en-US</dc:language>
  <cp:lastModifiedBy>user</cp:lastModifiedBy>
  <dcterms:modified xsi:type="dcterms:W3CDTF">2014-04-28T08:55:08Z</dcterms:modified>
  <cp:revision>3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