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5"/>
          <p:cNvSpPr/>
          <p:nvPr/>
        </p:nvSpPr>
        <p:spPr>
          <a:xfrm>
            <a:off x="-152280" y="-3668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696080" cy="12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6934320" cy="473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8" descr="9319cf0960ca229ad1581b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Text Box 9"/>
          <p:cNvSpPr/>
          <p:nvPr/>
        </p:nvSpPr>
        <p:spPr>
          <a:xfrm>
            <a:off x="1066680" y="114300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再见了，北京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12"/>
          <p:cNvSpPr/>
          <p:nvPr/>
        </p:nvSpPr>
        <p:spPr>
          <a:xfrm>
            <a:off x="0" y="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苏教版二年级语文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53452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北京时间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00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日晚，第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9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届夏季奥运会（     ）。在“鸟巢”上空（           ）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天的五环旗（            ）。表演台上，几名外国运动员（             ），他们（                 ），以（              ）。场上仿佛又响起了（          ）的歌声（                   ）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带着（                     ），高达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米的圣火（              ）。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914400" y="457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根据课文内容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未命名3"/>
          <p:cNvPicPr/>
          <p:nvPr/>
        </p:nvPicPr>
        <p:blipFill>
          <a:blip r:embed="rId1"/>
          <a:srcRect l="0" t="10001" r="0" b="0"/>
          <a:stretch/>
        </p:blipFill>
        <p:spPr>
          <a:xfrm>
            <a:off x="-12600" y="205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0" y="5546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这时，北京城礼花四起，如同将一束束绚烂的鲜花抛向天空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a9f14a01274d8832738b655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showimg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未命名"/>
          <p:cNvPicPr/>
          <p:nvPr/>
        </p:nvPicPr>
        <p:blipFill>
          <a:blip r:embed="rId1"/>
          <a:srcRect l="0" t="12220" r="0" b="570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35080" y="527832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人们不分肤色，不分年龄，唱啊，跳啊，欢呼啊，拥抱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未命名"/>
          <p:cNvPicPr/>
          <p:nvPr/>
        </p:nvPicPr>
        <p:blipFill>
          <a:blip r:embed="rId1"/>
          <a:srcRect l="0" t="12220" r="0" b="570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09480" y="449568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8600" y="5181480"/>
            <a:ext cx="86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卓越、友谊和尊重的奥运精神，感染着全场的每一个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49320" y="5181480"/>
            <a:ext cx="90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奥运会闭幕了，但是人们仍然停留在场馆里，迟迟不愿离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未命名"/>
          <p:cNvPicPr/>
          <p:nvPr/>
        </p:nvPicPr>
        <p:blipFill>
          <a:blip r:embed="rId1"/>
          <a:srcRect l="0" t="12220" r="0" b="570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a9f14a01274d8832738b655a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611280" y="2781360"/>
            <a:ext cx="853272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11280" y="2708280"/>
            <a:ext cx="853272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55640" y="2708280"/>
            <a:ext cx="914544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28600" y="35053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这时，北京城礼花四起，如同将一束束绚烂的鲜花抛向天空。人们不分肤色，不分年龄，唱啊，跳啊，欢呼啊，拥抱啊！卓越、友谊和尊重的奥运精神，感染着全场的每一个人。奥运会闭幕了，但是人们仍然停留在场馆里，迟迟不愿离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1821240"/>
            <a:ext cx="822960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15328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届  季  奥   燃   烧   熄   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京   环   表    名    国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员   机   场    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160" y="2057040"/>
            <a:ext cx="80010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北京  夏季  燃烧  几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抛向  机场  熄灭  外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全场</a:t>
            </a: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奥运会  第</a:t>
            </a: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9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表演台 运动员</a:t>
            </a: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五环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2590920" y="304920"/>
            <a:ext cx="2971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词语学习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北京时间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2008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日晚，第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29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届夏季奥运会即将落下帷幕。在“鸟巢”上空飘扬了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天的五环旗已经缓缓降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图片1"/>
          <p:cNvPicPr/>
          <p:nvPr/>
        </p:nvPicPr>
        <p:blipFill>
          <a:blip r:embed="rId1"/>
          <a:stretch/>
        </p:blipFill>
        <p:spPr>
          <a:xfrm>
            <a:off x="2209680" y="2438280"/>
            <a:ext cx="518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深情回望"/>
          <p:cNvPicPr/>
          <p:nvPr/>
        </p:nvPicPr>
        <p:blipFill>
          <a:blip r:embed="rId1"/>
          <a:srcRect l="0" t="0" r="0" b="12296"/>
          <a:stretch/>
        </p:blipFill>
        <p:spPr>
          <a:xfrm>
            <a:off x="1676520" y="2286000"/>
            <a:ext cx="5715000" cy="3476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990720" y="5335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表演台上，几名外国运动员登上“飞机”舷梯，他们深情回望着熊熊燃烧的奥运圣火，以微笑告别北京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未命名1"/>
          <p:cNvPicPr/>
          <p:nvPr/>
        </p:nvPicPr>
        <p:blipFill>
          <a:blip r:embed="rId1"/>
          <a:srcRect l="0" t="0" r="0" b="5553"/>
          <a:stretch/>
        </p:blipFill>
        <p:spPr>
          <a:xfrm>
            <a:off x="1447920" y="2057400"/>
            <a:ext cx="6248160" cy="39560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838080" y="457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场上仿佛又响起了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我和你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的歌声：来吧，朋友，伸出你的手，我和你，心连心，永远一家人</a:t>
            </a:r>
            <a:r>
              <a:rPr b="1" lang="en-US" sz="2800" spc="-1" strike="noStrike">
                <a:solidFill>
                  <a:srgbClr val="ff99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未命名2"/>
          <p:cNvPicPr/>
          <p:nvPr/>
        </p:nvPicPr>
        <p:blipFill>
          <a:blip r:embed="rId1"/>
          <a:srcRect l="0" t="0" r="0" b="11113"/>
          <a:stretch/>
        </p:blipFill>
        <p:spPr>
          <a:xfrm>
            <a:off x="1752480" y="2438280"/>
            <a:ext cx="6629400" cy="3811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447920" y="60948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带着无尽的留恋与不舍，高达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米的圣火渐渐熄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555480"/>
            <a:ext cx="9144000" cy="597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北京时间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2008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日晚，第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29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届季夏奥运会即将落下帷幕。在“鸟巢”上空飘扬了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天的五环旗已经缓缓降下。表演台上，几名外国运动员登上“飞机”舷梯，他们深情回望着熊熊燃烧的奥运圣火，以微笑告别北京。场上仿佛又响起了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我和你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的歌声：来吧， 朋友，伸出你的手，我和你，心连心，永远一家人</a:t>
            </a:r>
            <a:r>
              <a:rPr b="1" lang="en-US" sz="3600" spc="-1" strike="noStrike">
                <a:solidFill>
                  <a:srgbClr val="ff9900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带着无尽的留恋与不舍，高达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米的圣火渐渐熄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71fb9e38f29fb5d83a87ce90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7-02T07:46:1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