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7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9.png" ContentType="image/png"/>
  <Override PartName="/ppt/media/image6.png" ContentType="image/png"/>
  <Override PartName="/ppt/media/image11.gif" ContentType="image/gif"/>
  <Override PartName="/ppt/media/image10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008-61C9-4683-98E1-7D1D019F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FA3-CCFC-40A4-A0DB-0E1571B3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26F-C9D0-43B3-B420-2527B5B6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4B3-5E7C-4B26-BA23-186F2B34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D244-B152-4D58-9A81-FBA19E05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FBAE-E445-42E0-8454-0E0828A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3CEF-B8A8-487D-AD41-5C579D29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2BD-A43D-4B5E-A675-A53F9877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374-6BF8-4CB0-AACF-D203770B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6531-A4AB-4C12-AD4F-AB1D7EE7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9D88-A1FF-442D-82FB-2E76C7A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B21-0567-4CB8-896A-49818B21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64D6-AEDA-49CE-94FE-EDFCA71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3191-FFFC-4075-B028-91F53703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400C-2DCF-4F7B-8D6F-26A1505B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501-5C24-4244-997D-46EBB2B6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88C1-E849-4B86-9054-92B58525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8E44-F6C9-4795-8AC7-E4DEAE5A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7BA2-2AFD-4CF0-8FFE-85958BC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6C08-E7BC-4E65-9D4D-AD7469C1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BC02-D8D8-432F-8142-7F2EB5F8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CE06-1D06-4C16-86E5-E04267D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CCB-6132-404E-A7B4-275F38E6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BADD-0860-4770-9605-802C042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AFDA-B433-4302-B0EE-764CE06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E0FF-9B69-4B88-ABBB-197B2AB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2C2C-1059-4D66-995A-691AD2D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20EC-3156-46A8-8377-7761A357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DD8D-BF84-4D21-B23A-F5A46547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83DB-B084-4954-A836-254EA27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6951-51BB-4C94-9E43-3C751464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1DD4-C709-4F63-9421-87D24CDE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A4A9-C178-4817-9D1F-37DC361A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B88-79BD-402B-B626-9DD24124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9C97-D07C-4AC6-9089-01143B5B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D502-0B65-4B74-A522-23673A3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EA215-4A54-4A47-9A96-07EAC29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C842-A672-42BC-ADFE-3EC5C719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1D78-E45C-421B-9A95-C9757437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3029-2955-4555-B7B8-E9F7D7A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A4BE-A395-437B-A15F-B3E6558A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6151-2C71-4EBA-901D-8BFCB6AB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D3F0-713E-4373-AC6B-D75FABF8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00FC-2BB4-435F-A37F-FD05C4EE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365-1528-4AC9-A4EA-38ED7165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E66E-93AC-486D-B99A-A5840F59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1C34-AD38-477E-BEB0-5D55440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C736-A929-4E73-AAD6-DA540351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3BCA-2659-44C0-9272-1734529C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B478D-9F0B-4BBF-A22F-BAB82F61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1707-5682-4C8F-93EF-A65E6078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91EAE-55BA-415C-A4E0-D11C718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1FFD-E025-4349-8EF3-E7C89F6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64E8-8CC4-469D-956D-4C787D39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589A7-7C32-486D-AB0B-C889BFA5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0E5-A806-4191-AF8C-E225B86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CEC3-82D4-459E-B57A-3EE25615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FC6-1315-45AB-93F2-77DD900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1B8-3910-4EC5-9C74-730EC31B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351-27CF-4A19-8201-0FAE4D8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BE86-923D-4E9D-92BC-8B61D6EB3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31CE-C022-4214-9214-DAF038139A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A8A-CBD7-41B7-B777-A46B2C7D3F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A735-CE7A-487F-A7CB-E2E8C9C431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5AB6-BC26-4983-9CB0-08C18F89BDF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4495680" y="1981080"/>
            <a:ext cx="38102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楷体_GB2312"/>
              </a:rPr>
              <a:t>家</a:t>
            </a:r>
            <a:endParaRPr b="0" lang="en-US" sz="1800" spc="-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4848120" y="5335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66"/>
                </a:solidFill>
                <a:latin typeface="黑体"/>
                <a:ea typeface="黑体"/>
              </a:rPr>
              <a:t>ji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WordArt 6"/>
          <p:cNvSpPr txBox="1"/>
          <p:nvPr/>
        </p:nvSpPr>
        <p:spPr>
          <a:xfrm>
            <a:off x="2743200" y="2743200"/>
            <a:ext cx="1143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5</a:t>
            </a:r>
            <a:endParaRPr b="0" lang="en-US" sz="1800" spc="-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084_jpg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085_jpg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533520" y="22860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wǒ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 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zǔ ɡ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de  huā du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 们  是  祖 国  的  花  朵 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zǔ ɡ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j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wǒ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 de ji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祖  国  就  是 我  们 的 家 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50920" y="28526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隶书"/>
              </a:rPr>
              <a:t>中华人民共和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44703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1296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84_jpg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085_jpg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"/>
          <p:cNvSpPr/>
          <p:nvPr/>
        </p:nvSpPr>
        <p:spPr>
          <a:xfrm>
            <a:off x="533520" y="22860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wǒ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 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zǔ ɡ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de  huā du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 们  是  祖 国  的  花  朵 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zǔ ɡ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j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wǒ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 de ji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祖  国  就  是 我  们 的 家 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02720" y="244332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祖国就是我们的家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250920" y="609300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10800"/>
                </a:moveTo>
                <a:lnTo>
                  <a:pt x="21460" y="3794"/>
                </a:lnTo>
                <a:lnTo>
                  <a:pt x="214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6f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012920" y="260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25960" y="1052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</a:rPr>
              <a:t>蓝天是白云的家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225600" y="1814400"/>
            <a:ext cx="2619000" cy="2230560"/>
            <a:chOff x="3225600" y="1814400"/>
            <a:chExt cx="2619000" cy="2230560"/>
          </a:xfrm>
        </p:grpSpPr>
        <p:sp>
          <p:nvSpPr>
            <p:cNvPr id="262" name=""/>
            <p:cNvSpPr/>
            <p:nvPr/>
          </p:nvSpPr>
          <p:spPr>
            <a:xfrm>
              <a:off x="3225600" y="181440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_GB2312"/>
                </a:rPr>
                <a:t>树林是小鸟的家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5600" y="257796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_GB2312"/>
                </a:rPr>
                <a:t>小河是鱼儿的家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20720" y="3341520"/>
              <a:ext cx="42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_GB2312"/>
                </a:rPr>
                <a:t>泥土是种子的家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327480" y="4105440"/>
            <a:ext cx="2923920" cy="1467000"/>
            <a:chOff x="3327480" y="4105440"/>
            <a:chExt cx="2923920" cy="1467000"/>
          </a:xfrm>
        </p:grpSpPr>
        <p:sp>
          <p:nvSpPr>
            <p:cNvPr id="266" name=""/>
            <p:cNvSpPr/>
            <p:nvPr/>
          </p:nvSpPr>
          <p:spPr>
            <a:xfrm>
              <a:off x="3327480" y="4105440"/>
              <a:ext cx="292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_GB2312"/>
                </a:rPr>
                <a:t>我们是祖国的花朵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4880" y="4869000"/>
              <a:ext cx="42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楷体_GB2312"/>
                </a:rPr>
                <a:t>祖国就是我们的家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0" y="623736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80789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c6f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3733920" cy="2819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62520" cy="2819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04920" y="3860640"/>
            <a:ext cx="3657600" cy="2895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447920" y="5257800"/>
            <a:ext cx="1447560" cy="1177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4876920" y="3860640"/>
            <a:ext cx="3809880" cy="2895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332000" y="285264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</a:rPr>
              <a:t>是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</a:rPr>
              <a:t>的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避雨的绿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遮风的雨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母亲的叮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父亲的期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难舍的亲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温馨的集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是亲爱的祖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3818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9621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0f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908000" y="189000"/>
            <a:ext cx="854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5364000" y="2924280"/>
            <a:ext cx="1223640" cy="1296360"/>
            <a:chOff x="5364000" y="2924280"/>
            <a:chExt cx="1223640" cy="1296360"/>
          </a:xfrm>
        </p:grpSpPr>
        <p:sp>
          <p:nvSpPr>
            <p:cNvPr id="282" name=""/>
            <p:cNvSpPr/>
            <p:nvPr/>
          </p:nvSpPr>
          <p:spPr>
            <a:xfrm>
              <a:off x="5364000" y="2924280"/>
              <a:ext cx="1223640" cy="129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Arial"/>
                </a:rPr>
                <a:t>云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64000" y="357516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71680" y="2924280"/>
              <a:ext cx="0" cy="1296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95640" y="2924280"/>
            <a:ext cx="1223640" cy="1296360"/>
            <a:chOff x="2195640" y="2924280"/>
            <a:chExt cx="1223640" cy="1296360"/>
          </a:xfrm>
        </p:grpSpPr>
        <p:sp>
          <p:nvSpPr>
            <p:cNvPr id="286" name=""/>
            <p:cNvSpPr/>
            <p:nvPr/>
          </p:nvSpPr>
          <p:spPr>
            <a:xfrm>
              <a:off x="2195640" y="2924280"/>
              <a:ext cx="1223640" cy="129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95640" y="357516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03320" y="2924280"/>
              <a:ext cx="0" cy="1296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400480" y="2852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47840" y="409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274680"/>
            <a:ext cx="8229600" cy="11430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我会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00217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179280" y="616572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10800"/>
                </a:moveTo>
                <a:lnTo>
                  <a:pt x="21454" y="3794"/>
                </a:lnTo>
                <a:lnTo>
                  <a:pt x="214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3400" y="1052640"/>
            <a:ext cx="795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种子   鱼儿   小鸟   白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蓝天   树林   泥土   祖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24224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62960" y="1447920"/>
            <a:ext cx="796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xiǎo p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nɡ yǒ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小   朋  友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ku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i bǎ nǐ zuò de xiǎo sh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快  把 你  作 的  小  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ú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 ɡěi b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 b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 mā mā tīnɡ b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读  给 爸 爸 妈 妈  听  吧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33960" y="1523880"/>
            <a:ext cx="377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喜欢自己的</a:t>
            </a:r>
            <a:r>
              <a:rPr b="0" lang="zh-CN" sz="8800" spc="-1" strike="noStrike">
                <a:solidFill>
                  <a:srgbClr val="cc0000"/>
                </a:solidFill>
                <a:latin typeface="Arial"/>
              </a:rPr>
              <a:t>家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03640" y="404640"/>
            <a:ext cx="17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00"/>
                </a:solidFill>
                <a:latin typeface="Arial"/>
              </a:rPr>
              <a:t>家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794160" y="28954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3" action="ppaction://hlinksldjump"/>
              </a:rPr>
              <a:t>白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4" action="ppaction://hlinksldjump"/>
          </p:cNvPr>
          <p:cNvSpPr/>
          <p:nvPr/>
        </p:nvSpPr>
        <p:spPr>
          <a:xfrm>
            <a:off x="2394360" y="289548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5" action="ppaction://hlinksldjump"/>
              </a:rPr>
              <a:t>小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4108680" y="28591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华文楷体"/>
                <a:hlinkClick r:id="rId7" action="ppaction://hlinksldjump"/>
              </a:rPr>
              <a:t>鱼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64680" y="281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种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447920" y="838080"/>
            <a:ext cx="6781680" cy="4844880"/>
            <a:chOff x="1447920" y="838080"/>
            <a:chExt cx="6781680" cy="48448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447920" y="838080"/>
              <a:ext cx="182880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6553440" y="4876560"/>
              <a:ext cx="1676160" cy="80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2333520" y="3505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蓝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5053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是白云的家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4114800" y="457200"/>
            <a:ext cx="4419720" cy="4729320"/>
            <a:chOff x="4114800" y="457200"/>
            <a:chExt cx="4419720" cy="472932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5486400" y="4419720"/>
              <a:ext cx="114300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4114800" y="2743200"/>
              <a:ext cx="18288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6705720" y="457200"/>
              <a:ext cx="182880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1510560" y="1052640"/>
            <a:ext cx="31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树林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是小鸟的家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609480" cy="587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295280" y="1600200"/>
            <a:ext cx="482760" cy="465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781680" y="5486400"/>
            <a:ext cx="644760" cy="62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048120" y="3733920"/>
            <a:ext cx="533160" cy="514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5029200" y="4495680"/>
            <a:ext cx="644400" cy="621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39160" y="52038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小河是鱼儿的家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29600" y="60199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663000" y="44197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泥土是种子的家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14600" y="5105520"/>
            <a:ext cx="1573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523880" y="457200"/>
            <a:ext cx="762012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lán tiān shì bái yún de ji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   天  是  白   云   的 家 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shù lín shì xiǎo niǎo de ji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树   林  是   小   鸟    的 家 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xiǎo hé shì yú  er  de  ji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小    河  是  鱼 儿  的  家 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ní   tǔ  shì zhǒnɡ zi de ji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泥  土  是    种    子 的 家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2:36:38Z</dcterms:created>
  <dc:creator/>
  <dc:description/>
  <cp:keywords/>
  <dc:language>en-US</dc:language>
  <cp:lastModifiedBy>微软用户</cp:lastModifiedBy>
  <dcterms:modified xsi:type="dcterms:W3CDTF">2015-06-30T07:14:20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  <property fmtid="{D5CDD505-2E9C-101B-9397-08002B2CF9AE}" pid="3" name="Version">
    <vt:r8>1</vt:r8>
  </property>
</Properties>
</file>