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8F5-2516-4E22-B0EC-ED074438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FC5-C20B-4A96-A691-7E839697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BFE2-5B10-41AF-A09B-C5A7E487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6CC-8FB6-44D8-8431-A219990B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17C3-138D-4513-B941-DAC7FE0C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CD99-27C9-4ECF-A6E8-09B17888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3228-363D-4C7E-843C-215BF0CD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66CC-D4BB-4A62-9DAD-F29CF592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9562-1CBF-4FEC-AE5E-320A0204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54FF-5457-4DCA-B610-44C7374D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12E1-07BA-439E-87E6-C0298D25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0C0-6F19-428C-B9CA-82AB7B07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3F60-841A-45C8-BAE4-9E2B392B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239F-FD15-4B21-94CA-9CEEC86D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43DA-5569-4C64-B54F-4617FFE4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CBD1-48E1-4545-8560-88C26543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3502-FA8E-43DB-A7CA-391E341D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35E6C-3276-4841-87D7-08DA5605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ECF17-D880-4BB8-B1B3-58807875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C65E8-BCD9-45F0-B54A-7230B7D6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2B852-BCF9-46D3-9A03-7603520E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F2FDF-C670-469E-B520-4DE66E99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D8E-08DA-48EB-B872-BB3262F2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0BF1D-148C-4E5B-905B-85DB0B48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8C662-3461-4387-89F8-83B9B8BF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5E7D1-852C-447D-9E83-F73556C8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BB8FF-01FE-43F3-A81C-02F00EE6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0C6A8-5D6C-4152-8500-9EB65979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C6017-1320-4AF6-86BB-47C83163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6574-6779-4EEB-BCFB-171A7847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C5344-F1ED-4E67-81C6-F6BE5A7B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DABC8-5824-4E4C-8725-8524DD18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C73C8-429C-49FF-9C8D-F6DACB4F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9D4-EFDE-41ED-8B18-03EDD4B0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CACD8-5A9E-4410-98C3-E51238C6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29965-48C9-470E-B326-3C33491D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F17EB-AFF0-42A1-80C7-725B7BD1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81CD3-0A3B-4194-B53B-4C780ACF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70A97-F574-4BD6-AAAC-3DCE79C3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76E00-073B-4601-8F5E-9EC6ECE8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A5AE4-5C12-46AF-ADA8-DE9017BB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4568-E3BD-47D3-A3CE-5FE49A47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EF2E0-D37F-4E97-9964-4C4410BC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CA345-9DE1-481E-817A-38F9D03D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3B2-1AFD-4E87-BA0F-AA101CF5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CA057-6735-4A04-95D0-538F1158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3E97A-D9FC-4589-A0F8-FC08A55F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A38C6-8E4E-42E1-AB99-15C8CFB2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D23CC-E865-47CE-A0B1-52E4BF94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BCC9A-3752-427C-948D-E49E1082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3048E-844F-48F7-9022-B4DAB4F7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47F11-040D-4EB3-A30F-6746A252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9F495-B5AE-48B7-BD0B-D772C59D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66707-73D3-4332-A4E3-05D3CB17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08C88-DD15-4464-9EE6-EC145DB8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FCB-46F7-49D7-92BD-0C466E51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96818-6417-4BBC-8EF5-51EECFD4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95C-DB54-4C6B-A752-0697FDDD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6FC-4210-4ACD-A204-55EDDA96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3B6-88CF-4603-9AD4-DA3874D9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FF20-AFE1-4ACB-BB7A-ECB592B1E4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51B7-08B2-4D30-8829-2C37D7809E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3039-8F22-43E8-B8C7-D606F7AB11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152280" y="609120"/>
            <a:ext cx="88394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10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40E5-75B7-42FB-A95A-E5CEDE32C33C}" type="slidenum">
              <a:rPr b="1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360" y="2742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13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7B94-60CD-475F-B9E9-D10323A13A48}" type="slidenum">
              <a:rPr b="0" lang="zh-CN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3.jpe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" Target="slide5.xml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2"/>
          <a:srcRect l="0" t="0" r="0" b="1956"/>
          <a:stretch/>
        </p:blipFill>
        <p:spPr>
          <a:xfrm>
            <a:off x="685800" y="228600"/>
            <a:ext cx="7010280" cy="6264360"/>
          </a:xfrm>
          <a:prstGeom prst="rect">
            <a:avLst/>
          </a:prstGeom>
          <a:ln w="0">
            <a:noFill/>
          </a:ln>
          <a:effectLst>
            <a:outerShdw dist="109184" dir="2128307" blurRad="0" rotWithShape="0">
              <a:srgbClr val="000000"/>
            </a:outerShdw>
          </a:effectLst>
        </p:spPr>
      </p:pic>
      <p:sp>
        <p:nvSpPr>
          <p:cNvPr id="625" name=""/>
          <p:cNvSpPr/>
          <p:nvPr/>
        </p:nvSpPr>
        <p:spPr>
          <a:xfrm>
            <a:off x="1219320" y="5073480"/>
            <a:ext cx="5943600" cy="10994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【荆轲刺秦王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79280" y="1125360"/>
            <a:ext cx="8568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荆轲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，秦王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柱而走。群臣惊愕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卒起不意，尽失其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而秦法，群臣侍殿上者，不得持尺兵；诸郎中执兵，皆陈殿下，非有诏不得上。方急时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不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召下兵，以故荆轲逐秦王，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惶急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无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击轲，而乃以手共搏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5280" y="1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2400"/>
                </a:solidFill>
                <a:latin typeface="Arial"/>
                <a:ea typeface="黑体"/>
              </a:rPr>
              <a:t>【重点字词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79280" y="1125360"/>
            <a:ext cx="856800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时，侍医夏无且以其所奉药囊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轲。秦王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柱走，卒惶急不知所为。左右乃曰：“王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负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遂拔以击荆轲，断其左股。荆轲废，乃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匕首提秦王，不中，中柱。秦王复击轲，被八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轲自知事不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倚柱而笑，箕踞以骂曰：“事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成者，乃欲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劫之，必得约契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太子也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既前，斩荆轲。秦王目眩良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5280" y="1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2400"/>
                </a:solidFill>
                <a:latin typeface="Arial"/>
                <a:ea typeface="黑体"/>
              </a:rPr>
              <a:t>【重点字词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468360" y="1279440"/>
            <a:ext cx="62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秦王必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臣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日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今日往而不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，竖子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燕王拜送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燕王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怖大王之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柱而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卒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不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13840" y="333360"/>
            <a:ext cx="20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总结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·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通假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丹不忍以己之私，而伤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品德高尚之人。今义：年长之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今有一言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燕国之患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可以用它来，为“可以之”的省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表可能、能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终已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不回头。今义：不照顾，不考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48080" y="333360"/>
            <a:ext cx="23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总结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·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6261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cc"/>
                </a:solidFill>
                <a:latin typeface="Arial"/>
                <a:ea typeface="黑体"/>
              </a:rPr>
              <a:t>总结</a:t>
            </a:r>
            <a:r>
              <a:rPr b="1" lang="zh-CN" sz="3500" spc="-1" strike="noStrike">
                <a:solidFill>
                  <a:srgbClr val="0000cc"/>
                </a:solidFill>
                <a:latin typeface="Arial"/>
                <a:ea typeface="黑体"/>
              </a:rPr>
              <a:t>·</a:t>
            </a:r>
            <a:r>
              <a:rPr b="1" lang="zh-CN" sz="3500" spc="-1" strike="noStrike">
                <a:solidFill>
                  <a:srgbClr val="0000cc"/>
                </a:solidFill>
                <a:latin typeface="Arial"/>
                <a:ea typeface="黑体"/>
              </a:rPr>
              <a:t>词类活用</a:t>
            </a:r>
            <a:endParaRPr b="0" lang="en-US" sz="35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79280" y="1413000"/>
            <a:ext cx="914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词——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谢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词作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兵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略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封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尽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冠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79280" y="1125360"/>
            <a:ext cx="856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意动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子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使动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使以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王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9640" y="40464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总结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词类活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640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cc"/>
                </a:solidFill>
                <a:latin typeface="Arial"/>
                <a:ea typeface="黑体"/>
              </a:rPr>
              <a:t>总结</a:t>
            </a:r>
            <a:r>
              <a:rPr b="1" lang="zh-CN" sz="3500" spc="-1" strike="noStrike">
                <a:solidFill>
                  <a:srgbClr val="0000cc"/>
                </a:solidFill>
                <a:latin typeface="Arial"/>
                <a:ea typeface="黑体"/>
              </a:rPr>
              <a:t>·</a:t>
            </a:r>
            <a:r>
              <a:rPr b="1" lang="zh-CN" sz="3500" spc="-1" strike="noStrike">
                <a:solidFill>
                  <a:srgbClr val="0000cc"/>
                </a:solidFill>
                <a:latin typeface="Arial"/>
                <a:ea typeface="黑体"/>
              </a:rPr>
              <a:t>句式</a:t>
            </a:r>
            <a:endParaRPr b="0" lang="en-US" sz="35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11280" y="1557360"/>
            <a:ext cx="77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判断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此臣日夜切齿拊心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仆所以留者，待吾客与俱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定语后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子及宾客知其事者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群臣侍殿上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5616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cc"/>
                </a:solidFill>
                <a:latin typeface="Arial"/>
                <a:ea typeface="黑体"/>
              </a:rPr>
              <a:t>总结</a:t>
            </a:r>
            <a:r>
              <a:rPr b="1" lang="zh-CN" sz="3500" spc="-1" strike="noStrike">
                <a:solidFill>
                  <a:srgbClr val="0000cc"/>
                </a:solidFill>
                <a:latin typeface="Arial"/>
                <a:ea typeface="黑体"/>
              </a:rPr>
              <a:t>·</a:t>
            </a:r>
            <a:r>
              <a:rPr b="1" lang="zh-CN" sz="3500" spc="-1" strike="noStrike">
                <a:solidFill>
                  <a:srgbClr val="0000cc"/>
                </a:solidFill>
                <a:latin typeface="Arial"/>
                <a:ea typeface="黑体"/>
              </a:rPr>
              <a:t>句式</a:t>
            </a:r>
            <a:endParaRPr b="0" lang="en-US" sz="35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1125360"/>
            <a:ext cx="882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被动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母宗族，皆为戮没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国见陵之耻除矣</a:t>
            </a:r>
            <a:br>
              <a:rPr sz="36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固定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臣乃得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有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太子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用来……的办法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卒惶急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无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击轲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用来……的办法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奈何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表疑问，怎么…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>
            <a:hlinkClick r:id="rId2" action="ppaction://hlinksldjump"/>
          </p:cNvPr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990720" y="685800"/>
            <a:ext cx="716256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990720" y="1295280"/>
            <a:ext cx="716256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71600" y="763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【故事结构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>
            <a:hlinkClick r:id="rId4" action="ppaction://hlinksldjump"/>
          </p:cNvPr>
          <p:cNvSpPr/>
          <p:nvPr/>
        </p:nvSpPr>
        <p:spPr>
          <a:xfrm>
            <a:off x="3124080" y="76212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990720" y="762120"/>
          <a:ext cx="7162560" cy="455400"/>
        </p:xfrm>
        <a:graphic>
          <a:graphicData uri="http://schemas.openxmlformats.org/drawingml/2006/table">
            <a:tbl>
              <a:tblPr/>
              <a:tblGrid>
                <a:gridCol w="2361960"/>
                <a:gridCol w="2438640"/>
                <a:gridCol w="2361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>
            <a:off x="1828800" y="1504800"/>
            <a:ext cx="5715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按故事情节分为三部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准备。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(1--6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诀别。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(7--9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刺秦。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(10--18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>
            <a:hlinkClick r:id="rId2" action="ppaction://hlinksldjump"/>
          </p:cNvPr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90720" y="685800"/>
            <a:ext cx="716256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990720" y="1295280"/>
            <a:ext cx="716256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371600" y="763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【故事结构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rId4" action="ppaction://hlinksldjump"/>
          </p:cNvPr>
          <p:cNvSpPr/>
          <p:nvPr/>
        </p:nvSpPr>
        <p:spPr>
          <a:xfrm>
            <a:off x="3124080" y="76212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990720" y="762120"/>
          <a:ext cx="7162560" cy="455400"/>
        </p:xfrm>
        <a:graphic>
          <a:graphicData uri="http://schemas.openxmlformats.org/drawingml/2006/table">
            <a:tbl>
              <a:tblPr/>
              <a:tblGrid>
                <a:gridCol w="2361960"/>
                <a:gridCol w="2438640"/>
                <a:gridCol w="2361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准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诀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刺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76" name=""/>
          <p:cNvSpPr/>
          <p:nvPr/>
        </p:nvSpPr>
        <p:spPr>
          <a:xfrm>
            <a:off x="1828800" y="1504800"/>
            <a:ext cx="571500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、准备。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(1--6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_GB2312"/>
              </a:rPr>
              <a:t>(1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简介背景。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</a:rPr>
              <a:t>(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节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_GB2312"/>
              </a:rPr>
              <a:t>(2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准备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信物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</a:rPr>
              <a:t>”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</a:rPr>
              <a:t>(3--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_GB2312"/>
              </a:rPr>
              <a:t>(3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准备武器。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</a:rPr>
              <a:t>(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节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_GB2312"/>
              </a:rPr>
              <a:t>(4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配备助手。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</a:rPr>
              <a:t>(6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节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</a:rPr>
              <a:t>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关于《战国策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15640" y="2781000"/>
            <a:ext cx="669924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国别体史书。战国时游说之士的策谋和言论的汇编。西汉末刘向整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战国策》文辞优美，语言生动，富于雄辩与运筹的机智，描写人物绘声绘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rId2" action="ppaction://hlinksldjump"/>
          </p:cNvPr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09800" y="1413000"/>
            <a:ext cx="716256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rcRect l="0" t="0" r="0" b="41"/>
          <a:stretch/>
        </p:blipFill>
        <p:spPr>
          <a:xfrm>
            <a:off x="4800600" y="2438280"/>
            <a:ext cx="3271680" cy="426744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>
            <a:hlinkClick r:id="rId3" action="ppaction://hlinksldjump"/>
          </p:cNvPr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90720" y="685800"/>
            <a:ext cx="716256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1295280"/>
            <a:ext cx="716256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371600" y="763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【故事结构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>
            <a:hlinkClick r:id="rId5" action="ppaction://hlinksldjump"/>
          </p:cNvPr>
          <p:cNvSpPr/>
          <p:nvPr/>
        </p:nvSpPr>
        <p:spPr>
          <a:xfrm>
            <a:off x="3124080" y="76212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990720" y="762120"/>
          <a:ext cx="7162560" cy="455400"/>
        </p:xfrm>
        <a:graphic>
          <a:graphicData uri="http://schemas.openxmlformats.org/drawingml/2006/table">
            <a:tbl>
              <a:tblPr/>
              <a:tblGrid>
                <a:gridCol w="2361960"/>
                <a:gridCol w="2438640"/>
                <a:gridCol w="2361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准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诀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刺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685" name=""/>
          <p:cNvSpPr/>
          <p:nvPr/>
        </p:nvSpPr>
        <p:spPr>
          <a:xfrm>
            <a:off x="1828800" y="1596960"/>
            <a:ext cx="571500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、诀别。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(7--9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_GB2312"/>
              </a:rPr>
              <a:t>(1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怒叱太子。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</a:rPr>
              <a:t>(7--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_GB2312"/>
              </a:rPr>
              <a:t>(2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易水悲歌。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</a:rPr>
              <a:t>(9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>
            <a:hlinkClick r:id="rId2" action="ppaction://hlinksldjump"/>
          </p:cNvPr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990720" y="685800"/>
            <a:ext cx="716256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990720" y="1295280"/>
            <a:ext cx="716256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71600" y="763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【故事结构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>
            <a:hlinkClick r:id="rId4" action="ppaction://hlinksldjump"/>
          </p:cNvPr>
          <p:cNvSpPr/>
          <p:nvPr/>
        </p:nvSpPr>
        <p:spPr>
          <a:xfrm>
            <a:off x="3124080" y="76212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990720" y="762120"/>
          <a:ext cx="7162560" cy="455400"/>
        </p:xfrm>
        <a:graphic>
          <a:graphicData uri="http://schemas.openxmlformats.org/drawingml/2006/table">
            <a:tbl>
              <a:tblPr/>
              <a:tblGrid>
                <a:gridCol w="2361960"/>
                <a:gridCol w="2438640"/>
                <a:gridCol w="2361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准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诀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刺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693" name=""/>
          <p:cNvSpPr/>
          <p:nvPr/>
        </p:nvSpPr>
        <p:spPr>
          <a:xfrm>
            <a:off x="1828800" y="1504800"/>
            <a:ext cx="5715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、刺秦。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(10--18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(1)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计见秦王。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(10--12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(2)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勇刺秦王。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(13-17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(3)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、壮志未酬。</a:t>
            </a: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(18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5"/>
          <a:stretch/>
        </p:blipFill>
        <p:spPr>
          <a:xfrm>
            <a:off x="4952880" y="4648320"/>
            <a:ext cx="3063960" cy="20574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6"/>
          <a:srcRect l="0" t="0" r="0" b="-108"/>
          <a:stretch/>
        </p:blipFill>
        <p:spPr>
          <a:xfrm>
            <a:off x="1371600" y="464832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429480" y="836640"/>
            <a:ext cx="659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情节扣人心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围绕课文标题，梳理概括情节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荆轲刺秦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1692360" y="3645000"/>
            <a:ext cx="1224000" cy="93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92360" y="364500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500720" y="3645000"/>
            <a:ext cx="576000" cy="93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4360" y="4724280"/>
            <a:ext cx="165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行刺缘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674800" y="4724280"/>
            <a:ext cx="165744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行刺准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91160" y="4710240"/>
            <a:ext cx="165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行刺经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219640" y="3573360"/>
            <a:ext cx="230508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659640" y="4711680"/>
            <a:ext cx="165744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行刺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862200" y="836640"/>
            <a:ext cx="7587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人物形象鲜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哪个人物的形象最鲜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概括人物性格特征，文中找依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勾画，批注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荆轲？      太子丹？    秦王？   秦武阳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樊於期？  其他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13520" y="836640"/>
            <a:ext cx="4404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人物形象鲜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刻画人物形象的方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语言描写——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动作描写——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其他表现手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Impact"/>
                <a:ea typeface="楷体_GB2312"/>
              </a:rPr>
              <a:t>临危受命（语言描写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820000" cy="453528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荆轲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太子言，臣愿得谒之”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言出必行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而无信，则秦未可亲也……”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——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智勇双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子丹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恐惧”……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躁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丹不忍以己之私，而伤长者之意”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软弱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怒叱太子（语言描写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13800" cy="331308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子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迟之”“疑”“乃复请之”“先遣秦武阳”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浮躁多疑，谋事不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荆轲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怒”“叱”“今日往而不反者，竖子也……”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—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刚直不阿，秉性刚烈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1965960" y="5589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太子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5950080"/>
            <a:ext cx="1726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86880" y="5589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荆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67848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反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78920" y="269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私见樊於期（语言、动作描写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54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732720" y="1512720"/>
            <a:ext cx="288720" cy="3025800"/>
          </a:xfrm>
          <a:custGeom>
            <a:avLst/>
            <a:gdLst>
              <a:gd name="textAreaLeft" fmla="*/ 184680 w 288720"/>
              <a:gd name="textAreaRight" fmla="*/ 289080 w 288720"/>
              <a:gd name="textAreaTop" fmla="*/ 78480 h 3025800"/>
              <a:gd name="textAreaBottom" fmla="*/ 294732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5"/>
                  <a:pt x="10800" y="1790"/>
                </a:cubicBezTo>
                <a:lnTo>
                  <a:pt x="10800" y="9010"/>
                </a:lnTo>
                <a:cubicBezTo>
                  <a:pt x="10800" y="9905"/>
                  <a:pt x="5400" y="10800"/>
                  <a:pt x="0" y="10800"/>
                </a:cubicBezTo>
                <a:cubicBezTo>
                  <a:pt x="5400" y="10800"/>
                  <a:pt x="10800" y="11695"/>
                  <a:pt x="10800" y="12590"/>
                </a:cubicBezTo>
                <a:lnTo>
                  <a:pt x="10800" y="19810"/>
                </a:lnTo>
                <a:cubicBezTo>
                  <a:pt x="10800" y="207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79280" y="1512720"/>
            <a:ext cx="6481800" cy="301860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母宗族，皆为戮没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之以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解燕国之患，而报将军之仇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晓之以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愿得将军之首……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之以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64280" y="1944720"/>
            <a:ext cx="1900440" cy="161244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侠肝义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果敢勇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擅长辞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4753080"/>
            <a:ext cx="9144000" cy="53244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偏袒扼腕而进言曰……”“遂自刎”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义勇刚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68120" y="5905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樊於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76720" y="6265800"/>
            <a:ext cx="1726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188320" y="5905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荆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80280" y="5545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正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易水送别（环境、音乐）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9640" y="2284560"/>
            <a:ext cx="8229600" cy="208728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衣冠送之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徵之声，士皆垂泪涕泣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慷慨羽声，士皆瞋目…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凄凉悲绝、同仇敌忾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3160080" y="53794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易水送别烘托荆轲之悲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廷刺秦王（动作、语言描写）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605800" cy="367164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武阳：色变振恐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荆轲：顾——笑——前——谢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荆轲：取——奉——发——把——持——逐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——倚——笑——踞——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：惊——起——绝——拔——操——走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拔——击——复击——目眩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群臣惊愕、左右惊呼——“尽失其度”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沉着机智、英雄虎胆、视死如归…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1602360" y="5616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秦王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76720" y="5950080"/>
            <a:ext cx="1726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188320" y="5589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荆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68028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正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7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79280" y="1125360"/>
            <a:ext cx="856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将王翦破赵，虏赵王，尽收其地，进兵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北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，至燕南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子丹恐惧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乃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荆卿曰：“秦兵旦暮渡易水，则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欲长侍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足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得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荆卿曰：“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子言，臣愿得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。今行而无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秦未可亲也。夫今樊将军，秦王购之金千斤，邑万家。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得樊将军首，与燕督亢之地图献秦王，秦王必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臣，臣乃得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有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太子。”太子曰：“樊将军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穷困来归丹，丹不忍以己之私，而伤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长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意，愿足下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虑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5280" y="1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2400"/>
                </a:solidFill>
                <a:latin typeface="Arial"/>
                <a:ea typeface="黑体"/>
              </a:rPr>
              <a:t>【重点字词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300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历史对荆轲刺秦的评议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686800" cy="244800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人虽已没，千载有余情”——陶潜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湖侠骨”——龚自珍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丹以荆卿为计，始速祸焉。”——苏洵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轲匹夫之勇，其事无足言”——朱熹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250920" y="49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荆轲是你心目中的“英雄”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3" dur="20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>
            <a:hlinkClick r:id="rId2" action="ppaction://hlinksldjump"/>
          </p:cNvPr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990720" y="685800"/>
            <a:ext cx="716256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90720" y="1295280"/>
            <a:ext cx="716256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371600" y="763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【荆轲刺秦王 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· 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鉴赏评价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>
            <a:hlinkClick r:id="rId4" action="ppaction://hlinksldjump"/>
          </p:cNvPr>
          <p:cNvSpPr/>
          <p:nvPr/>
        </p:nvSpPr>
        <p:spPr>
          <a:xfrm>
            <a:off x="3124080" y="76212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990720" y="762120"/>
          <a:ext cx="7162560" cy="517320"/>
        </p:xfrm>
        <a:graphic>
          <a:graphicData uri="http://schemas.openxmlformats.org/drawingml/2006/table">
            <a:tbl>
              <a:tblPr/>
              <a:tblGrid>
                <a:gridCol w="716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隶书"/>
                          <a:ea typeface="隶书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隶书"/>
                          <a:ea typeface="隶书"/>
                        </a:rPr>
                        <a:t>荆轲是英雄吗？谁是战国时代的英雄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838080" y="2133720"/>
            <a:ext cx="6934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能救人民于水火的人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英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以此为奋斗目标的人也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英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79280" y="692280"/>
            <a:ext cx="856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荆轲知太子不忍，乃遂私见樊於期，曰：“秦之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，可谓深矣。父母宗族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皆为戮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今闻购将军之首，金千斤，邑万家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将奈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樊将军仰天太息流涕曰：“吾每念，常痛于骨髓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不知所出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轲曰：“今有一言，可以解燕国之患，而报将军之仇者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何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樊於期乃前曰：“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为之奈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荆轲曰：“愿得将军之首以献秦，秦王必喜而善见臣。臣左手把其袖，而右手揕其胸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然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之仇报，而燕国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陵之耻除矣。将军岂有意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樊於期偏袒扼腕而进曰：“此臣日夜切齿拊心也，乃今得闻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遂自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5280" y="1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2400"/>
                </a:solidFill>
                <a:latin typeface="Arial"/>
                <a:ea typeface="黑体"/>
              </a:rPr>
              <a:t>【重点字词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79280" y="1125360"/>
            <a:ext cx="856800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子闻之，驰往，伏尸而哭，极哀。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既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无可奈何，乃遂收盛樊於期之首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封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太子预求天下之利匕首，得赵人徐夫人之匕首，取之百金，使工以药淬之。以试人，血濡缕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人无不立死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乃为装遣荆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国有勇士秦武阳，年十二，杀人，人不敢与忤视。乃令秦武阳为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荆轲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有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待，欲与俱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其人居远未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而为留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5280" y="1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2400"/>
                </a:solidFill>
                <a:latin typeface="Arial"/>
                <a:ea typeface="黑体"/>
              </a:rPr>
              <a:t>【重点字词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79280" y="1125360"/>
            <a:ext cx="856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顷之未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太子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，疑其有改悔，乃复请之曰：“日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矣，荆卿岂无意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丹请先遣秦武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荆轲怒，叱太子曰：“今日往而不反者，竖子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提一匕首入不测之强秦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仆所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者，待吾客与俱。今太子迟之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请辞决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遂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5280" y="1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2400"/>
                </a:solidFill>
                <a:latin typeface="Arial"/>
                <a:ea typeface="黑体"/>
              </a:rPr>
              <a:t>【重点字词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79280" y="1125360"/>
            <a:ext cx="8568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太子及宾客知其事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皆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白衣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送之。至易水上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，取道。高渐离击筑，荆轲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歌，为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变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声，士皆垂泪涕泣。又前而为歌曰：“风萧萧兮易水寒，壮士一去兮不复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为慷慨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羽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士皆瞋目，发尽上指冠。于是荆轲遂就车而去，终已不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至秦，持千金之资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，厚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宠臣中庶子蒙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5280" y="1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2400"/>
                </a:solidFill>
                <a:latin typeface="Arial"/>
                <a:ea typeface="黑体"/>
              </a:rPr>
              <a:t>【重点字词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79280" y="1125360"/>
            <a:ext cx="8568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嘉为先言于秦王曰：“燕王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怖大王之威，不敢兴兵以拒大王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愿举国为内臣，比诸侯之列，给贡职如郡县，而得奉守先王之宗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恐惧不敢自陈，谨斩樊於期头，及献燕之督亢之地图，函封，燕王拜送于庭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使使以闻大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唯大王命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王闻之，大喜。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乃朝服，设九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见燕使者咸阳宫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95280" y="1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2400"/>
                </a:solidFill>
                <a:latin typeface="Arial"/>
                <a:ea typeface="黑体"/>
              </a:rPr>
              <a:t>【重点字词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79280" y="836640"/>
            <a:ext cx="8568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荆轲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樊於期头函，而秦武阳奉地图匣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进。至陛下，秦武阳色变振恐，群臣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，荆轲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武阳，前为谢曰：“北蛮夷之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未尝见天子，故振慑，愿大王少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假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，使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于前。”秦王谓轲曰：“起，取武阳所持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轲既取图奉之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，图穷而匕首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手把秦王之袖，而右手持匕首之。未至身，秦王惊，自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起，绝袖。拔剑，剑长，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操其室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时恐急，剑坚，故不可立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5280" y="1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2400"/>
                </a:solidFill>
                <a:latin typeface="Arial"/>
                <a:ea typeface="黑体"/>
              </a:rPr>
              <a:t>【重点字词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11:58:50Z</dcterms:created>
  <dc:creator>游峻松</dc:creator>
  <dc:description/>
  <dc:language>en-US</dc:language>
  <cp:lastModifiedBy>dell</cp:lastModifiedBy>
  <dcterms:modified xsi:type="dcterms:W3CDTF">2012-09-28T12:49:03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70000000000010250600207f7000400038000</vt:lpwstr>
  </property>
</Properties>
</file>