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788-270F-4D2B-963F-D4251E20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6CB-0DB4-403B-94BC-C49B6493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EA5-3FBF-412D-A8A3-9D98DC32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6C4-9361-4349-96F3-888A5683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B99-3408-4CF2-9FBB-7F2C5129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F24-D98B-4574-9A4D-101EB988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C5E-5E8D-4E1D-BDEF-9F7AAFEE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965-1A6C-4466-9656-B30F170F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174-9A37-43C2-A241-F22A12BD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8E4-7610-499C-8902-086AB91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038-5345-4AD7-A26D-54A09ED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443-B8FD-47A4-9EFB-C263CEF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EB0F-4B9B-42DF-A399-718A42500C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769040"/>
            <a:ext cx="8893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近几年来，不少地区的中考先后出现了一种新的题型——仿写句子，并且所占分值不低，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不等。仿写的形式，一般有以下几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以一个完整的</a:t>
            </a:r>
            <a:r>
              <a:rPr b="1" lang="zh-CN" sz="3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名句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做例句，让考生按要求仿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华文行楷"/>
                <a:ea typeface="华文行楷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限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使用某种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修辞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法来仿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．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现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关联词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让学生模仿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提供原句和仿句的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开头或结尾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要求仿写出与原句大致相同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华文行楷"/>
                <a:ea typeface="华文行楷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华文行楷"/>
                <a:ea typeface="华文行楷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对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形式。对出另一句的过程，实际上也是仿写句子的过程，只是对联本身还有音韵和平仄的要求，比一般的仿句练习难度更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02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仿“那时候，只要看见从远方回来的大海船开进江来，父亲总要说他那句永不变更的话：‘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是于勒竟在这只船上，那会教人多么惊喜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’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“只要…总要…要是…那…”写一个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322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 提供原句和仿句的开头或结尾，要求仿写出与原句大致相同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“画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，不是画。有谁在哪幅画里能听见那潺潺的流水声，能闻到那泥土和野草的芳香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”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曲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_                                                      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49248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①悲观者说，希望是地平线，就算看得见，也永远走不到；乐观者说，希望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乐观者说，风是帆的伙伴，能把你送到胜利的彼岸；悲观者说，风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03776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仿照“勇敢是把利刃，可以斩落对手，自大也是一把利刃，却只能割伤自己”完成下边句子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一把利刃，可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也是一把利刃，可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44360"/>
            <a:ext cx="914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 对联的形式。对出另一句的过程，实际上也是仿写句子的过程，只是对联本身还有音韵和平仄的要求，比一般的仿句练习难度更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联：读好书乐趣无穷 　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联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联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联：学子论古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联：站起来当伞，给群众遮风挡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下联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（表现领导干部为人民服务的态度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7360"/>
            <a:ext cx="8964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仿写句子，看似简单，但总有部分学生写出的句子不符要求。其中一个重要的因素是，学生并没有将例句真正地分析清楚。其实仿写句子，一定要看清题目的思考点。因此，仿写的思路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先分析例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即分析例句的句式，分句间内容上的关系，修辞手法的运用等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再以例句为参照，进行模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下面略举几例加以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406160"/>
            <a:ext cx="85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例一：模仿给出的句子，以“我喜欢”开头，再造两个句子，使整个句式形成排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我喜欢婉约中透出英气的李清照，虽是“人比黄花瘦”，也高歌“不肯过江东”的项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〖分析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分句与第二、三分句构成解说关系，第二和第三分句构成转折关系。第二分句中的 “人比黄花瘦”，第三分句中的 “不肯过江东”分别照应第一分句中的“婉约”和“英气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〖参考答案〗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我喜欢意气豪迈又沉郁冷峭的陆游，虽只能“夜阑卧听风吹雨”，但“位卑未敢忘忧国”才是他的初衷；我喜欢嫉恶如仇又心怀柔肠的鲁迅，虽多是“横眉冷对千夫指”，但也有“怜子如何不丈夫”的柔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23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例二：仿照下面的句式，以“只有”开头，写一结构与之相似的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只有波涛澎湃的大海，才能创造出沙滩的光洁与柔软；而平静的湖边，只好让污泥环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〖分析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个并列关系复句，分号前后的句意构成对比关系，画面迥异。而且大海“沙滩”的“光洁柔软”和“湖边”的“污泥环绕”在意义上构成“大”与“小”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〖参考答案〗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华文中宋"/>
              </a:rPr>
              <a:t>只有一望无际的森林，才能创造出大地的翠绿与娇美；而孤独的树木，只好任狂风摧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044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例三：仿照例句的格式和修辞特点续写两个句子，使之与例句构成一组排比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希望是冷冷冰雪中灿然开放的梅花，让你在严冬中感觉到春的气息；希望是</a:t>
            </a:r>
            <a:r>
              <a:rPr b="1" lang="zh-CN" sz="36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_</a:t>
            </a:r>
            <a:r>
              <a:rPr b="1" lang="zh-CN" sz="36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_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；希望是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_</a:t>
            </a:r>
            <a:r>
              <a:rPr b="1" lang="zh-CN" sz="3600" spc="-1" strike="noStrike" u="sng">
                <a:solidFill>
                  <a:srgbClr val="99cc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_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〖分析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续写的句子，格式应为“希望是……让你……”，而且必须用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暗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修辞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〖参考答案〗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希望是茫茫大海上明亮耀眼的灯塔，让你在暗夜中找到航行的方向；希望是漫漫沙漠中水草丰美的绿洲，让你在绝境中饮到生命的甘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90360"/>
            <a:ext cx="9144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例四：请选择某一事物，通过情境表达自己的思想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墙角的花！你孤芳自赏时，天地就小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〖分析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句是偏正短语，中心词是“花”；第二句拟人，句中的“你”指“花”；第三句，是“你孤芳自赏时”的后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〖参考答案〗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（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99cc00"/>
                </a:solidFill>
                <a:latin typeface="华文行楷"/>
                <a:ea typeface="华文行楷"/>
              </a:rPr>
              <a:t>）山中的石！你背靠群峰时，意志就坚了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水中的萍！你随波逐流后，根基就没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隶书"/>
                <a:ea typeface="隶书"/>
              </a:rPr>
              <a:t>(3) </a:t>
            </a:r>
            <a:r>
              <a:rPr b="1" lang="zh-CN" sz="3600" spc="-1" strike="noStrike">
                <a:solidFill>
                  <a:srgbClr val="009999"/>
                </a:solidFill>
                <a:latin typeface="隶书"/>
                <a:ea typeface="隶书"/>
              </a:rPr>
              <a:t>空中的鸟！你展翅蓝天中，宇宙就大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）空中的雁！你离开队伍时，危险就大了。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山顶的松！你挺直腰杆后，根基就牢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6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中的鱼！你游进大海时，境界就宽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(7)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井底的蛙！你越身地面时，眼界就宽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下的煤！你燃烧自己后，贡献就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582560"/>
            <a:ext cx="838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五：仿照下面的比喻形式，另写一组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海是水的一部字典：浪花是部首，涛声是音序，鱼虾、海鸥是海的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〖分析〗第一句的比喻领有下面三个比喻，四个比喻构成一个完整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〖参考答案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球是生物的母亲，山峰是怀抱，河水是乳汁，植物、动物是地球的孩子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山川是大地的一部乐章，隆起的是高音部，凹陷的是低音部，花草、树木是山川的音符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季是自然的一部乐章，花草是序曲，树木是音符，风霜、雨雪是四季的主旋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活是人生的一首乐曲，苦咸是低音部，酸辣是高音部，幸福、甘甜是生活的主旋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风暴是自然一部乐曲，闪电是序曲，雷声是音符，狂风、暴雨是风暴的主旋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夜空是宇宙的舞台，蓝天是帷幕，晚风是配乐，星星、月亮是天空的演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流水是大山的眼睛：飞瀑是泪水，深潭是瞳仁，淙淙潺潺的歌声是流水思绪的表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森林是地球的衣服：高大的乔木是外套，矮小的灌木是内衣，朵朵小花是森林的纽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1034640"/>
            <a:ext cx="886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以一个完整的名句做例句，让考生按要求仿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依照下面的例句，以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渴望理解吗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希望成才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作开头写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句：你热爱生命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别浪费时间，因为时间是组成生命的材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75824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例六：在横线处填写恰当的句子，构成前后连贯、合理的排比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人的一生像金，要刚正，人格须挺立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_________,___________,____________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；人的一生像水，要灵活，方法须随和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______,_______,_______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；人的一生像土，要本色，作风须朴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〖分析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比句的五个喻体分别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释喻部分前一分句要与喻体有一致性，后一分句再扣住人；释喻要兼顾本体、喻体，具有合理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〖参考答案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〗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人的一生像木，①要充实，内涵须深刻；②要正直，立场须坚定；③要成材，身心须健康；④要牢固，信念须坚定；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人的一生像火，①要耀眼，事业须旺盛；②要蓬勃，体力须充沛；③要热情，态度须诚挚；④要燃烧，性格须热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81080" y="2532600"/>
            <a:ext cx="93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例十：以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爱心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为陈述对象，仿造下面的句式，续写两个句子，使之构成一组排比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心是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一片照射在冬日的阳光，使贫病交迫的人感到人间的温暖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心是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___,___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心是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_________,________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〖分析〗前句是一个判断形式的比喻句，它作后句的主语。后句说明前句将产生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〖参考答案〗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爱心是一股撞开冰闸的春水，使铁石心肠受到震撼；爱心是一座亮在黑夜的灯塔，使迷途航船找到港湾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爱心是一瓢纷洒在春天的小雨，使落寞孤寂的人享受心灵的滋润；爱心是一泪流淌在夏夜的清泉，使燥热不寐的人领略诗般的恬静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爱心是一柄撑起在雨夜的小伞，使漂泊异乡的人得到亲情的荫庇；爱心是一道飞架在天边的彩虹，使满目阴霾的人见到世界的美丽。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爱心是一杯泼洒在头顶的冰水，使高热发昏的人得能冷静地思索；爱心是一块衔含在嘴里的奶糖，使久饮黄连的人尝到生活的甘甜。（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爱心是一阵炎炎夏日的清风，使心急如焚的人感到无比的凉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74024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例十一：仿照下面两个句式，以</a:t>
            </a: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"</a:t>
            </a: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时间</a:t>
            </a: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"</a:t>
            </a: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开头，写两个句式相同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书籍好比一架梯子，它能引导我们登上知识的殿堂。书籍如同一把钥匙，它能帮助我们开启心灵的智慧之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〖分析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句中“书籍好比一架梯子”，是个明喻句。“它能引导我们登上知识的殿堂”中的“它”，复指前面的明喻句，并共同作后面的主语，整句话是一个兼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〖参考答案〗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时间好象一把尺子，它能衡量奋斗者前进的进程。时间如同一架天平，它能称量奋斗者成果的重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时间就像一把皮鞭，它能鞭策我们追赶人生的目标。时间犹如一面战鼓，它能激励我们加快前进的脚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8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例十二：心正则笔直。宋代抗金名将岳飞，精忠报国，一心收复失地，不是写下情真意切、壮怀激烈的《满江红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〖分析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句是一个紧缩复句，以下分别是朝代、人物、人物精神品质概括和人物的主要事迹；最后以反问形式点出该人物独具特色的一部作品。仿写不包括首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〖参考答案〗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战国的爱国诗人屈原，枉遭放逐，仍心系楚国，不写下了忧愁幽思、感天动地的《离骚》？（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唐代的大诗人杜甫，身经乱世，仍关心天下寒士，不是写下了感叹时世，渴救众生的《茅屋为秋风所破歌》？（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唐代的大诗人李白，意兴豪放，一生傲视权贵，不是写下了想象瑰丽、渴望自由的《梦游天姥吟留别》？（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宋代的民族英雄文天祥，一片磁心，不指南方死不休，不是写下了气贯长虹、豪情万丈的《正气歌》？（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清代的小说家曹雪芹，茅屋瓦舍，历十载批阅之苦，不是写下了气势恢弘、柔情万种的《红楼梦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246600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值得特别指出的是：好的仿句还要求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思想健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比如，有学生在仿写雨果的名言“生活好比旅行，理想是旅行的路线，失去了路线，只好停止前进”时，说“升官好比登山，金钱是登山的阶梯，没有阶梯，只好掉了下来”。句子虽然“形似”，但不能算好的仿句。原句是从正面阐述深刻的人生道理，而仿句却是宣扬不健康的处世哲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320" y="85212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请在“友谊”“勇敢”“信任”中任选一个词，仿写两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虚伪和欺诈产生罪恶。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爱迪生） 蚜虫吃青草，锈吃铁，虚伪吃灵魂。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契诃夫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034640"/>
            <a:ext cx="82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一个人愈知道时间的价值，就愈感觉失去时间的痛苦。（但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生活好比旅行，理想是旅行的路线，失去了路线，只好停止前进。（雨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若是一心一意地做某一事情，总是会碰到偶然的机会的。（巴尔扎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河床越深，水面越平静。（莎士比亚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02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限定使用某种修辞手法来仿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仿照下面的比喻形式，另写一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是水的一部字典： 浪花是部首，涛声是音序，鱼虾、海鸥是海的文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4324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“人们在关注自己是否衰老时常忽略了自己的感官，不妨自己诊断一下，你的鼻子嗅得出四季的不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①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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你的皮肤能否感觉出海滩上沙粒的粗细和清风的疾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这些你都可以，那就不能以为自己衰老了。”请写出两个句子，与上下文构成排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205452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下面横线处填入适当的语句，组成前后呼应的排比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民共和国迎来了她五十诞辰。五十年像一条长河，有急流也有缓流；五十年像一幅画，有冷色也有暖色；＿＿＿＿＿＿＿＿＿＿，＿＿＿＿＿＿＿＿＿＿；五十年像一部史诗，有痛苦也有欢乐。长河永远奔流，画卷刚刚展开，＿＿＿＿＿＿＿＿＿＿，史诗还在续写。我们的共和国正迈着坚定的步伐，跨入新的时代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6724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以“比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疑问”的格式，另写一个句子。原句：遗忘是心的缝隙，漏掉了多少珍贵的昨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940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 出现关联词，让学生模仿造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仿“乐曲忽而高亢嘹亮，忽而又似瀑布飞泻”，以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忽而……忽而又似……”造个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3:40:43Z</dcterms:created>
  <dc:creator>刘守湖</dc:creator>
  <dc:description/>
  <dc:language>en-US</dc:language>
  <cp:lastModifiedBy>丁玲</cp:lastModifiedBy>
  <dcterms:modified xsi:type="dcterms:W3CDTF">2006-03-03T10:01:38Z</dcterms:modified>
  <cp:revision>11</cp:revision>
  <dc:subject/>
  <dc:title>幻灯片 1</dc:title>
</cp:coreProperties>
</file>