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964-5DD2-4B3D-8B5F-197782C2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67B-F44E-42B8-BD53-AA49D4FE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003-C796-4599-AE45-309B94D5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AC6-0BAD-4FD3-B995-AE15F00D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90B-859E-46DA-8074-9D58E79C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435-C7B1-46FC-B317-0F74BD70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A2F-7577-4A67-83BE-772B48DA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BFA-1899-42C1-9E77-F0B494C9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308-FB0E-4F14-93DE-FBE54D87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40C-C4AF-4E0C-8EC6-097BB1E3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659-083E-42A1-A2BD-869F53F5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E43-A6C1-4E45-8C4B-937B0346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242C-8E5D-487F-8565-58B6777507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那片绿绿的爬山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08360" y="4797360"/>
            <a:ext cx="46087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制作人： 陈爱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年   级 ： 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204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这一篇作文写的全是具体事实，从具体实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事中透露出对王老师的敬爱。肖复兴同学果没有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在这 几件事上深受感动，就不能写得这样亲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切。”这则短短的评语，树立了我写作的信心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371600"/>
            <a:ext cx="7620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翻到我的那篇作文，我一下子愣住了： 映入眼帘的是红色的修改符号和改动后增添的小字，密密麻麻，几页纸上到处是红色的圈、钩或直线、曲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莫名其妙      愣住      意外  </a:t>
            </a: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认真       平和       质朴</a:t>
            </a:r>
            <a:br>
              <a:rPr sz="5400"/>
            </a:br>
            <a:br>
              <a:rPr sz="54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学提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默读课文第一部分，思考拿到叶老为“我”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改的作文，“我”看到了什么？有什么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11280" y="2997360"/>
            <a:ext cx="57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2997360"/>
            <a:ext cx="936720" cy="86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765000"/>
            <a:ext cx="8076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怎么你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几何课本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书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去掉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781360"/>
            <a:ext cx="543240" cy="287280"/>
          </a:xfrm>
          <a:custGeom>
            <a:avLst/>
            <a:gdLst/>
            <a:ahLst/>
            <a:rect l="l" t="t" r="r" b="b"/>
            <a:pathLst>
              <a:path w="342" h="181">
                <a:moveTo>
                  <a:pt x="0" y="157"/>
                </a:moveTo>
                <a:cubicBezTo>
                  <a:pt x="36" y="166"/>
                  <a:pt x="16" y="160"/>
                  <a:pt x="60" y="175"/>
                </a:cubicBezTo>
                <a:cubicBezTo>
                  <a:pt x="66" y="177"/>
                  <a:pt x="78" y="181"/>
                  <a:pt x="78" y="181"/>
                </a:cubicBezTo>
                <a:cubicBezTo>
                  <a:pt x="88" y="179"/>
                  <a:pt x="99" y="180"/>
                  <a:pt x="108" y="175"/>
                </a:cubicBezTo>
                <a:cubicBezTo>
                  <a:pt x="147" y="153"/>
                  <a:pt x="95" y="114"/>
                  <a:pt x="78" y="103"/>
                </a:cubicBezTo>
                <a:cubicBezTo>
                  <a:pt x="70" y="105"/>
                  <a:pt x="57" y="101"/>
                  <a:pt x="54" y="109"/>
                </a:cubicBezTo>
                <a:cubicBezTo>
                  <a:pt x="49" y="120"/>
                  <a:pt x="49" y="141"/>
                  <a:pt x="60" y="145"/>
                </a:cubicBezTo>
                <a:cubicBezTo>
                  <a:pt x="82" y="154"/>
                  <a:pt x="108" y="141"/>
                  <a:pt x="132" y="139"/>
                </a:cubicBezTo>
                <a:cubicBezTo>
                  <a:pt x="167" y="116"/>
                  <a:pt x="160" y="82"/>
                  <a:pt x="138" y="49"/>
                </a:cubicBezTo>
                <a:cubicBezTo>
                  <a:pt x="124" y="53"/>
                  <a:pt x="106" y="51"/>
                  <a:pt x="96" y="61"/>
                </a:cubicBezTo>
                <a:cubicBezTo>
                  <a:pt x="72" y="85"/>
                  <a:pt x="140" y="96"/>
                  <a:pt x="144" y="97"/>
                </a:cubicBezTo>
                <a:cubicBezTo>
                  <a:pt x="167" y="94"/>
                  <a:pt x="198" y="99"/>
                  <a:pt x="216" y="79"/>
                </a:cubicBezTo>
                <a:cubicBezTo>
                  <a:pt x="225" y="68"/>
                  <a:pt x="240" y="43"/>
                  <a:pt x="240" y="43"/>
                </a:cubicBezTo>
                <a:cubicBezTo>
                  <a:pt x="238" y="31"/>
                  <a:pt x="244" y="14"/>
                  <a:pt x="234" y="7"/>
                </a:cubicBezTo>
                <a:cubicBezTo>
                  <a:pt x="224" y="0"/>
                  <a:pt x="205" y="3"/>
                  <a:pt x="198" y="13"/>
                </a:cubicBezTo>
                <a:cubicBezTo>
                  <a:pt x="192" y="22"/>
                  <a:pt x="202" y="36"/>
                  <a:pt x="210" y="43"/>
                </a:cubicBezTo>
                <a:cubicBezTo>
                  <a:pt x="220" y="51"/>
                  <a:pt x="246" y="55"/>
                  <a:pt x="246" y="55"/>
                </a:cubicBezTo>
                <a:cubicBezTo>
                  <a:pt x="286" y="51"/>
                  <a:pt x="342" y="57"/>
                  <a:pt x="342" y="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2781000"/>
            <a:ext cx="574920" cy="43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788000" y="2708280"/>
            <a:ext cx="50472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0" y="256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包书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06864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怎么你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几何课本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书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去掉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306864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怎么你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几何课本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书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去掉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306864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怎么你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几何课本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书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去掉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0" y="256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包书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306864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怎么你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几何课本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书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去掉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4788000" y="2708280"/>
            <a:ext cx="50472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0" y="256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包书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306864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怎么你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几何课本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书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去掉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788000" y="2565360"/>
            <a:ext cx="1276560" cy="646200"/>
            <a:chOff x="4788000" y="2565360"/>
            <a:chExt cx="1276560" cy="646200"/>
          </a:xfrm>
        </p:grpSpPr>
        <p:sp>
          <p:nvSpPr>
            <p:cNvPr id="67" name=""/>
            <p:cNvSpPr/>
            <p:nvPr/>
          </p:nvSpPr>
          <p:spPr>
            <a:xfrm flipH="1" flipV="1">
              <a:off x="4788000" y="2708280"/>
              <a:ext cx="50472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35200" y="2565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包书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11280" y="1125360"/>
            <a:ext cx="7772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我虽然未见叶老先生的面，却从他的批改中感受到他的认真、平和以及温暖，如春风拂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08720" y="5661000"/>
            <a:ext cx="719280" cy="50472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776" h="21600">
                <a:moveTo>
                  <a:pt x="0" y="0"/>
                </a:moveTo>
                <a:lnTo>
                  <a:pt x="30776" y="0"/>
                </a:lnTo>
                <a:lnTo>
                  <a:pt x="30776" y="21600"/>
                </a:lnTo>
                <a:lnTo>
                  <a:pt x="0" y="21600"/>
                </a:lnTo>
                <a:close/>
              </a:path>
              <a:path fill="lightenLess" w="30776" h="21600">
                <a:moveTo>
                  <a:pt x="0" y="0"/>
                </a:moveTo>
                <a:lnTo>
                  <a:pt x="30776" y="0"/>
                </a:lnTo>
                <a:lnTo>
                  <a:pt x="29376" y="1400"/>
                </a:lnTo>
                <a:lnTo>
                  <a:pt x="1400" y="1400"/>
                </a:lnTo>
                <a:close/>
              </a:path>
              <a:path fill="darken" w="30776" h="21600">
                <a:moveTo>
                  <a:pt x="30776" y="0"/>
                </a:moveTo>
                <a:lnTo>
                  <a:pt x="30776" y="21600"/>
                </a:lnTo>
                <a:lnTo>
                  <a:pt x="29376" y="20200"/>
                </a:lnTo>
                <a:lnTo>
                  <a:pt x="29376" y="1400"/>
                </a:lnTo>
                <a:close/>
              </a:path>
              <a:path fill="darkenLess" w="30776" h="21600">
                <a:moveTo>
                  <a:pt x="30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76" y="20200"/>
                </a:lnTo>
                <a:close/>
              </a:path>
              <a:path fill="lighten" w="30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76" h="21600">
                <a:moveTo>
                  <a:pt x="8381" y="8406"/>
                </a:moveTo>
                <a:lnTo>
                  <a:pt x="12812" y="8406"/>
                </a:lnTo>
                <a:lnTo>
                  <a:pt x="17233" y="3794"/>
                </a:lnTo>
                <a:lnTo>
                  <a:pt x="17233" y="17806"/>
                </a:lnTo>
                <a:lnTo>
                  <a:pt x="12812" y="13194"/>
                </a:lnTo>
                <a:lnTo>
                  <a:pt x="8381" y="13194"/>
                </a:lnTo>
                <a:close/>
              </a:path>
              <a:path fill="darken" w="30776" h="21600">
                <a:moveTo>
                  <a:pt x="18887" y="10800"/>
                </a:moveTo>
                <a:lnTo>
                  <a:pt x="22394" y="10800"/>
                </a:lnTo>
              </a:path>
              <a:path fill="darken" w="30776" h="21600">
                <a:moveTo>
                  <a:pt x="18887" y="8406"/>
                </a:moveTo>
                <a:lnTo>
                  <a:pt x="22394" y="5639"/>
                </a:lnTo>
              </a:path>
              <a:path fill="darken" w="30776" h="21600">
                <a:moveTo>
                  <a:pt x="18887" y="13194"/>
                </a:moveTo>
                <a:lnTo>
                  <a:pt x="22394" y="15961"/>
                </a:lnTo>
              </a:path>
            </a:pathLst>
          </a:custGeom>
          <a:solidFill>
            <a:srgbClr val="bbe0e3">
              <a:alpha val="52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我翻到我的那篇作文时 （                                                 ）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我翻到我的那篇作文时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我仔细看了叶老的修改作文时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我看到叶老的简短评语后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55166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让我树立了写作的信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5229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17002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242100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2200" y="3559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4292640"/>
            <a:ext cx="849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63640" y="6237360"/>
            <a:ext cx="583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84360" y="1773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一下子愣住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3573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感受到他的认真、平和以及温暖，如春风拂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5516640"/>
            <a:ext cx="374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9:13:47Z</dcterms:created>
  <dc:creator>为您服务教育网http://www.wsbedu.com</dc:creator>
  <dc:description/>
  <dc:language>en-US</dc:language>
  <cp:lastModifiedBy>Angel</cp:lastModifiedBy>
  <dcterms:modified xsi:type="dcterms:W3CDTF">2011-12-04T09:40:32Z</dcterms:modified>
  <cp:revision>67</cp:revision>
  <dc:subject/>
  <dc:title>26那片绿绿的爬山虎</dc:title>
</cp:coreProperties>
</file>