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28.jpeg" ContentType="image/jpeg"/>
  <Override PartName="/ppt/media/image23.wmf" ContentType="image/x-wmf"/>
  <Override PartName="/ppt/media/image11.png" ContentType="image/png"/>
  <Override PartName="/ppt/media/image9.jpeg" ContentType="image/jpeg"/>
  <Override PartName="/ppt/media/image12.png" ContentType="image/png"/>
  <Override PartName="/ppt/media/image6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13.wmf" ContentType="image/x-wmf"/>
  <Override PartName="/ppt/media/image31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AD3-B4C0-4D75-892F-2C5F036E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D6C-044B-4E9B-8C23-8EA43291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D72-2EF8-4589-9CAA-961FAF70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A0B-C09D-4D98-887D-4E3B574B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4FC-2421-4C65-9641-2E8A3ABF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5A0-E1D2-4DE2-B17F-74AC73C9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7B4-3311-45C2-BA0B-FB813B34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1BF-EBD3-468A-A4AC-F7971739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C55-F3DB-4F31-8337-88F05EC5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720-1A89-4C32-97C6-ECFA4D44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E71-5F33-4FE2-8DA1-DA702A6E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921-F598-4986-820A-03A6BD91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1590-2BAA-4C06-98B8-FF4DEC3217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7670"/>
          <a:stretch/>
        </p:blipFill>
        <p:spPr>
          <a:xfrm>
            <a:off x="762120" y="1219320"/>
            <a:ext cx="7543800" cy="491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6400800"/>
            <a:ext cx="12574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1600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走上冰面，可以看到千姿百态的冰，有的像金字塔，有的像城墙，有的像盛开的鲜花……就像到了童话中的水晶宫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2438280"/>
            <a:ext cx="8001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说说“千姿百态”的意思。课文是怎样描写冰面上的冰“千姿百态”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用“有的像……有的像……有的像……”造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00200" y="19810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在托木尔峰地区，尽管气候寒冷，但也有许多动物和植物，而且种类还不少呢。据考察，这里有六百多种植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6400800"/>
            <a:ext cx="12574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657600" cy="3809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19720" y="1600200"/>
            <a:ext cx="3809880" cy="3773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1752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这篇课文语言优美，语句形象生动，是一篇写景的佳作。你读完这篇课文后喜欢哪些语句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6400800"/>
            <a:ext cx="12574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33720" y="19051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默读课文，结合资料与课文内容，以“我眼中的托木尔峰”为题写一段话，介绍托木尔峰的动物、植物、特产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467480" cy="408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0" y="6400800"/>
            <a:ext cx="12574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438280" y="2057400"/>
            <a:ext cx="38102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指导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6400800"/>
            <a:ext cx="12574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038480" cy="2854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16236" t="0" r="0" b="11993"/>
          <a:stretch/>
        </p:blipFill>
        <p:spPr>
          <a:xfrm>
            <a:off x="457200" y="3200400"/>
            <a:ext cx="5638680" cy="2617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447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语文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版 三年级 语文 上册 第二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97180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天山的托木尔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6400800"/>
            <a:ext cx="12574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写    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19280" y="285264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3280" y="28242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99200" y="28242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174840" y="160020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74840" y="146052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1638360" y="15922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38360" y="148896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4660920" y="158904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60920" y="144936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199200" y="158904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99200" y="144936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4687920" y="414324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7920" y="400356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3151080" y="41353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151080" y="4032360"/>
            <a:ext cx="118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3174840" y="285264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3132000" y="541656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4687920" y="541656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20574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课文里哪些语句写出了托木尔峰的“奇特”“壮观”与“千姿百态”</a:t>
            </a:r>
            <a:r>
              <a:rPr b="1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6400800"/>
            <a:ext cx="12574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00200" y="20574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Arial"/>
                <a:ea typeface="楷体_GB2312"/>
              </a:rPr>
              <a:t>托木尔峰上空，终年云雾缭绕，一年四季都下雪。托木尔峰像一座银色的巨塔，在蔚蓝色天空的衬托下，十分壮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47920" y="914400"/>
            <a:ext cx="6315120" cy="4390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76520" y="22860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沿着托木尔峰起伏的山势，一条条“河流”顺谷而下。走近一看，“河”里没有水，全是冰，人们称这种“河”为冰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6400800"/>
            <a:ext cx="12574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</dc:creator>
  <dc:description>www.xkb1.com</dc:description>
  <cp:keywords>www.xkb1.com</cp:keywords>
  <dc:language>en-US</dc:language>
  <cp:lastModifiedBy>xkb1.com</cp:lastModifiedBy>
  <dcterms:modified xsi:type="dcterms:W3CDTF">2013-09-20T14:18:09Z</dcterms:modified>
  <cp:revision>46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