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EDD6-B3A0-4874-A429-D60904502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FFA1-E210-44AE-AE79-418DAC8C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C011-CAE8-49F4-8C66-FEF570201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6F52-F24A-4DC4-AE05-95E4A689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E165-D229-4683-A0B6-448ECB22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9D20-253F-4AC6-95CB-97CDB1B3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8917-D5A2-4483-9465-7EC2561D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C07F-5559-4D73-87BE-603DC4CD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F912-B3B0-48AB-B7E6-DBED5F23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E069-54FF-4BBB-A737-B0CFC694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B043-5E16-429C-891A-0621C866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279A-0D30-4A70-8CB2-7F944786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8F2F-ECB8-4BC7-AAAF-14FD24595BE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" Target="slide47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carbrake.wav" TargetMode="External"/><Relationship Id="rId3" Type="http://schemas.microsoft.com/office/2007/relationships/media" Target="file:///tmp/home/.config/libreoffice/4/user/gallery/carbrake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rbrake.wav" TargetMode="Externa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高考文言文考查要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实词（名词、动词、形容词、数词、量词、代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选出解释错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正确的一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虚词（副词、介词、连词、助词、语气词、叹词、拟声词）考纲规定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虚词：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而、何、乎、乃、其、且、若、所、为、焉、也、以、因、于、与、则、者、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选出意义和用法相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相同的一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特殊句式（判断句、省略句、倒装句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文章大意的把握（对原文有关内容分析和概括正确的一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断句和翻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843280" y="1484280"/>
            <a:ext cx="663480" cy="1104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643280" y="342900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c93a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484920" y="98280"/>
            <a:ext cx="1338840" cy="5067360"/>
          </a:xfrm>
          <a:prstGeom prst="rect">
            <a:avLst/>
          </a:prstGeom>
          <a:noFill/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宋体"/>
                <a:ea typeface="宋体"/>
              </a:rPr>
              <a:t>晋公子重耳流亡路线图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51 0.04213 C 0.03246 0.04422 0.03576 0.04561 0.03854 0.04815 C 0.04028 0.04977 0.04115 0.05301 0.04305 0.0544 C 0.0474 0.05718 0.05677 0.06042 0.05677 0.06042 C 0.06736 0.03913 0.07951 0.02084 0.09305 0.00278 C 0.09687 -0.00231 0.09844 -0.00995 0.10226 -0.01527 C 0.10746 -0.02268 0.12049 -0.03356 0.12049 -0.03356 C 0.12726 -0.04699 0.13385 -0.05578 0.14549 -0.06087 C 0.14774 -0.05787 0.14983 -0.05462 0.15226 -0.05185 C 0.15434 -0.04953 0.15729 -0.04837 0.15903 -0.0456 C 0.16042 -0.04305 0.1599 -0.03912 0.16128 -0.03657 C 0.16302 -0.0331 0.1658 -0.03055 0.16805 -0.02754 C 0.17535 -0.00069 0.1651 -0.03449 0.175 -0.01226 C 0.17621 -0.00949 0.17621 -0.00601 0.17726 -0.00324 C 0.18142 0.00788 0.18698 0.01413 0.19549 0.01806 C 0.19809 0.06667 0.18924 0.06528 0.21354 0.0544 C 0.2224 0.04653 0.23125 0.03866 0.2408 0.03311 C 0.24514 0.03056 0.25052 0.03056 0.25451 0.02709 C 0.26319 0.01922 0.25868 0.02223 0.26805 0.01806 C 0.29149 -0.003 0.34149 -0.00486 0.36805 -0.00925 C 0.37569 -0.0125 0.38333 -0.01481 0.3908 -0.01851 C 0.38542 0.00325 0.38889 -0.00555 0.38177 0.0088 C 0.3783 0.02269 0.37674 0.03797 0.36805 0.04815 C 0.34462 0.07593 0.36319 0.05209 0.34774 0.06343 C 0.34288 0.0669 0.33941 0.07362 0.33403 0.07547 C 0.33021 0.07686 0.32205 0.07917 0.31805 0.08149 C 0.30903 0.08681 0.3099 0.08936 0.3 0.09075 C 0.28941 0.09237 0.27865 0.09283 0.26805 0.09375 C 0.26285 0.09468 0.25746 0.09607 0.25226 0.09676 C 0.24392 0.09792 0.23437 0.09399 0.22726 0.09977 C 0.22413 0.10232 0.23194 0.10764 0.23403 0.11181 C 0.23715 0.11783 0.23993 0.12408 0.24305 0.1301 C 0.24462 0.13311 0.24774 0.13913 0.24774 0.13913 C 0.25035 0.14977 0.25538 0.15348 0.25903 0.16343 C 0.26458 0.17825 0.25729 0.16737 0.2658 0.18149 C 0.27153 0.19098 0.27049 0.1845 0.275 0.19676 C 0.27934 0.20834 0.27517 0.20463 0.27951 0.21806 C 0.28055 0.2213 0.28281 0.22385 0.28403 0.22709 C 0.28507 0.22987 0.28559 0.23311 0.28628 0.23612 C 0.28559 0.24815 0.28646 0.26065 0.28403 0.27246 C 0.28333 0.27593 0.28003 0.27825 0.27726 0.27848 C 0.26805 0.27917 0.23281 0.27408 0.22049 0.27246 C 0.20937 0.2676 0.20191 0.25625 0.1908 0.25139 C 0.18281 0.24028 0.17118 0.22987 0.16128 0.22107 C 0.15972 0.21806 0.15937 0.2132 0.15677 0.21181 C 0.15069 0.20857 0.1408 0.22709 0.1408 0.22709 C 0.13663 0.24375 0.1368 0.26135 0.13403 0.27848 C 0.12535 0.33149 0.12413 0.38612 0.1158 0.43913 C 0.11476 0.44538 0.11215 0.45116 0.11128 0.45741 C 0.1059 0.49306 0.09878 0.52709 0.075 0.54815 C 0.0375 0.54561 0.03385 0.55232 0.01128 0.52709 C 0.00295 0.51783 0.0059 0.51945 3.05556E-006 0.5088 C -0.00451 0.5007 -0.01372 0.48473 -0.01372 0.48473 C -0.0191 0.46297 -0.01563 0.47176 -0.02274 0.45741 C -0.0257 0.42616 -0.0276 0.39028 -0.04097 0.36343 C -0.04271 0.34445 -0.04462 0.32246 -0.05226 0.30579 C -0.05486 0.30024 -0.05868 0.29607 -0.06146 0.29075 C -0.06545 0.27454 -0.06111 0.2875 -0.07049 0.27246 C -0.0783 0.25973 -0.07188 0.26644 -0.07951 0.25139 C -0.08368 0.24306 -0.08924 0.23565 -0.09549 0.2301 C -0.10122 0.21852 -0.10781 0.20857 -0.11372 0.19676 C -0.11667 0.19075 -0.125 0.18149 -0.125 0.18149 C -0.1257 0.17755 -0.12726 0.17362 -0.12726 0.16945 C -0.12726 0.15672 -0.1092 0.13311 -0.10226 0.12709 C -0.1 0.12292 -0.09826 0.11829 -0.09549 0.11482 C -0.09149 0.10996 -0.08195 0.10278 -0.08195 0.10278 C -0.07656 0.08241 -0.08403 0.10301 -0.07274 0.09075 C -0.07066 0.08843 -0.07031 0.0838 -0.06823 0.08149 C -0.06059 0.07269 -0.04965 0.06505 -0.04097 0.05741 C -0.03646 0.05325 -0.03247 0.04746 -0.02726 0.04514 C -0.01788 0.04098 -0.0224 0.04399 -0.01372 0.03612 C 0.00486 0.03866 0.01007 0.03843 0.025 0.04815 C 0.02049 0.03033 0.02587 0.047 0.01805 0.03311 C 0.00451 0.00903 0.0151 0.02014 0.00226 0.0088 C 0.00156 0.00579 3.05556E-006 -0.00023 3.05556E-006 -0.00023 E">
                                      <p:cBhvr>
                                        <p:cTn id="132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c6210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05320" y="6216480"/>
            <a:ext cx="22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前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宋体"/>
              </a:rPr>
              <a:t>632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4360" y="1413000"/>
            <a:ext cx="7704000" cy="550800"/>
          </a:xfrm>
          <a:prstGeom prst="rect">
            <a:avLst/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3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晋国为什么要联合秦国围攻郑国呢？这是因为，秦国当时也要争夺霸权，也需要向外扩张。发生在公元前</a:t>
            </a:r>
            <a:r>
              <a:rPr b="1" lang="zh-CN" sz="3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632</a:t>
            </a:r>
            <a:r>
              <a:rPr b="1" lang="zh-CN" sz="3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年的城濮之战，事实上是两大军事集团之间的战争。一方是晋文公率晋、宋、齐、秦四国联军，另一方则是以楚国为主的楚、陈、蔡、郑四国联军。两年后，当晋国发动对郑国的战争时，自然要寻找得力的伙伴。秦、晋历史上关系一直很好；更重要的是，秦国也有向外扩张的愿望，所以，秦、晋联合也就是必然的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94000" y="233280"/>
            <a:ext cx="465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隶书"/>
              </a:rPr>
              <a:t>故事背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44360" y="115920"/>
            <a:ext cx="8820360" cy="792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50920" y="5877000"/>
            <a:ext cx="42447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隶书"/>
              </a:rPr>
              <a:t>公元前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隶书"/>
              </a:rPr>
              <a:t>630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3" action="ppaction://hlinksldjump"/>
              </a:rPr>
              <a:t>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51640" y="4508640"/>
            <a:ext cx="505080" cy="1224000"/>
          </a:xfrm>
          <a:custGeom>
            <a:avLst/>
            <a:gdLst>
              <a:gd name="textAreaLeft" fmla="*/ 67680 w 505080"/>
              <a:gd name="textAreaRight" fmla="*/ 437400 w 50508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2924280"/>
            <a:ext cx="504720" cy="1728720"/>
          </a:xfrm>
          <a:custGeom>
            <a:avLst/>
            <a:gdLst>
              <a:gd name="textAreaLeft" fmla="*/ 67320 w 504720"/>
              <a:gd name="textAreaRight" fmla="*/ 437400 w 504720"/>
              <a:gd name="textAreaTop" fmla="*/ 302400 h 1728720"/>
              <a:gd name="textAreaBottom" fmla="*/ 12535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4869000"/>
            <a:ext cx="287280" cy="288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c6210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32720" y="558972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9900"/>
                </a:solidFill>
                <a:latin typeface="Arial"/>
                <a:ea typeface="宋体"/>
              </a:rPr>
              <a:t>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27640" y="5084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宋体"/>
              </a:rPr>
              <a:t>新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04000" y="414972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9766400">
            <a:off x="6572160" y="37936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  <a:ea typeface="宋体"/>
              </a:rPr>
              <a:t>函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2365800">
            <a:off x="7543080" y="415080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  <a:ea typeface="宋体"/>
              </a:rPr>
              <a:t>氾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58920" y="270828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9900"/>
                </a:solidFill>
                <a:latin typeface="Arial"/>
                <a:ea typeface="宋体"/>
              </a:rPr>
              <a:t>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6720" y="141300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9900"/>
                </a:solidFill>
                <a:latin typeface="Arial"/>
                <a:ea typeface="宋体"/>
              </a:rPr>
              <a:t>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00080" y="3141720"/>
            <a:ext cx="13816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00cc"/>
                </a:solidFill>
                <a:latin typeface="Arial"/>
                <a:ea typeface="宋体"/>
              </a:rPr>
              <a:t>晋 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79560" y="4797360"/>
            <a:ext cx="13993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00cc"/>
                </a:solidFill>
                <a:latin typeface="Arial"/>
                <a:ea typeface="宋体"/>
              </a:rPr>
              <a:t>秦 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422360" y="2492280"/>
            <a:ext cx="65246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华文行楷"/>
              </a:rPr>
              <a:t>烛之武退秦师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39880" y="40593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左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92360" y="233280"/>
            <a:ext cx="60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隶书"/>
              </a:rPr>
              <a:t>四、课文朗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962000" y="5815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187115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68360" y="2189160"/>
            <a:ext cx="4319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无能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    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也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2997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       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其乏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56000" y="299736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秦伯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        )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与郑人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56000" y="1336680"/>
            <a:ext cx="47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   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何厌之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56000" y="386064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微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   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人之力不及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8000" y="2205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宋体"/>
              </a:rPr>
              <a:t>wé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76720" y="1413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宋体"/>
              </a:rPr>
              <a:t>f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16000" y="2997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宋体"/>
              </a:rPr>
              <a:t>gō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299736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宋体"/>
              </a:rPr>
              <a:t>yu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35640" y="393372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宋体"/>
              </a:rPr>
              <a:t>f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0920" y="134136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宋体"/>
              </a:rPr>
              <a:t>f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47322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宋体"/>
              </a:rPr>
              <a:t>zhu</a:t>
            </a:r>
            <a:r>
              <a:rPr b="0" lang="zh-CN" sz="3200" spc="-1" strike="noStrike">
                <a:solidFill>
                  <a:srgbClr val="6600cc"/>
                </a:solidFill>
                <a:latin typeface="Arial"/>
                <a:ea typeface="宋体"/>
              </a:rPr>
              <a:t>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0920" y="38671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宋体"/>
              </a:rPr>
              <a:t>qu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6280" y="1359000"/>
            <a:ext cx="49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秦军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     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2360" y="38782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若不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宋体"/>
              </a:rPr>
              <a:t>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     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4797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夜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      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而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40360" y="1557360"/>
            <a:ext cx="144360" cy="14292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220500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失其所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不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280" y="5589720"/>
            <a:ext cx="6364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使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  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、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        ）孙戍之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51640" y="2205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宋体"/>
              </a:rPr>
              <a:t>zh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1557360"/>
            <a:ext cx="144360" cy="14292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2422440"/>
            <a:ext cx="144360" cy="14292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40360" y="2421000"/>
            <a:ext cx="144360" cy="14292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3213000"/>
            <a:ext cx="144360" cy="14292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0360" y="4076640"/>
            <a:ext cx="144360" cy="14292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4149720"/>
            <a:ext cx="144360" cy="14292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40360" y="3213000"/>
            <a:ext cx="144360" cy="14292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5014800"/>
            <a:ext cx="144360" cy="14292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1280" y="5905440"/>
            <a:ext cx="144360" cy="14292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38360" y="561348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宋体"/>
              </a:rPr>
              <a:t>q</a:t>
            </a:r>
            <a:r>
              <a:rPr b="1" lang="zh-CN" sz="3200" spc="-1" strike="noStrike">
                <a:solidFill>
                  <a:srgbClr val="6600cc"/>
                </a:solidFill>
                <a:latin typeface="宋体"/>
                <a:ea typeface="宋体"/>
              </a:rPr>
              <a:t>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70360" y="561348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宋体"/>
              </a:rPr>
              <a:t>p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19280" y="1916280"/>
            <a:ext cx="73080" cy="7128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43280" y="1773360"/>
            <a:ext cx="73080" cy="7128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19280" y="4437000"/>
            <a:ext cx="73080" cy="7164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1280" y="4437000"/>
            <a:ext cx="73080" cy="7164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47640" y="2709720"/>
            <a:ext cx="73080" cy="7164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06920" y="3500280"/>
            <a:ext cx="73080" cy="7164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04000" y="2708280"/>
            <a:ext cx="73080" cy="7128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5300640"/>
            <a:ext cx="73080" cy="7164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94000" y="6121440"/>
            <a:ext cx="73080" cy="7128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76200" y="6121440"/>
            <a:ext cx="73080" cy="7128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4200" y="3500280"/>
            <a:ext cx="72720" cy="7164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92360" y="233280"/>
            <a:ext cx="60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隶书"/>
              </a:rPr>
              <a:t>五、字词注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3492360" y="279360"/>
            <a:ext cx="39592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六、翻译分析全文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367000" y="1089000"/>
            <a:ext cx="5040360" cy="106884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晋侯、秦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围郑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其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无礼于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贰于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也。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军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（于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函陵，秦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军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（于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汜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2360" y="4573440"/>
            <a:ext cx="5489640" cy="47772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晋文公、秦穆公联合围攻郑国，因为郑国曾对晋文公无礼，并且在与晋国结盟的情况下又与楚国结盟。晋军驻扎在函陵，秦军驻扎在汜南。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272360" y="907920"/>
            <a:ext cx="585720" cy="5860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382572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晋侯、秦伯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晋文公、秦穆公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。</a:t>
            </a:r>
            <a:r>
              <a:rPr b="1" lang="zh-CN" sz="2400" spc="-1" strike="noStrike">
                <a:solidFill>
                  <a:srgbClr val="9900cc"/>
                </a:solidFill>
                <a:latin typeface="Arial"/>
                <a:ea typeface="黑体"/>
              </a:rPr>
              <a:t>五级爵位制：公、侯、伯、子、男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1280" y="1449360"/>
            <a:ext cx="1800360" cy="138168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于：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无礼于晋：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于晋无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006640" y="1989000"/>
            <a:ext cx="2790720" cy="270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1961640" y="998280"/>
            <a:ext cx="1800360" cy="765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254720" y="233280"/>
            <a:ext cx="188928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以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因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736280" y="2529000"/>
            <a:ext cx="1305000" cy="900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1280" y="3429000"/>
            <a:ext cx="463536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贰于楚：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从属于晋的同时又从属于楚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贰，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从属二主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数→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57720" y="2484360"/>
            <a:ext cx="1754280" cy="1035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958080" y="3448080"/>
            <a:ext cx="188892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军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驻扎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名词→动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76640" y="2889360"/>
            <a:ext cx="2790720" cy="5839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75280" y="4573440"/>
            <a:ext cx="2962440" cy="8614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介绍背景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晋秦围郑。开篇为下文的情节发展埋下伏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367000" y="1792440"/>
            <a:ext cx="5040360" cy="106884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4644"/>
                </a:solidFill>
                <a:latin typeface="Arial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佚之狐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言于郑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曰：“国危矣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若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使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烛之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见秦君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必退。”公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4667400"/>
            <a:ext cx="8207280" cy="47772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佚之狐对郑伯说：“郑国处于危险之中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如果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能派烛之武去见秦伯，一定能说服他们撤军。”郑伯同意了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7360" y="196920"/>
            <a:ext cx="436392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烛之武、佚之狐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“之”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为介于姓、名之间的语气助词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烛之武、佚之狐，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都是郑国大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2862360" y="1314000"/>
            <a:ext cx="630000" cy="584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3085920" y="1314360"/>
            <a:ext cx="2430360" cy="12146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050920" y="3114720"/>
            <a:ext cx="1260720" cy="8096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7360" y="3878280"/>
            <a:ext cx="188892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师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军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27720" y="3294000"/>
            <a:ext cx="584280" cy="449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16640" y="3808440"/>
            <a:ext cx="252108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之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代词，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751280" y="998280"/>
            <a:ext cx="1395360" cy="14396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58080" y="549360"/>
            <a:ext cx="278892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若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如果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使：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6280" y="1719360"/>
            <a:ext cx="1800360" cy="88596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言于郑伯</a:t>
            </a:r>
            <a:r>
              <a:rPr b="1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=</a:t>
            </a:r>
            <a:r>
              <a:rPr b="1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于郑伯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050920" y="2124000"/>
            <a:ext cx="2476800" cy="446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097000" y="1224000"/>
            <a:ext cx="5942160" cy="15562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4644"/>
                </a:solidFill>
                <a:latin typeface="Arial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曰：“臣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壮也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不如人；今老矣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无能为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已。”公曰：“吾不能早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用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今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是寡人之过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郑亡，子亦有不利焉！”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之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2000" y="4915080"/>
            <a:ext cx="6165720" cy="116316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黑体"/>
              </a:rPr>
              <a:t>烛之武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推辞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黑体"/>
              </a:rPr>
              <a:t>说：“我年轻时，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尚且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黑体"/>
              </a:rPr>
              <a:t>不如别人；现在老了，做不成什么了。”郑文公说：“我早先没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重用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黑体"/>
              </a:rPr>
              <a:t>您，现在危急之中求您，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这是我的过错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黑体"/>
              </a:rPr>
              <a:t>。然而郑国灭亡了，对您也不利啊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黑体"/>
              </a:rPr>
              <a:t>!”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黑体"/>
              </a:rPr>
              <a:t>烛之武就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答应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黑体"/>
              </a:rPr>
              <a:t>了。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黑体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416736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之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黑体"/>
              </a:rPr>
              <a:t>助词，主谓之间，取消句子的独立性，不译。壮，形作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3672000" y="954000"/>
            <a:ext cx="1079280" cy="4953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832360" y="1042920"/>
            <a:ext cx="46080" cy="9460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02000" y="0"/>
            <a:ext cx="3241800" cy="82548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无能为也已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不能干什么了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为：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做（什么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已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，同“矣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1601280" y="2529000"/>
            <a:ext cx="584280" cy="4953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360" y="1673280"/>
            <a:ext cx="191628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子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古代对人的尊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1467000" y="2394000"/>
            <a:ext cx="3914640" cy="179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467000" y="3114720"/>
            <a:ext cx="1619280" cy="1035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5920" y="3983040"/>
            <a:ext cx="450036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是寡人之过也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是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，代词，这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过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，过错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也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，判断句的标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37360" y="3203640"/>
            <a:ext cx="1260360" cy="5857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958080" y="3878280"/>
            <a:ext cx="191592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然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然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2000" y="998640"/>
            <a:ext cx="1619280" cy="48996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宋体"/>
              </a:rPr>
              <a:t>辞：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宋体"/>
              </a:rPr>
              <a:t>推辞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1827000" y="1223640"/>
            <a:ext cx="944280" cy="314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93080" y="68400"/>
            <a:ext cx="946080" cy="93888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宋体"/>
              </a:rPr>
              <a:t>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宋体"/>
              </a:rPr>
              <a:t>尚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732720" y="998640"/>
            <a:ext cx="1260360" cy="4507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17000" y="2033640"/>
            <a:ext cx="1260360" cy="109224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宋体"/>
              </a:rPr>
              <a:t>而：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宋体"/>
              </a:rPr>
              <a:t>表转折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182000" y="2619360"/>
            <a:ext cx="94608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92720" y="3699000"/>
            <a:ext cx="135000" cy="6746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51280" y="3743280"/>
            <a:ext cx="2746440" cy="48996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（烛之武）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  <a:ea typeface="宋体"/>
              </a:rPr>
              <a:t>许之。许，答应；之，代词，代他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642000" y="5003640"/>
            <a:ext cx="2340000" cy="42300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写烛之武临危受命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谈谈你对烛之武的牢骚与郑伯的认错行为的理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581800" y="3727440"/>
            <a:ext cx="101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行楷"/>
              </a:rPr>
              <a:t>《左传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47640" y="1224000"/>
            <a:ext cx="6193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华文行楷"/>
              </a:rPr>
              <a:t>烛之武退秦师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华文行楷"/>
              <a:ea typeface="华文行楷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332000" y="494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405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6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367000" y="1089000"/>
            <a:ext cx="5040360" cy="106884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4644"/>
                </a:solidFill>
                <a:latin typeface="Arial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而出。见秦伯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：“秦、晋围郑，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知亡矣。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郑而有益于君，敢以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（之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烦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执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2720" y="4667400"/>
            <a:ext cx="8207280" cy="47772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当晚，烛之武用绳子从城上吊下去，见到了秦伯，烛之武说：“秦、晋两国围攻郑国，郑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已经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知道要灭亡了。如果灭掉郑国对您有什么好处，那就冒昧地拿（亡郑这件事）烦劳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311640" y="773280"/>
            <a:ext cx="1439640" cy="4060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42000" y="0"/>
            <a:ext cx="2881080" cy="10159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夜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名词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作状语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在夜里；当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1280" y="1898640"/>
            <a:ext cx="180036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亡：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使…灭亡。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使动用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871640" y="2303640"/>
            <a:ext cx="283536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2185920" y="593640"/>
            <a:ext cx="1936800" cy="7207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2360" y="189000"/>
            <a:ext cx="188928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缒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用绳子拴着从城墙上往下吊。而，表修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292360" y="2933640"/>
            <a:ext cx="1214280" cy="4510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92360" y="3338640"/>
            <a:ext cx="4275000" cy="52056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执事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：执行事务的人，对对方的敬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76640" y="189000"/>
            <a:ext cx="2385720" cy="48996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（烛之武）</a:t>
            </a:r>
            <a:r>
              <a:rPr b="1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727360" y="728640"/>
            <a:ext cx="404640" cy="9460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858080" y="1314360"/>
            <a:ext cx="990720" cy="109224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既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已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777000" y="1854000"/>
            <a:ext cx="900000" cy="457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219480" y="684360"/>
            <a:ext cx="5718240" cy="15562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4644"/>
                </a:solidFill>
                <a:latin typeface="Arial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国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以鄙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君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难也；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焉用亡郑以陪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？邻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君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也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舍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以为东道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行李之往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共其乏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君亦无所害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6280" y="4557600"/>
            <a:ext cx="8775720" cy="113580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越过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晋国把远方的郑国作为秦国的东部边境，您知道是很难的，（您）为什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要灭掉郑国而给邻国（晋国）增加土地呢？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邻邦的国力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雄厚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了，您的国力也就相对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削弱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了。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假如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放弃灭郑的打算，而让郑国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作为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您秦国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东方道路上的主人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，秦国的使者往来，郑国可以随时供给他们所缺乏的东西，对您秦国来说，也没有什么害处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2000" y="414360"/>
            <a:ext cx="270036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以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相当于“而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2950920" y="593280"/>
            <a:ext cx="1935000" cy="314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337000" y="549360"/>
            <a:ext cx="135000" cy="3585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67000" y="98280"/>
            <a:ext cx="587700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鄙：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把…当作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边邑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）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名词的意动用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3085920" y="1267920"/>
            <a:ext cx="990360" cy="1810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2000" y="957240"/>
            <a:ext cx="2881080" cy="82548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焉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为什么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以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相当于“而”，连词，表顺承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陪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同“倍”，增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77000" y="2124000"/>
            <a:ext cx="223920" cy="1349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51640" y="3384720"/>
            <a:ext cx="335736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以（之）为，把……当作；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东道主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东方道路上的主人。现泛指主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3041640" y="2438280"/>
            <a:ext cx="1486080" cy="4953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280" y="2664000"/>
            <a:ext cx="297036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行李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出使的人，使者。现指外出的人携带的随身物品。之：主谓之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932000" y="2573280"/>
            <a:ext cx="2025720" cy="900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67000" y="3338640"/>
            <a:ext cx="2205000" cy="113040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共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：同“供”。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乏困：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缺少的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东西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。</a:t>
            </a:r>
            <a:r>
              <a:rPr b="1" lang="zh-CN" sz="2000" spc="-1" strike="noStrike">
                <a:solidFill>
                  <a:srgbClr val="ff3300"/>
                </a:solidFill>
                <a:latin typeface="黑体"/>
                <a:ea typeface="黑体"/>
              </a:rPr>
              <a:t>形→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6280" y="0"/>
            <a:ext cx="187164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越：跨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2322360" y="279360"/>
            <a:ext cx="1663920" cy="6746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294040" y="673200"/>
            <a:ext cx="637920" cy="70380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其：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件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497720" y="998640"/>
            <a:ext cx="811080" cy="44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36640" y="3968640"/>
            <a:ext cx="2340000" cy="48996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宋体"/>
              </a:rPr>
              <a:t>厚：增强。形作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06360" y="2708280"/>
            <a:ext cx="973080" cy="48996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宋体"/>
              </a:rPr>
              <a:t>薄：削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816280" y="2168640"/>
            <a:ext cx="674640" cy="18907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92720" y="1989000"/>
            <a:ext cx="1844640" cy="9446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167360" y="1449360"/>
            <a:ext cx="4410000" cy="106884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且君尝为晋君赐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君焦、瑕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朝济而夕设版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君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所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2720" y="4238640"/>
            <a:ext cx="8207280" cy="58752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况且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，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曾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对晋惠公有恩惠，他也曾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答应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把焦、瑕两城割让给您，然而，他早上渡河归晋，晚上就筑城拒秦，这是您知道的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5920" y="1584360"/>
            <a:ext cx="3105000" cy="82548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朝济而夕设版焉：朝、夕，名词用作状语。济，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渡河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。设版，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指筑墙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。版，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筑土墙用的夹板</a:t>
            </a:r>
            <a:r>
              <a:rPr b="1" lang="zh-CN" sz="2400" spc="-1" strike="noStrike">
                <a:solidFill>
                  <a:srgbClr val="cc3399"/>
                </a:solidFill>
                <a:latin typeface="黑体"/>
                <a:ea typeface="黑体"/>
              </a:rPr>
              <a:t>（借代）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3580920" y="2394000"/>
            <a:ext cx="1081080" cy="2253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3671640" y="998640"/>
            <a:ext cx="944280" cy="4046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2360" y="189000"/>
            <a:ext cx="8891640" cy="52056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君尝为晋君赐矣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：您曾经给予晋君恩惠（指秦穆公曾派兵护送晋君回国）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尝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，曾经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为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，给予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赐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，恩惠，动作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5292720" y="2798640"/>
            <a:ext cx="853920" cy="5860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22720" y="3384720"/>
            <a:ext cx="4680000" cy="52056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之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：主谓之间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也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，表判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50920" y="819000"/>
            <a:ext cx="4635360" cy="15562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夫晋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何厌之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？既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东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郑，又欲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其西封，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秦，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取？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阙秦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利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君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1280" y="4213080"/>
            <a:ext cx="8207280" cy="140940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晋国有什么满足的呢？现在它已经在东边让郑国成为晋国的边界，又想扩张西部的疆界，如果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侵损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秦国，晋国将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哪里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得到他们所企求的土地呢？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使秦国受损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让晋国受益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，您还是好好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量掂量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吧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!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381640" y="1042920"/>
            <a:ext cx="450720" cy="460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2000" y="773280"/>
            <a:ext cx="3132000" cy="94716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既东封郑：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已经在东边让郑国成为晋国的边界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东：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向东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封：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疆界，使……成为疆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97000" y="3249720"/>
            <a:ext cx="1800000" cy="52056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肆：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延伸，扩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871280" y="1808280"/>
            <a:ext cx="1530360" cy="12603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2185560" y="593280"/>
            <a:ext cx="1171800" cy="405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142920"/>
            <a:ext cx="9144000" cy="52056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何厌之有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黑体"/>
              </a:rPr>
              <a:t>有何厌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“之”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黑体"/>
              </a:rPr>
              <a:t>，宾语前置的标志。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“厌”，同“餍”，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黑体"/>
              </a:rPr>
              <a:t>满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86280" y="2708280"/>
            <a:ext cx="0" cy="3603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11280" y="3068640"/>
            <a:ext cx="3421080" cy="52056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唯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：句首语气词，表示希望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图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：考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728640"/>
            <a:ext cx="1241280" cy="167796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阙：同“缺”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黑体"/>
              </a:rPr>
              <a:t>侵损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黑体"/>
              </a:rPr>
              <a:t>削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971280" y="1854000"/>
            <a:ext cx="809640" cy="314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394000"/>
            <a:ext cx="1241280" cy="48996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焉：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黑体"/>
              </a:rPr>
              <a:t>从哪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150920" y="2124000"/>
            <a:ext cx="2116080" cy="496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92720" y="3114720"/>
            <a:ext cx="2951280" cy="55080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以：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  <a:ea typeface="黑体"/>
              </a:rPr>
              <a:t>而，表顺承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01640" y="2573280"/>
            <a:ext cx="4591080" cy="8557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97000" y="1154160"/>
            <a:ext cx="5624280" cy="58140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秦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与郑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使杞子、逢孙、杨孙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之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还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1280" y="4103640"/>
            <a:ext cx="4905360" cy="53244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秦伯高兴了，就与郑国签订了盟约。并派杞子、逢孙、杨孙帮郑国守卫，就率军回国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672000" y="502920"/>
            <a:ext cx="720720" cy="8110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62360" y="208080"/>
            <a:ext cx="4481640" cy="58140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盟：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结盟 名词用作动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06280" y="3024360"/>
            <a:ext cx="2295720" cy="58140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戍：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守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1557000" y="2124000"/>
            <a:ext cx="1035000" cy="9003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1197000" y="819000"/>
            <a:ext cx="179280" cy="4939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52360" y="189000"/>
            <a:ext cx="3554640" cy="58140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说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：通“悦”，高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850920" y="2033640"/>
            <a:ext cx="90360" cy="8557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862360" y="3024360"/>
            <a:ext cx="2114280" cy="58140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乃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：于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921280" y="4329000"/>
            <a:ext cx="2970360" cy="58140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烛之武说退秦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赏析其高妙的劝说艺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83808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夜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，缒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而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出，见秦伯曰：“秦、晋围郑，郑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既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知亡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若亡郑而有益于君，敢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以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烦执事。越国以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鄙远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，君知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难也。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焉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用亡郑以陪邻？邻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之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厚，君之薄也。若舍郑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为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东道主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行李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之往来，共其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乏困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，君亦无所害。且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尝为晋君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赐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矣，许君焦、瑕，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朝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济而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夕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设版焉，君之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知也。夫晋，何厌之有？既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东封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郑，又欲肆其西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不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阙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秦，将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焉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取之？阙秦以利晋，唯君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图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之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62720" y="1295280"/>
            <a:ext cx="27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黑体"/>
              </a:rPr>
              <a:t>心平气和，平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52480" y="2133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黑体"/>
              </a:rPr>
              <a:t>诚恳，反问语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219280" y="1413000"/>
            <a:ext cx="304920" cy="914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248520" y="2209680"/>
            <a:ext cx="21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黑体"/>
              </a:rPr>
              <a:t>委婉，平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447920" y="3048120"/>
            <a:ext cx="29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黑体"/>
              </a:rPr>
              <a:t>反问，语调略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304812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黑体"/>
              </a:rPr>
              <a:t>较轻，有力而肯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6877080" y="2421000"/>
            <a:ext cx="380880" cy="99036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08720" y="2997360"/>
            <a:ext cx="76320" cy="152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51640" y="2997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黑体"/>
              </a:rPr>
              <a:t>拉长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76520" y="380988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黑体"/>
              </a:rPr>
              <a:t>态度诚恳，中速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7667280" y="3284640"/>
            <a:ext cx="304920" cy="914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27160" y="4668840"/>
            <a:ext cx="47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黑体"/>
              </a:rPr>
              <a:t>要有愤激之感，速度较前要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899640" y="5013360"/>
            <a:ext cx="381240" cy="7621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70160" y="5506920"/>
            <a:ext cx="18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黑体"/>
              </a:rPr>
              <a:t>反问语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46280" y="6269040"/>
            <a:ext cx="17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黑体"/>
              </a:rPr>
              <a:t>反问语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947920" y="5583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速承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038480" y="6400800"/>
            <a:ext cx="269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黑体"/>
              </a:rPr>
              <a:t>语气平缓，诚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54000"/>
            <a:ext cx="9144000" cy="45972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烛之武善于利用秦晋矛盾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打动了秦伯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使秦退兵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他是如何做到这一点的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2589840" y="81360"/>
            <a:ext cx="1441440" cy="2519640"/>
          </a:xfrm>
          <a:prstGeom prst="wedgeEllipseCallout">
            <a:avLst>
              <a:gd name="adj1" fmla="val -35907"/>
              <a:gd name="adj2" fmla="val 7917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857320" y="819000"/>
            <a:ext cx="120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欲扬先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退为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6200000">
            <a:off x="5396760" y="1524600"/>
            <a:ext cx="1303200" cy="1943280"/>
          </a:xfrm>
          <a:prstGeom prst="wedgeEllipseCallout">
            <a:avLst>
              <a:gd name="adj1" fmla="val -23328"/>
              <a:gd name="adj2" fmla="val 528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阐明利害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动摇秦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1511000">
            <a:off x="5373360" y="3133440"/>
            <a:ext cx="1684440" cy="1278000"/>
          </a:xfrm>
          <a:prstGeom prst="wedgeEllipseCallout">
            <a:avLst>
              <a:gd name="adj1" fmla="val -81527"/>
              <a:gd name="adj2" fmla="val 1870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782680" y="3336840"/>
            <a:ext cx="116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替秦着想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利相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2673800">
            <a:off x="-360" y="3573000"/>
            <a:ext cx="1824120" cy="1293840"/>
          </a:xfrm>
          <a:prstGeom prst="wedgeEllipseCallout">
            <a:avLst>
              <a:gd name="adj1" fmla="val -40416"/>
              <a:gd name="adj2" fmla="val -743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3240" y="3840120"/>
            <a:ext cx="116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引史为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挑拨秦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02360" y="5319720"/>
            <a:ext cx="2160360" cy="115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推测未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劝秦谨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143000" y="1111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亡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95680" y="117324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无利，有小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362320" y="838080"/>
            <a:ext cx="1981080" cy="685800"/>
            <a:chOff x="2362320" y="838080"/>
            <a:chExt cx="1981080" cy="685800"/>
          </a:xfrm>
        </p:grpSpPr>
        <p:sp>
          <p:nvSpPr>
            <p:cNvPr id="299" name=""/>
            <p:cNvSpPr/>
            <p:nvPr/>
          </p:nvSpPr>
          <p:spPr>
            <a:xfrm>
              <a:off x="2819520" y="83808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对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362320" y="1523880"/>
              <a:ext cx="1981080" cy="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143000" y="2940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舍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95680" y="29718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无害，有小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362320" y="2666880"/>
            <a:ext cx="1981080" cy="685800"/>
            <a:chOff x="2362320" y="2666880"/>
            <a:chExt cx="1981080" cy="685800"/>
          </a:xfrm>
        </p:grpSpPr>
        <p:sp>
          <p:nvSpPr>
            <p:cNvPr id="304" name=""/>
            <p:cNvSpPr/>
            <p:nvPr/>
          </p:nvSpPr>
          <p:spPr>
            <a:xfrm>
              <a:off x="2819520" y="266688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对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62320" y="3352680"/>
              <a:ext cx="1981080" cy="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1143000" y="4616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亡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95680" y="4678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将有大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362320" y="4343400"/>
            <a:ext cx="1981080" cy="685800"/>
            <a:chOff x="2362320" y="4343400"/>
            <a:chExt cx="1981080" cy="685800"/>
          </a:xfrm>
        </p:grpSpPr>
        <p:sp>
          <p:nvSpPr>
            <p:cNvPr id="309" name=""/>
            <p:cNvSpPr/>
            <p:nvPr/>
          </p:nvSpPr>
          <p:spPr>
            <a:xfrm>
              <a:off x="2819520" y="434340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对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362320" y="5029200"/>
              <a:ext cx="1981080" cy="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7075800" y="1295280"/>
            <a:ext cx="1155240" cy="4647960"/>
            <a:chOff x="7075800" y="1295280"/>
            <a:chExt cx="1155240" cy="4647960"/>
          </a:xfrm>
        </p:grpSpPr>
        <p:sp>
          <p:nvSpPr>
            <p:cNvPr id="312" name=""/>
            <p:cNvSpPr/>
            <p:nvPr/>
          </p:nvSpPr>
          <p:spPr>
            <a:xfrm>
              <a:off x="7467480" y="1295280"/>
              <a:ext cx="0" cy="46479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075800" y="1568520"/>
              <a:ext cx="1155240" cy="419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分析利弊，层层深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116360" y="1685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表面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189440" y="5286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深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2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高妙的劝说艺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26920" y="2923920"/>
            <a:ext cx="221472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有理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有利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有节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有体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48120" y="2971800"/>
            <a:ext cx="579096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援古例今，审时度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洞悉对方心理，缩短彼此距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不卑不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语言得体，语重心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66640" y="1905120"/>
            <a:ext cx="84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你平时可曾成功地劝说过别人？谈谈你的经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1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6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1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6" dur="5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理——摆事实、讲道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833480" y="1916280"/>
            <a:ext cx="615960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析形势——亡郑对秦无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亡郑对秦有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舍郑于秦有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纵观历史——晋国无信且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展望未来——预言晋将阙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8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3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3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8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利——化被动为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63480" y="1916280"/>
            <a:ext cx="822960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烛之武为何不去见晋侯而选择见秦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分析一下烛之武所洞悉的秦伯的心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（戒心、贪心、疑心…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烛之武是如何拉近彼此距离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（消除戒心、瓦解贪心、利用疑心…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5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0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5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0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5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7000" y="2336760"/>
            <a:ext cx="8551800" cy="2792520"/>
          </a:xfrm>
          <a:prstGeom prst="rect">
            <a:avLst/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800" spc="-1" strike="noStrike">
                <a:solidFill>
                  <a:srgbClr val="ff0000"/>
                </a:solidFill>
                <a:latin typeface="黑体"/>
                <a:ea typeface="黑体"/>
              </a:rPr>
              <a:t>《左传</a:t>
            </a:r>
            <a:r>
              <a:rPr b="1" lang="en-US" sz="3000" spc="-1" strike="noStrike">
                <a:solidFill>
                  <a:srgbClr val="0000cc"/>
                </a:solidFill>
                <a:latin typeface="黑体"/>
                <a:ea typeface="黑体"/>
              </a:rPr>
              <a:t>①</a:t>
            </a:r>
            <a:r>
              <a:rPr b="1" lang="zh-CN" sz="38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zh-CN" sz="3800" spc="-1" strike="noStrike">
                <a:solidFill>
                  <a:srgbClr val="ff0000"/>
                </a:solidFill>
                <a:latin typeface="黑体"/>
                <a:ea typeface="黑体"/>
              </a:rPr>
              <a:t>我国第一部</a:t>
            </a: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详细完整的</a:t>
            </a:r>
            <a:r>
              <a:rPr b="1" lang="zh-CN" sz="4200" spc="-1" strike="noStrike">
                <a:solidFill>
                  <a:srgbClr val="ff0000"/>
                </a:solidFill>
                <a:latin typeface="黑体"/>
                <a:ea typeface="黑体"/>
              </a:rPr>
              <a:t>编年体</a:t>
            </a:r>
            <a:r>
              <a:rPr b="1" lang="zh-CN" sz="3800" spc="-1" strike="noStrike">
                <a:solidFill>
                  <a:srgbClr val="ff0000"/>
                </a:solidFill>
                <a:latin typeface="黑体"/>
                <a:ea typeface="黑体"/>
              </a:rPr>
              <a:t>历史著作</a:t>
            </a: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，相传是鲁国的史官</a:t>
            </a:r>
            <a:r>
              <a:rPr b="1" lang="zh-CN" sz="3800" spc="-1" strike="noStrike">
                <a:solidFill>
                  <a:srgbClr val="ff0000"/>
                </a:solidFill>
                <a:latin typeface="黑体"/>
                <a:ea typeface="黑体"/>
              </a:rPr>
              <a:t>左丘明</a:t>
            </a: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所著。因为</a:t>
            </a:r>
            <a:r>
              <a:rPr b="1" lang="zh-CN" sz="3800" spc="-1" strike="noStrike">
                <a:solidFill>
                  <a:srgbClr val="ff0000"/>
                </a:solidFill>
                <a:latin typeface="黑体"/>
                <a:ea typeface="黑体"/>
              </a:rPr>
              <a:t>《左传》</a:t>
            </a: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800" spc="-1" strike="noStrike">
                <a:solidFill>
                  <a:srgbClr val="ff0000"/>
                </a:solidFill>
                <a:latin typeface="黑体"/>
                <a:ea typeface="黑体"/>
              </a:rPr>
              <a:t>《公羊传》《谷梁传》</a:t>
            </a: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都是为解说</a:t>
            </a:r>
            <a:r>
              <a:rPr b="1" lang="zh-CN" sz="3800" spc="-1" strike="noStrike">
                <a:solidFill>
                  <a:srgbClr val="ff0000"/>
                </a:solidFill>
                <a:latin typeface="黑体"/>
                <a:ea typeface="黑体"/>
              </a:rPr>
              <a:t>《春秋》</a:t>
            </a: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而作，所以它们又被称作</a:t>
            </a:r>
            <a:r>
              <a:rPr b="1" lang="zh-CN" sz="3800" spc="-1" strike="noStrike">
                <a:solidFill>
                  <a:srgbClr val="ff0000"/>
                </a:solidFill>
                <a:latin typeface="黑体"/>
                <a:ea typeface="黑体"/>
              </a:rPr>
              <a:t>“春秋三</a:t>
            </a:r>
            <a:r>
              <a:rPr b="1" lang="zh-CN" sz="3800" spc="-1" strike="noStrike">
                <a:solidFill>
                  <a:srgbClr val="0000ff"/>
                </a:solidFill>
                <a:latin typeface="黑体"/>
                <a:ea typeface="黑体"/>
              </a:rPr>
              <a:t>传</a:t>
            </a:r>
            <a:r>
              <a:rPr b="1" lang="zh-CN" sz="38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，《左传》又名《春秋左氏传》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①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传－－注释或解释经书的文字。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22360" y="142920"/>
            <a:ext cx="661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隶书"/>
              </a:rPr>
              <a:t>《左传》简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节——不卑不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71280" y="2565360"/>
            <a:ext cx="776916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既不刺激对方，也不失却本国尊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体——得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5920" y="1628640"/>
            <a:ext cx="8362800" cy="42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要尊重他人。只有尊重他人才会赢得别人的尊重，烛之武对于秦伯，一口一个“君”，站在对方的立场上，考虑对方的厉害得失。每一言每一行无不表现了对对方的尊敬。这种尊敬赢得了对方的好感，从而也为自己的说服工作打好了感情基础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作为臣子，委婉提醒，不提要求，一切请秦伯自己定夺。满足了人潜意识中的自尊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2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7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4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一个为纾国难挺身而出的忠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一个远见卓识的杰出的外交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一个晓理动情的天才式演说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一个善用矛盾化干戈为玉帛的政治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一个审时度势的出色的心理分析大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4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9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4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9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4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塑造人物的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827000" y="2663640"/>
            <a:ext cx="6389640" cy="27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环境烘托（疾风知劲草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他人的陪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个性化的语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细节描写“夜缒而出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690560" y="684360"/>
            <a:ext cx="5761080" cy="15562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子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请击之。公曰：“不可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微夫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之力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此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人之力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而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之，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；失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；以乱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整，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吾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还也。”亦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去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4807080"/>
            <a:ext cx="9144000" cy="8614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子犯请求晋侯下令攻击秦军。晋侯说：“不行。假如没有那人的支持，我就不会有今天。依靠了别人的力量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却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又去损害他，这是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仁义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；失掉自己的同盟国，这是不明智的；以混乱代替联合一致，这是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符合武德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。我们还是回去吧。”这样晋军也撤离了郑国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645920" y="1538280"/>
            <a:ext cx="2700360" cy="2253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62360" y="73080"/>
            <a:ext cx="423072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微：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假如没有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夫人：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那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550280" y="1089000"/>
            <a:ext cx="159372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因：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依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877000" y="1358640"/>
            <a:ext cx="1665360" cy="903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1106640" y="503280"/>
            <a:ext cx="1304640" cy="496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1280" y="73080"/>
            <a:ext cx="441036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子犯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狐偃的字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之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指秦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1241280" y="1224000"/>
            <a:ext cx="1216080" cy="719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1280" y="863640"/>
            <a:ext cx="144000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敝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损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1285560" y="2124000"/>
            <a:ext cx="4816440" cy="3603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2259000"/>
            <a:ext cx="1440000" cy="82548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与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结交，亲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1467000" y="2619360"/>
            <a:ext cx="674640" cy="584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3429000"/>
            <a:ext cx="175572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知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同“智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492000" y="2573280"/>
            <a:ext cx="2970360" cy="8557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232000" y="3448080"/>
            <a:ext cx="364500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其：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表商量语气，还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672000" y="2933640"/>
            <a:ext cx="2609640" cy="7207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92720" y="3429000"/>
            <a:ext cx="184464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去：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离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81640" y="2664000"/>
            <a:ext cx="990720" cy="14126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42360" y="2529000"/>
            <a:ext cx="143964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易：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1494000"/>
            <a:ext cx="1646280" cy="48996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及：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黑体"/>
              </a:rPr>
              <a:t>达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346640" y="2754360"/>
            <a:ext cx="2862360" cy="48996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其：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黑体"/>
              </a:rPr>
              <a:t>代词，自己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246640" y="2035080"/>
            <a:ext cx="674640" cy="6732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72000" y="4103640"/>
            <a:ext cx="4410000" cy="48996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武：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黑体"/>
              </a:rPr>
              <a:t>战时应遵守的道义准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971640" y="4103640"/>
            <a:ext cx="2484360" cy="48996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之：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黑体"/>
              </a:rPr>
              <a:t>代郑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2410920" y="3114720"/>
            <a:ext cx="1395720" cy="1035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2322360" y="549360"/>
            <a:ext cx="2835360" cy="8539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97360" y="2529000"/>
            <a:ext cx="3735360" cy="2253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3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6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9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1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3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4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结局：晋军退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00000" y="1915920"/>
            <a:ext cx="3672000" cy="34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晋文公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将其与“子犯”相比，看其一代霸主之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晉文公"/>
          <p:cNvPicPr/>
          <p:nvPr/>
        </p:nvPicPr>
        <p:blipFill>
          <a:blip r:embed="rId1"/>
          <a:stretch/>
        </p:blipFill>
        <p:spPr>
          <a:xfrm>
            <a:off x="5292720" y="1341360"/>
            <a:ext cx="299088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282760" y="593640"/>
            <a:ext cx="4224240" cy="72072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叙事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909720" y="156384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隶书"/>
              </a:rPr>
              <a:t>秦晋围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96760" y="27162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隶书"/>
              </a:rPr>
              <a:t>临危受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00000" y="379584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隶书"/>
              </a:rPr>
              <a:t>说退秦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00000" y="49417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隶书"/>
              </a:rPr>
              <a:t>晋军退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590840" y="227664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619280" y="3403440"/>
            <a:ext cx="533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619280" y="4508640"/>
            <a:ext cx="533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987640" y="3284640"/>
            <a:ext cx="216000" cy="1938240"/>
          </a:xfrm>
          <a:custGeom>
            <a:avLst/>
            <a:gdLst>
              <a:gd name="textAreaLeft" fmla="*/ 137880 w 216000"/>
              <a:gd name="textAreaRight" fmla="*/ 216360 w 216000"/>
              <a:gd name="textAreaTop" fmla="*/ 50400 h 1938240"/>
              <a:gd name="textAreaBottom" fmla="*/ 1887840 h 1938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03640" y="306864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亡郑利晋而阙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03640" y="39337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存郑利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203640" y="479412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晋忘恩负义，不可共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043040" y="3139920"/>
            <a:ext cx="139932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三点理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7380360" y="3290760"/>
            <a:ext cx="216000" cy="19386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0400 h 1938600"/>
              <a:gd name="textAreaBottom" fmla="*/ 1888200 h 193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5" dur="indefinite" restart="never" nodeType="tmRoot">
          <p:childTnLst>
            <p:seq>
              <p:cTn id="1466" dur="indefinite" nodeType="mainSeq">
                <p:childTnLst>
                  <p:par>
                    <p:cTn id="1467" fill="hold">
                      <p:stCondLst>
                        <p:cond delay="0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塑造人物的方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7280" y="1773000"/>
            <a:ext cx="749952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环境烘托（疾风知劲草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他人的陪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个性化的语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细节描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684360" y="476280"/>
            <a:ext cx="648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90360" y="425520"/>
            <a:ext cx="8937720" cy="58140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讨论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你最欣赏的是哪一个人物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理由是什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364120" y="1492920"/>
            <a:ext cx="21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郑  伯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礼贤下士，从谏如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17360" y="212400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佚之狐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识人才的伯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97000" y="2798640"/>
            <a:ext cx="85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烛之武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官微人轻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怀才不遇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临危受命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 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不避艰险，深明大义，才智超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97000" y="3968640"/>
            <a:ext cx="805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秦  伯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以利为重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亦敌亦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变化难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     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政治手腕了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134000" y="5229360"/>
            <a:ext cx="693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晋   侯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以利为重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以”不仁”为借口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沉着应对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    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有政治家的风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7" dur="indefinite" restart="never" nodeType="tmRoot">
          <p:childTnLst>
            <p:seq>
              <p:cTn id="1548" dur="indefinite" nodeType="mainSeq">
                <p:childTnLst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1403280" y="2097000"/>
            <a:ext cx="586764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</a:rPr>
              <a:t>知识点归纳</a:t>
            </a:r>
            <a:endParaRPr b="0" lang="en-US" sz="6600" spc="1" strike="noStrike">
              <a:ln w="381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</p:spTree>
  </p:cSld>
  <p:timing>
    <p:tnLst>
      <p:par>
        <p:cTn id="1571" dur="indefinite" restart="never" nodeType="tmRoot">
          <p:childTnLst>
            <p:seq>
              <p:cTn id="1572" dur="indefinite" nodeType="mainSeq">
                <p:childTnLst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97000" y="1628640"/>
            <a:ext cx="8610480" cy="93168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《左传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也是一部富有文学价值的历史散文著作。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《左传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善于描写战争和记述外交辞令，记事条理清楚，详略得当；写人简洁生动，人物形象栩栩如生，是历代散文的典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01640" y="380880"/>
            <a:ext cx="639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隶书"/>
              </a:rPr>
              <a:t>《左传》简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"/>
          </p:cNvPr>
          <p:cNvSpPr/>
          <p:nvPr/>
        </p:nvSpPr>
        <p:spPr>
          <a:xfrm>
            <a:off x="8534520" y="6095880"/>
            <a:ext cx="228600" cy="5335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50366">
                <a:moveTo>
                  <a:pt x="0" y="0"/>
                </a:moveTo>
                <a:lnTo>
                  <a:pt x="21600" y="0"/>
                </a:lnTo>
                <a:lnTo>
                  <a:pt x="21600" y="50366"/>
                </a:lnTo>
                <a:lnTo>
                  <a:pt x="0" y="50366"/>
                </a:lnTo>
                <a:close/>
              </a:path>
              <a:path fill="lightenLess" w="21600" h="503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0366">
                <a:moveTo>
                  <a:pt x="21600" y="0"/>
                </a:moveTo>
                <a:lnTo>
                  <a:pt x="21600" y="50366"/>
                </a:lnTo>
                <a:lnTo>
                  <a:pt x="20200" y="48966"/>
                </a:lnTo>
                <a:lnTo>
                  <a:pt x="20200" y="1400"/>
                </a:lnTo>
                <a:close/>
              </a:path>
              <a:path fill="darkenLess" w="21600" h="50366">
                <a:moveTo>
                  <a:pt x="21600" y="50366"/>
                </a:moveTo>
                <a:lnTo>
                  <a:pt x="0" y="50366"/>
                </a:lnTo>
                <a:lnTo>
                  <a:pt x="1400" y="48966"/>
                </a:lnTo>
                <a:lnTo>
                  <a:pt x="20200" y="48966"/>
                </a:lnTo>
                <a:close/>
              </a:path>
              <a:path fill="lighten" w="21600" h="50366">
                <a:moveTo>
                  <a:pt x="0" y="50366"/>
                </a:moveTo>
                <a:lnTo>
                  <a:pt x="0" y="0"/>
                </a:lnTo>
                <a:lnTo>
                  <a:pt x="1400" y="1400"/>
                </a:lnTo>
                <a:lnTo>
                  <a:pt x="1400" y="48966"/>
                </a:lnTo>
                <a:close/>
              </a:path>
              <a:path fill="darken" w="21600" h="50366">
                <a:moveTo>
                  <a:pt x="3794" y="21684"/>
                </a:moveTo>
                <a:lnTo>
                  <a:pt x="4707" y="21684"/>
                </a:lnTo>
                <a:lnTo>
                  <a:pt x="5090" y="22050"/>
                </a:lnTo>
                <a:lnTo>
                  <a:pt x="14299" y="22050"/>
                </a:lnTo>
                <a:lnTo>
                  <a:pt x="14856" y="22607"/>
                </a:lnTo>
                <a:lnTo>
                  <a:pt x="14856" y="23155"/>
                </a:lnTo>
                <a:lnTo>
                  <a:pt x="16701" y="23155"/>
                </a:lnTo>
                <a:lnTo>
                  <a:pt x="17067" y="22607"/>
                </a:lnTo>
                <a:lnTo>
                  <a:pt x="17806" y="22607"/>
                </a:lnTo>
                <a:lnTo>
                  <a:pt x="17806" y="27759"/>
                </a:lnTo>
                <a:lnTo>
                  <a:pt x="17067" y="27759"/>
                </a:lnTo>
                <a:lnTo>
                  <a:pt x="16701" y="27211"/>
                </a:lnTo>
                <a:lnTo>
                  <a:pt x="14856" y="27211"/>
                </a:lnTo>
                <a:lnTo>
                  <a:pt x="14856" y="28490"/>
                </a:lnTo>
                <a:lnTo>
                  <a:pt x="5273" y="28490"/>
                </a:lnTo>
                <a:lnTo>
                  <a:pt x="5273" y="24260"/>
                </a:lnTo>
                <a:lnTo>
                  <a:pt x="5090" y="24260"/>
                </a:lnTo>
                <a:lnTo>
                  <a:pt x="4707" y="24626"/>
                </a:lnTo>
                <a:lnTo>
                  <a:pt x="3794" y="246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602080" y="836640"/>
            <a:ext cx="3456000" cy="82512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行楷"/>
              </a:rPr>
              <a:t>总结字词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070520" y="2117880"/>
            <a:ext cx="825120" cy="314136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通假字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古今异义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文言虚词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词类活用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５、特殊句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1" dur="indefinite" restart="never" nodeType="tmRoot">
          <p:childTnLst>
            <p:seq>
              <p:cTn id="1582" dur="indefinite" nodeType="mainSeq">
                <p:childTnLst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41280" y="1268280"/>
            <a:ext cx="5904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今老矣，无能为也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行李之往来，共其乏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何厌之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阙秦以利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秦伯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失其所与，不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97000" y="142920"/>
            <a:ext cx="2340000" cy="82512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通假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86440" y="1325520"/>
            <a:ext cx="2906640" cy="520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已通矣，语气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237360" y="2117880"/>
            <a:ext cx="2438280" cy="520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共通供，供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021360" y="2924280"/>
            <a:ext cx="2438280" cy="520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厌通餍，满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058080" y="4464000"/>
            <a:ext cx="2438280" cy="520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说通悦，高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058080" y="5364000"/>
            <a:ext cx="2438280" cy="520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知通智，明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102360" y="3789360"/>
            <a:ext cx="3041640" cy="520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阙通缺，使…削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3" dur="indefinite" restart="never" nodeType="tmRoot">
          <p:childTnLst>
            <p:seq>
              <p:cTn id="1614" dur="indefinite" nodeType="mainSeq">
                <p:childTnLst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625920" y="368280"/>
            <a:ext cx="178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（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华文彩云"/>
              </a:rPr>
              <a:t>古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彩云"/>
              </a:rPr>
              <a:t>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817280" y="1471680"/>
            <a:ext cx="5045400" cy="412344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贰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于楚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从属二主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数词二的大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以为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东道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东方道路上的主人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泛指主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行李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之往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使者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指外出的人携带的随身物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今有急而求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您，对人的敬称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儿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越国以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鄙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边远的地方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粗鄙、低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亦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去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离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距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微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夫人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之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那个人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尊称人的妻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31640" y="324000"/>
            <a:ext cx="2881440" cy="8650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古今异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8" dur="indefinite" restart="never" nodeType="tmRoot">
          <p:childTnLst>
            <p:seq>
              <p:cTn id="1659" dur="indefinite" nodeType="mainSeq">
                <p:childTnLst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41280" y="324000"/>
            <a:ext cx="3446640" cy="92232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文言虚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61640" y="1449000"/>
            <a:ext cx="5489640" cy="49770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以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无礼于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亡郑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陪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敢以烦执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其无礼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佚之狐言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郑伯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且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其无礼于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贰于楚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君尝为晋君赐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其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礼于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且贰于楚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越国以鄙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君知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难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失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所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吾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还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785920" y="1494000"/>
            <a:ext cx="3916440" cy="53640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因为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表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连词，而，表顺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对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表对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连词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连词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况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代词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它郑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代词 ，这件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自己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表商量语气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还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2" dur="indefinite" restart="never" nodeType="tmRoot">
          <p:childTnLst>
            <p:seq>
              <p:cTn id="1673" dur="indefinite" nodeType="mainSeq">
                <p:childTnLst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-99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368280"/>
            <a:ext cx="822960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而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今急而求子                                   却，表转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夜缒而出                                      表修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若亡郑而有益于君                        表顺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朝济而夕设版焉                            表转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臣之壮也                  用于主谓之间，起取消句子独立性的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公从之                                        代词，代“他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寡人之过也                             结构助词，“的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唯君图之                                    代词，代这件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子亦有不利焉                               句末语气词，可不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焉用亡郑以陪邻                    疑问词，何，相当于“怎么”，“为什么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朝济而夕设版焉                             兼词，相当于“于之”，在这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焉取之                                      疑问词，相当于“哪里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85920" y="458640"/>
            <a:ext cx="2776320" cy="86544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词类活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11280" y="1700280"/>
            <a:ext cx="7966080" cy="404028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军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函陵，秦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军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氾南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驻扎）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越国以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鄙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远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意动，以……为边邑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与郑人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盟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订了盟约；建立同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唯君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图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之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考虑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既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封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郑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使动，使…成为疆界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阙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秦以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利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晋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使动，使…受损、使…得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432240" y="595440"/>
            <a:ext cx="2895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名词→动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0" dur="indefinite" restart="never" nodeType="tmRoot">
          <p:childTnLst>
            <p:seq>
              <p:cTn id="1711" dur="indefinite" nodeType="mainSeq">
                <p:childTnLst>
                  <p:par>
                    <p:cTn id="1712" fill="hold">
                      <p:stCondLst>
                        <p:cond delay="0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2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755640" y="2060640"/>
            <a:ext cx="7296120" cy="28062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黑体"/>
              </a:rPr>
              <a:t>既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黑体"/>
              </a:rPr>
              <a:t>东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黑体"/>
              </a:rPr>
              <a:t>封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（在东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黑体"/>
              </a:rPr>
              <a:t>又欲肆其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黑体"/>
              </a:rPr>
              <a:t>西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黑体"/>
              </a:rPr>
              <a:t>封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黑体"/>
              </a:rPr>
              <a:t>（在西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黑体"/>
              </a:rPr>
              <a:t>夜，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黑体"/>
              </a:rPr>
              <a:t>缒而出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黑体"/>
              </a:rPr>
              <a:t>（在晚上，当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黑体"/>
              </a:rPr>
              <a:t>朝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黑体"/>
              </a:rPr>
              <a:t>济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黑体"/>
              </a:rPr>
              <a:t>夕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黑体"/>
              </a:rPr>
              <a:t>设版焉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黑体"/>
              </a:rPr>
              <a:t>（在早上；在黄昏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32240" y="620640"/>
            <a:ext cx="28954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名词→状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41280" y="458640"/>
            <a:ext cx="2881440" cy="86544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词类活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3" dur="indefinite" restart="never" nodeType="tmRoot">
          <p:childTnLst>
            <p:seq>
              <p:cTn id="1724" dur="indefinite" nodeType="mainSeq">
                <p:childTnLst>
                  <p:par>
                    <p:cTn id="1725" fill="hold">
                      <p:stCondLst>
                        <p:cond delay="0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755640" y="2262240"/>
            <a:ext cx="7943760" cy="58140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且君尝为晋君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赐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矣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恩惠，好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03640" y="592200"/>
            <a:ext cx="28954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动词→名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5920" y="476280"/>
            <a:ext cx="2881080" cy="8650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词类活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6" dur="indefinite" restart="never" nodeType="tmRoot">
          <p:childTnLst>
            <p:seq>
              <p:cTn id="1737" dur="indefinite" nodeType="mainSeq">
                <p:childTnLst>
                  <p:par>
                    <p:cTn id="1738" fill="hold">
                      <p:stCondLst>
                        <p:cond delay="0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4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087720" y="6922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形容词→名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2060640"/>
            <a:ext cx="7596360" cy="228744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臣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壮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也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（壮年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越国以鄙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（远方，边远的地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共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乏困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（缺少的东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50920" y="476280"/>
            <a:ext cx="2881080" cy="8650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词类活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9" dur="indefinite" restart="never" nodeType="tmRoot">
          <p:childTnLst>
            <p:seq>
              <p:cTn id="1750" dur="indefinite" nodeType="mainSeq">
                <p:childTnLst>
                  <p:par>
                    <p:cTn id="1751" fill="hold">
                      <p:stCondLst>
                        <p:cond delay="0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4341960" y="566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形容词→动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55640" y="1989000"/>
            <a:ext cx="8182080" cy="228744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邻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厚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，君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薄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也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。（变得雄厚；变得薄弱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因人之利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敝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损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肆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其西封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扩张、延伸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1280" y="476280"/>
            <a:ext cx="2881080" cy="8650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词类活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2" dur="indefinite" restart="never" nodeType="tmRoot">
          <p:childTnLst>
            <p:seq>
              <p:cTn id="1763" dur="indefinite" nodeType="mainSeq">
                <p:childTnLst>
                  <p:par>
                    <p:cTn id="1764" fill="hold">
                      <p:stCondLst>
                        <p:cond delay="0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1341360"/>
            <a:ext cx="835200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《左传》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以《春秋》的记事为纲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以时间先后为序，详细地记述了春秋时期各国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政外交等大小事实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起于鲁隐公元年，终于鲁哀公二十七年）。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真实地反映了当时的社会面貌和政治状况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记事比《春秋》详细而具体。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作者在选材、描写和评论时，往往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带有自己的褒贬和爱憎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。作者以其敏锐的观察力，深刻的认识和高度的文学修养，对许多大小历史事件，作了深刻而生动的记述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260280"/>
            <a:ext cx="38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华文彩云"/>
              </a:rPr>
              <a:t>关于《左传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978000" y="566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使动用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021400" y="1819440"/>
            <a:ext cx="4082040" cy="228744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烛之武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退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秦师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使…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退却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若不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阙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秦，将焉取之？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使…亏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若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亡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郑而有益于君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使…灭亡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11280" y="476280"/>
            <a:ext cx="2881080" cy="8650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词类活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6" dur="indefinite" restart="never" nodeType="tmRoot">
          <p:childTnLst>
            <p:seq>
              <p:cTn id="1777" dur="indefinite" nodeType="mainSeq">
                <p:childTnLst>
                  <p:par>
                    <p:cTn id="1778" fill="hold">
                      <p:stCondLst>
                        <p:cond delay="0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fill="hold">
                      <p:stCondLst>
                        <p:cond delay="indefinite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411120" y="1868400"/>
            <a:ext cx="8481960" cy="465336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烛之武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）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许之               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主语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烛之武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）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辞曰：“臣之壮也……”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主语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晋惠公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）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许君焦、瑕   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主语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烛之武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）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夜，缒而出   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主语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敢以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之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）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烦执事         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宾语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晋军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于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）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函陵，秦军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于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）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氾南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介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854520" y="6922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省略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11280" y="476280"/>
            <a:ext cx="2881080" cy="8650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特殊句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6" dur="indefinite" restart="never" nodeType="tmRoot">
          <p:childTnLst>
            <p:seq>
              <p:cTn id="1797" dur="indefinite" nodeType="mainSeq">
                <p:childTnLst>
                  <p:par>
                    <p:cTn id="1798" fill="hold">
                      <p:stCondLst>
                        <p:cond delay="0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50920" y="1403280"/>
            <a:ext cx="8686800" cy="496836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以其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无礼于晋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9900cc"/>
                </a:solidFill>
                <a:latin typeface="黑体"/>
                <a:ea typeface="黑体"/>
              </a:rPr>
              <a:t>于晋无礼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——介词结构后置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且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贰于楚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也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9900cc"/>
                </a:solidFill>
                <a:latin typeface="黑体"/>
                <a:ea typeface="黑体"/>
              </a:rPr>
              <a:t>于楚从属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——介词结构后置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佚之狐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言于郑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9900cc"/>
                </a:solidFill>
                <a:latin typeface="黑体"/>
                <a:ea typeface="黑体"/>
              </a:rPr>
              <a:t>于郑伯言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——介词结构后置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若亡郑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有益于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9900cc"/>
                </a:solidFill>
                <a:latin typeface="黑体"/>
                <a:ea typeface="黑体"/>
              </a:rPr>
              <a:t>于君有益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——介词结构后置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何厌之有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9900cc"/>
                </a:solidFill>
                <a:latin typeface="黑体"/>
                <a:ea typeface="黑体"/>
              </a:rPr>
              <a:t>有何厌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——宾语前置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51280" y="5032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倒装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5920" y="358920"/>
            <a:ext cx="2881080" cy="8650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特殊句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2" dur="indefinite" restart="never" nodeType="tmRoot">
          <p:childTnLst>
            <p:seq>
              <p:cTn id="1813" dur="indefinite" nodeType="mainSeq">
                <p:childTnLst>
                  <p:par>
                    <p:cTn id="1814" fill="hold">
                      <p:stCondLst>
                        <p:cond delay="0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2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4028400" y="566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判断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165760" y="2306520"/>
            <a:ext cx="4509000" cy="145836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邻之厚，君之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也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（“也”表判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是寡人之过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也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。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（“也”表判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85920" y="476280"/>
            <a:ext cx="2881080" cy="8650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特殊句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4" dur="indefinite" restart="never" nodeType="tmRoot">
          <p:childTnLst>
            <p:seq>
              <p:cTn id="1825" dur="indefinite" nodeType="mainSeq">
                <p:childTnLst>
                  <p:par>
                    <p:cTn id="1826" fill="hold">
                      <p:stCondLst>
                        <p:cond delay="0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96720" y="2555280"/>
            <a:ext cx="8352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cc"/>
                </a:solidFill>
                <a:latin typeface="黑体"/>
                <a:ea typeface="黑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及郑，郑文公亦不礼焉。叔詹谏曰</a:t>
            </a:r>
            <a:r>
              <a:rPr b="1" lang="zh-CN" sz="3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：“臣闻天之所启，人弗及也，晋公子有三焉，天其或者将建诸？君其礼焉！男女同姓，其生不蕃。晋公子，姬出也</a:t>
            </a:r>
            <a:r>
              <a:rPr b="1" lang="zh-CN" sz="3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，而至于今，一也。离外之患</a:t>
            </a:r>
            <a:r>
              <a:rPr b="1" lang="zh-CN" sz="3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，而天不靖晋国</a:t>
            </a:r>
            <a:r>
              <a:rPr b="1" lang="zh-CN" sz="3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，殆将启之，二也。有三士足以上人</a:t>
            </a:r>
            <a:r>
              <a:rPr b="1" lang="zh-CN" sz="3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，而从之，三也。 晋、郑同侪</a:t>
            </a:r>
            <a:r>
              <a:rPr b="1" lang="zh-CN" sz="3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⑥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，其过子弟固将礼焉，况天之所启乎？”弗听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04720" y="5386320"/>
            <a:ext cx="802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黑体"/>
                <a:ea typeface="黑体"/>
              </a:rPr>
              <a:t>    ①</a:t>
            </a:r>
            <a:r>
              <a:rPr b="1" lang="zh-CN" sz="2600" spc="-1" strike="noStrike">
                <a:solidFill>
                  <a:srgbClr val="000099"/>
                </a:solidFill>
                <a:latin typeface="黑体"/>
                <a:ea typeface="黑体"/>
              </a:rPr>
              <a:t>叔詹，郑国大夫。  ②姬出，姬姓父母所生，因重耳父母都姓姬。  ③离，同“罹”</a:t>
            </a:r>
            <a:r>
              <a:rPr b="1" lang="zh-CN" sz="2600" spc="-1" strike="noStrike">
                <a:solidFill>
                  <a:srgbClr val="000099"/>
                </a:solidFill>
                <a:latin typeface="黑体"/>
                <a:ea typeface="黑体"/>
              </a:rPr>
              <a:t>(lí)</a:t>
            </a:r>
            <a:r>
              <a:rPr b="1" lang="zh-CN" sz="2600" spc="-1" strike="noStrike">
                <a:solidFill>
                  <a:srgbClr val="000099"/>
                </a:solidFill>
                <a:latin typeface="黑体"/>
                <a:ea typeface="黑体"/>
              </a:rPr>
              <a:t>，遭受。  ④靖，安定。  ⑤三士，指狐偃、赵衰、贾佗三人。   ⑥侪</a:t>
            </a:r>
            <a:r>
              <a:rPr b="1" lang="zh-CN" sz="2600" spc="-1" strike="noStrike">
                <a:solidFill>
                  <a:srgbClr val="000099"/>
                </a:solidFill>
                <a:latin typeface="黑体"/>
                <a:ea typeface="黑体"/>
              </a:rPr>
              <a:t>(chái)</a:t>
            </a:r>
            <a:r>
              <a:rPr b="1" lang="zh-CN" sz="2600" spc="-1" strike="noStrike">
                <a:solidFill>
                  <a:srgbClr val="000099"/>
                </a:solidFill>
                <a:latin typeface="黑体"/>
                <a:ea typeface="黑体"/>
              </a:rPr>
              <a:t>：类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95280" y="4941720"/>
            <a:ext cx="792180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95280" y="6202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《左传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·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晋公子重耳之亡》的相关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>
            <a:hlinkClick r:id="rId1" action="ppaction://hlinksldjump"/>
          </p:cNvPr>
          <p:cNvSpPr/>
          <p:nvPr/>
        </p:nvSpPr>
        <p:spPr>
          <a:xfrm>
            <a:off x="7596360" y="4437000"/>
            <a:ext cx="1161720" cy="459720"/>
          </a:xfrm>
          <a:prstGeom prst="rect">
            <a:avLst/>
          </a:prstGeom>
          <a:noFill/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翻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468360" y="2586600"/>
            <a:ext cx="81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到了郑国，郑文公也不以礼接待重耳。大夫叔詹劝郑文公说：“臣下听说上天所赞助的人，其他人是比不上的。晋国公子有三件不同寻常的事，或许上天要立他为国君，您还是依礼款待他吧！同姓的男女结婚，按说子孙后代不能昌盛。晋公子重耳的父母都姓姬，他一直活到今天，这是第一件不同寻常的事。遭到流亡在国外的灾难，上天却不让晋国安定下来，大概是要为他开出一条路吧，这是第二件不同寻常的事。有三位才智过人的贤士跟随他，这是第三件不同寻常的事。晋国和郑国是同等的国家，晋国子弟路过郑国，本来应该以礼相待，何况晋公子是上天所赞助的人呢？”郑文公没有听从叔詹的劝告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3803760" y="23256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合作探究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197000" y="3311640"/>
            <a:ext cx="75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通过本课的学习，谈谈烛之武出色的劝谏艺术对于古人和现代人的处事有什么意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174600"/>
            <a:ext cx="914400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对于古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国有句古话：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伴君如伴虎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”批“龙鳞”，逆“圣听”，需要大勇与大智。作为君王，则应虚心采纳，方可成就霸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邹忌与齐威王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 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正面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齐王接受皱忌的进谏，听取群臣吏民的意见，于是有“此所谓战胜于朝廷”的美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触龙与赵太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正面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抓住赵太后爱子、怜子之心，触龙拿人心比自心，以己子做诱引，动之以情，申明大义，进而解开太后心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-3636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、魏征与唐太宗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正面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唐太宗虚怀若谷，善于纳谏，终成一代名君。唐太宗“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夫以铜为鉴，可以正衣冠；以史为鉴，可以知兴替；以人为鉴，可以明得失。今魏徵殁，朕失一鉴矣！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、管仲与齐桓公（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正面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齐桓公豁达大度，听了鲍叔牙的话，不但不治管仲的罪，还立刻任命他为相，让他管理国政。后来齐国就越来越富强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、比干与纣王。（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反面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纣王拒谏饰非、耽于酒色、暴敛重刑，甚至将比剖腹挖心。最终是民怨四起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6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、召公与厉王（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反面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周厉王“防民之口，甚于防川”，“止谤”使得老百姓“道路以目”。三年之后，被“流于彘”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657360" y="1133640"/>
            <a:ext cx="7964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二、对于现代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注重对方感受，委婉劝说，文明交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听取别人意见，完善自我，少走弯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宰相肚里能称船。有则改之，无则加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9640" y="1413000"/>
            <a:ext cx="8064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《左传》善于描写战争和记述行人辞令，记事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条理清楚，叙述精确，详略合宜，委曲简洁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；写人简而精，曲而达，婉而有致，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人物形象栩栩如生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。常常是寥寥几句，就能使读者如见其人，如闻其声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476280"/>
            <a:ext cx="38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华文彩云"/>
              </a:rPr>
              <a:t>关于《左传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4669560"/>
            <a:ext cx="7775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左氏之传，史之极也。文采若云月，高深若山海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朱彝尊《经文考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71280" y="755640"/>
            <a:ext cx="898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烛之武委婉劝说的艺术在今天的人际交往中仍有着十分重要的意义。在给别人提意见和建议时，我们要充分尊重被劝说者，使之受到启发，从而愉快地接受意见。同时我们还应学会倾听与交流。善于听取别人的意见，还要善于自己思考，把好的意见总汇起来，唯有这样才能成就一番事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5920" y="773280"/>
            <a:ext cx="8497800" cy="703440"/>
          </a:xfrm>
          <a:prstGeom prst="rect">
            <a:avLst/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ff"/>
                </a:solidFill>
                <a:latin typeface="Arial"/>
                <a:ea typeface="楷体_GB2312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按年月日顺序编写的史书体裁。如《春秋》、《左传》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资治通鉴》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7360" y="3068640"/>
            <a:ext cx="8550360" cy="703440"/>
          </a:xfrm>
          <a:prstGeom prst="rect">
            <a:avLst/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ff"/>
                </a:solidFill>
                <a:latin typeface="Arial"/>
                <a:ea typeface="楷体_GB2312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分不同的国家编写的史书体裁。如《国语》、《战国策》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8000" y="4778280"/>
            <a:ext cx="8559720" cy="703440"/>
          </a:xfrm>
          <a:prstGeom prst="rect">
            <a:avLst/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ff"/>
                </a:solidFill>
                <a:latin typeface="Arial"/>
                <a:ea typeface="楷体_GB2312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以人物传记为中心的史书体裁。如《史记》、《三国志》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69228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编年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1640" y="302436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国别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1640" y="477828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纪传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4600" y="771480"/>
            <a:ext cx="8253360" cy="531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195640" y="60451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黑体"/>
              </a:rPr>
              <a:t>春秋时期形势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64000" y="2205000"/>
            <a:ext cx="792000" cy="7192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56000" y="2637000"/>
            <a:ext cx="792000" cy="7189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95640" y="4437000"/>
            <a:ext cx="792360" cy="7192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72360" y="1844640"/>
            <a:ext cx="792000" cy="7192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2924280"/>
            <a:ext cx="792360" cy="7189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95640" y="2924280"/>
            <a:ext cx="432000" cy="433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9640" y="3096720"/>
            <a:ext cx="8136000" cy="1464480"/>
          </a:xfrm>
          <a:prstGeom prst="rect">
            <a:avLst/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3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秦、晋围郑发生在公元前</a:t>
            </a:r>
            <a:r>
              <a:rPr b="1" lang="zh-CN" sz="3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630</a:t>
            </a:r>
            <a:r>
              <a:rPr b="1" lang="zh-CN" sz="3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年</a:t>
            </a:r>
            <a:r>
              <a:rPr b="1" lang="zh-CN" sz="3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3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鲁僖公三十年</a:t>
            </a:r>
            <a:r>
              <a:rPr b="1" lang="zh-CN" sz="3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3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在这之前，郑国有两件事得罪了晋国：一是晋文公当年逃亡路过郑国时，郑国没有以礼相待；二是在公元前</a:t>
            </a:r>
            <a:r>
              <a:rPr b="1" lang="zh-CN" sz="3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632</a:t>
            </a:r>
            <a:r>
              <a:rPr b="1" lang="zh-CN" sz="3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年</a:t>
            </a:r>
            <a:r>
              <a:rPr b="1" lang="zh-CN" sz="3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3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鲁僖公二十八年</a:t>
            </a:r>
            <a:r>
              <a:rPr b="1" lang="zh-CN" sz="3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3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的晋、楚城濮之战中，郑国曾出兵帮助楚国，结果，城濮之战以楚国失败而告终。郑国感到形势不妙，马上派人出使晋国，与晋结好。甚至在公元前</a:t>
            </a:r>
            <a:r>
              <a:rPr b="1" lang="zh-CN" sz="3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632</a:t>
            </a:r>
            <a:r>
              <a:rPr b="1" lang="zh-CN" sz="3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年五月，“晋侯及郑伯盟于衡雍”。但是，最终也没能感化晋国。晋文公为了争夺霸权的需要，还是在两年后发动了这次战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46280" y="233280"/>
            <a:ext cx="38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隶书"/>
              </a:rPr>
              <a:t>故事背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1T06:22:49Z</dcterms:created>
  <dc:creator>语文大师 xiexingcun.com</dc:creator>
  <dc:description>语文大师 xiexingcun.com</dc:description>
  <dc:language>en-US</dc:language>
  <cp:lastModifiedBy>deeplm</cp:lastModifiedBy>
  <dcterms:modified xsi:type="dcterms:W3CDTF">2014-09-19T23:32:06Z</dcterms:modified>
  <cp:revision>0</cp:revision>
  <dc:subject/>
  <dc:title>语文大师 xiexingcun.com</dc:title>
</cp:coreProperties>
</file>