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11.png" ContentType="image/png"/>
  <Override PartName="/ppt/media/image10.jpeg" ContentType="image/jpeg"/>
  <Override PartName="/ppt/media/image14.png" ContentType="image/png"/>
  <Override PartName="/ppt/media/image9.wmf" ContentType="image/x-wmf"/>
  <Override PartName="/ppt/media/image18.png" ContentType="image/png"/>
  <Override PartName="/ppt/media/image6.jpeg" ContentType="image/jpeg"/>
  <Override PartName="/ppt/media/image13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6.wmf" ContentType="image/x-wmf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10080625" cy="6300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7120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638040" y="147420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40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7120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638040" y="3382920"/>
            <a:ext cx="292068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4000" y="251280"/>
            <a:ext cx="9071640" cy="487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2680" y="338292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00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2680" y="1474200"/>
            <a:ext cx="442692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000" y="3382920"/>
            <a:ext cx="9071640" cy="174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0" y="0"/>
            <a:ext cx="1224000" cy="109368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1843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1027080"/>
            <a:ext cx="936144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26a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11640" y="5454720"/>
            <a:ext cx="4969080" cy="63000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0"/>
            <a:ext cx="1224000" cy="101772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18435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17720"/>
            <a:ext cx="1230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26a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11640" y="5454720"/>
            <a:ext cx="4969080" cy="630000"/>
          </a:xfrm>
          <a:prstGeom prst="rect">
            <a:avLst/>
          </a:prstGeom>
          <a:gradFill rotWithShape="0">
            <a:gsLst>
              <a:gs pos="0">
                <a:srgbClr val="3692d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630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3116160" y="2665440"/>
            <a:ext cx="2247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3692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谢谢观赏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3692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000" y="251280"/>
            <a:ext cx="9071640" cy="10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4000" y="1474200"/>
            <a:ext cx="9071640" cy="36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5.png"/><Relationship Id="rId9" Type="http://schemas.openxmlformats.org/officeDocument/2006/relationships/hyperlink" Target="259,2,&#24187;&#28783;&#29255; 2" TargetMode="External"/><Relationship Id="rId10" Type="http://schemas.openxmlformats.org/officeDocument/2006/relationships/hyperlink" Target="271,4,&#24187;&#28783;&#29255; 4" TargetMode="External"/><Relationship Id="rId11" Type="http://schemas.openxmlformats.org/officeDocument/2006/relationships/hyperlink" Target="297,9,&#24187;&#28783;&#29255; 9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5.png"/><Relationship Id="rId15" Type="http://schemas.openxmlformats.org/officeDocument/2006/relationships/hyperlink" Target="259,2,&#24187;&#28783;&#29255; 2" TargetMode="External"/><Relationship Id="rId16" Type="http://schemas.openxmlformats.org/officeDocument/2006/relationships/hyperlink" Target="271,4,&#24187;&#28783;&#29255; 4" TargetMode="External"/><Relationship Id="rId17" Type="http://schemas.openxmlformats.org/officeDocument/2006/relationships/hyperlink" Target="297,9,&#24187;&#28783;&#29255; 9" TargetMode="External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hyperlink" Target="259,2,&#24187;&#28783;&#29255; 2" TargetMode="External"/><Relationship Id="rId4" Type="http://schemas.openxmlformats.org/officeDocument/2006/relationships/hyperlink" Target="271,4,&#24187;&#28783;&#29255; 4" TargetMode="External"/><Relationship Id="rId5" Type="http://schemas.openxmlformats.org/officeDocument/2006/relationships/hyperlink" Target="297,9,&#24187;&#28783;&#29255; 9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5.png"/><Relationship Id="rId3" Type="http://schemas.openxmlformats.org/officeDocument/2006/relationships/hyperlink" Target="259,2,&#24187;&#28783;&#29255; 2" TargetMode="External"/><Relationship Id="rId4" Type="http://schemas.openxmlformats.org/officeDocument/2006/relationships/hyperlink" Target="271,4,&#24187;&#28783;&#29255; 4" TargetMode="External"/><Relationship Id="rId5" Type="http://schemas.openxmlformats.org/officeDocument/2006/relationships/hyperlink" Target="297,9,&#24187;&#28783;&#29255; 9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hyperlink" Target="259,2,&#24187;&#28783;&#29255; 2" TargetMode="External"/><Relationship Id="rId4" Type="http://schemas.openxmlformats.org/officeDocument/2006/relationships/hyperlink" Target="271,4,&#24187;&#28783;&#29255; 4" TargetMode="External"/><Relationship Id="rId5" Type="http://schemas.openxmlformats.org/officeDocument/2006/relationships/hyperlink" Target="297,9,&#24187;&#28783;&#29255; 9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2,&#24187;&#28783;&#29255; 2" TargetMode="External"/><Relationship Id="rId3" Type="http://schemas.openxmlformats.org/officeDocument/2006/relationships/hyperlink" Target="271,4,&#24187;&#28783;&#29255; 4" TargetMode="External"/><Relationship Id="rId4" Type="http://schemas.openxmlformats.org/officeDocument/2006/relationships/hyperlink" Target="297,9,&#24187;&#28783;&#29255; 9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hyperlink" Target="259,2,&#24187;&#28783;&#29255; 2" TargetMode="External"/><Relationship Id="rId4" Type="http://schemas.openxmlformats.org/officeDocument/2006/relationships/hyperlink" Target="271,4,&#24187;&#28783;&#29255; 4" TargetMode="External"/><Relationship Id="rId5" Type="http://schemas.openxmlformats.org/officeDocument/2006/relationships/hyperlink" Target="297,9,&#24187;&#28783;&#29255; 9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png"/><Relationship Id="rId3" Type="http://schemas.openxmlformats.org/officeDocument/2006/relationships/hyperlink" Target="259,2,&#24187;&#28783;&#29255; 2" TargetMode="External"/><Relationship Id="rId4" Type="http://schemas.openxmlformats.org/officeDocument/2006/relationships/hyperlink" Target="271,4,&#24187;&#28783;&#29255; 4" TargetMode="External"/><Relationship Id="rId5" Type="http://schemas.openxmlformats.org/officeDocument/2006/relationships/hyperlink" Target="297,9,&#24187;&#28783;&#29255; 9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49240" y="709560"/>
            <a:ext cx="8001000" cy="2289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8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一单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沁园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393920" y="1469880"/>
            <a:ext cx="8142120" cy="3434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3897360" y="1550880"/>
            <a:ext cx="609480" cy="293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11560" y="1932120"/>
            <a:ext cx="762120" cy="463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7097760" y="1474920"/>
            <a:ext cx="914400" cy="45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7097760" y="1955880"/>
            <a:ext cx="990720" cy="433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3211560" y="3025800"/>
            <a:ext cx="990720" cy="430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7"/>
          <a:stretch/>
        </p:blipFill>
        <p:spPr>
          <a:xfrm>
            <a:off x="3211560" y="3532320"/>
            <a:ext cx="990720" cy="382320"/>
          </a:xfrm>
          <a:prstGeom prst="rect">
            <a:avLst/>
          </a:prstGeom>
          <a:ln w="0">
            <a:noFill/>
          </a:ln>
        </p:spPr>
      </p:pic>
      <p:grpSp>
        <p:nvGrpSpPr>
          <p:cNvPr id="267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268" name="" descr=""/>
            <p:cNvPicPr/>
            <p:nvPr/>
          </p:nvPicPr>
          <p:blipFill>
            <a:blip r:embed="rId8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9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10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11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320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322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326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328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774080" y="560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写对字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04760" y="1700280"/>
            <a:ext cx="8937720" cy="34513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982960" y="170352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982960" y="2160720"/>
            <a:ext cx="457200" cy="450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036960" y="2693880"/>
            <a:ext cx="403200" cy="457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5738760" y="1627200"/>
            <a:ext cx="520920" cy="533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5878440" y="2127240"/>
            <a:ext cx="533520" cy="490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5726160" y="26179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3141720" y="3456000"/>
            <a:ext cx="450720" cy="4572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9"/>
          <a:stretch/>
        </p:blipFill>
        <p:spPr>
          <a:xfrm>
            <a:off x="2830680" y="3836880"/>
            <a:ext cx="512640" cy="533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10"/>
          <a:stretch/>
        </p:blipFill>
        <p:spPr>
          <a:xfrm>
            <a:off x="3211560" y="4448160"/>
            <a:ext cx="76212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1"/>
          <a:stretch/>
        </p:blipFill>
        <p:spPr>
          <a:xfrm>
            <a:off x="6335640" y="3379680"/>
            <a:ext cx="533520" cy="4986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2"/>
          <a:stretch/>
        </p:blipFill>
        <p:spPr>
          <a:xfrm>
            <a:off x="7250040" y="3913200"/>
            <a:ext cx="533520" cy="519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13"/>
          <a:stretch/>
        </p:blipFill>
        <p:spPr>
          <a:xfrm>
            <a:off x="6335640" y="4397400"/>
            <a:ext cx="533520" cy="50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290" name="" descr=""/>
            <p:cNvPicPr/>
            <p:nvPr/>
          </p:nvPicPr>
          <p:blipFill>
            <a:blip r:embed="rId14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15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16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17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295" name="" descr=""/>
            <p:cNvPicPr/>
            <p:nvPr/>
          </p:nvPicPr>
          <p:blipFill>
            <a:blip r:embed="rId18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40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409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41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41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697760" y="560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解释词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59080" y="1434960"/>
            <a:ext cx="8001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峥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点江山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42840" y="231300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峥嵘：高峻；形容才气、品格等超越平常；不平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628440" y="429408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指点：议论；评论。江山：指国家。指纵论国家大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07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432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43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438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44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459080" y="1474920"/>
            <a:ext cx="78483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加点词语运用的正误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√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×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海南三亚，世界最大的单体免税城——海棠湾国际购物中心，建筑的主体模样已经初露峥嵘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所以在很长时间里，看见了一个老头气势磅礴站在船上，指点江山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73680" y="4522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34560" y="33037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13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18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457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45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463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465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35040" y="4842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近义词辨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35040" y="1170000"/>
            <a:ext cx="8001000" cy="30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寥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辽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词都有开阔空旷的意思，但也有使用对象上的区别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寥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重指高远，多用在空间范围上，形容天宇、江天、海天等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辽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侧重指辽远，多用在平面方向上，形容河海、原野、田原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苍茫的群山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天空，越发衬出人的渺小。只有思想，冲破躯壳，驰骋在这山峦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高峻的山峰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草原、奔腾的河流，都能给人以壮美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659480" y="398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寥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750920" y="51325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辽阔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2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484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486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490" dur="2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49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42880" y="407880"/>
            <a:ext cx="75600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苍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苍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词都有远大空阔之意。但“苍茫”侧重指空阔辽远，没有边际；“苍凉”侧重指荒芜凄凉。两词比较，“苍茫”是书面用语，一种视觉感受，指空间上的广阔；而“苍凉”是一种凄凉的情感体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06440" y="3532320"/>
            <a:ext cx="831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夜空下，我不禁想起了那一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过去，这一带满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现在，却盖起了无数的工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36840" y="368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65640" y="437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42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09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11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515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517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306440" y="179280"/>
            <a:ext cx="8317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义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词都指气概和情绪。“意气”指意志和气概，也指志趣和性格，还可以指由于主观的偏激而产生的情绪。“义气”指由于私人关系而敢于承担风险或牺牲自己利益的气概，突出指由于“私人关系”而产生的气概和情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前我们只是以仰望的姿态尊崇毛主席是神，现在看看他的少年青年，越发感觉他和我们一样，有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风发，也有过年少轻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强调友谊的重要，但我们也要明白：友谊并不是哥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84000" y="4218120"/>
            <a:ext cx="8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意气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31920" y="543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义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53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36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38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542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54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459080" y="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风华正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气风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辨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华正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正是青春焕发、风采动人、才华横溢的时候。形容青年朝气蓬勃、奋发有为的精神面貌。风华，风采、才华；茂，旺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意气风发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精神振奋，气志昂扬。两词都是褒义词，都形容健康蓬勃的精神风貌，不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风华正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指年轻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恰同学少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书生意气，挥斥方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来也没看见人民群众像现在这样精神振奋，斗志昂扬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3320" y="3760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风华正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888640" y="505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意气风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59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64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61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6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567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569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781280" y="484200"/>
            <a:ext cx="24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积累名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59080" y="1550880"/>
            <a:ext cx="784836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恰同学少年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书生意气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《沁园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沙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点江山，激扬文字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《沁园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沙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雄关漫道真如铁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《忆秦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娄山关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7080" y="1703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风华正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78040" y="2236680"/>
            <a:ext cx="20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挥斥方遒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22880" y="29224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粪土当年万户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60760" y="4218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而今迈步从头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73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596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598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02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04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519200" y="1236600"/>
            <a:ext cx="7559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人间正道是沧桑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《七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民解放军占领南京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军不怕远征难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《七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征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江山如此多娇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《沁园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雪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06440" y="1370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天若有情天亦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01880" y="2665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万水千山只等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55080" y="38847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引无数英雄竞折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8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9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62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631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35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37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06440" y="1703520"/>
            <a:ext cx="8774280" cy="33717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19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2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2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27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230480" y="1779480"/>
            <a:ext cx="8850240" cy="340056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399" name="" descr=""/>
            <p:cNvPicPr/>
            <p:nvPr/>
          </p:nvPicPr>
          <p:blipFill>
            <a:blip r:embed="rId6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649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651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55" dur="2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57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1611360" y="4842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问题导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382760" y="1170000"/>
            <a:ext cx="8229600" cy="46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上阕的前三句交代了什么？语序上有何特点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独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词写出了怎样的情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华隶_GBK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59080" y="26938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明了词中表现的时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寒秋，即深秋，深秋已有寒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地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橘子洲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和作者的处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独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②出于词律的需要，词序上存在倒装现象。要调一下语序译成：在深秋时节，我独自一人来到橘子洲，面前的湘江向北流去。③“独立”：“独立”写出自己形单影只，“独”字又与下阕的“百侣”相对，形独而心不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1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669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671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675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67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611360" y="560520"/>
            <a:ext cx="7467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的上阕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统领哪些景物？我们从中能体会到怎样的意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11360" y="23922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山、林、江、舸、鹰、鱼，万类。意象密集，组合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击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竞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等动词突出景物特征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呈现在我们面前的是一幅色彩瑰丽的图画，晚秋静穆的伟大中律动着勃勃的生机，扫尽千古悲秋之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2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1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92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695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6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01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03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535040" y="789120"/>
            <a:ext cx="71676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这壮阔的深秋意境中，我们感受到诗人怎样的情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11360" y="2770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们可以感受到，诗人在对大自然万物的激情关注中融入了自己对人生的积极追求，对国家命运的由衷关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3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71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16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18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22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24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535040" y="484200"/>
            <a:ext cx="7620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首词下阕怎样用诗的语言形象地概括了往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611360" y="17794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携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侣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学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表明人物关系亲密团结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峥嵘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稠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明，时世艰难反衬人物的奋发有为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引起的铺叙表明人物的气质禀赋、精神状态和战斗行动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粪土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形象不美，表现对军阀官僚的蔑视恰到好处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中流击水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写尽豪情壮志，意味深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4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3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38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42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44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1687680" y="101772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诗人对往事的追忆中，我们可以联想到怎样的形象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63640" y="26496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忆的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同学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书生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而站在我们面前的分明是一个敢于向旧世界宣战的斗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4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5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57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59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63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765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994400" y="5112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写法赏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82760" y="162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写景抒情。本词选择了秋山的红叶和秋水的绿波来加以描写，是因为这些景色可以寄托革命的激情。又选择了鹰击长空、鱼翔浅底来加以描写，反映了人民要求解放的愿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怅寥廓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下，由写景转入写情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真的惆怅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真问，只是说得含蓄一些，但是以天下为己任的胸怀已经溢于言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5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6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0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92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3" dur="192" fill="hold"/>
                                        <p:tgtEl>
                                          <p:spTgt spid="4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5" dur="192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7" dur="192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92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192" fill="hold"/>
                                        <p:tgtEl>
                                          <p:spTgt spid="4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192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192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789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79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794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798" dur="2000" fill="hold"/>
                                        <p:tgtEl>
                                          <p:spTgt spid="4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800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459080" y="255600"/>
            <a:ext cx="807696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灵活用典。古人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峥嵘岁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一种感伤情绪，这里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峥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语双关：既表示了岁月峥嵘，又表示了头角峥嵘，与下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学少年，风华正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遥相呼应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挥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词出自《庄子》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流击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流击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仗手法。“万山红遍，层林尽染”对“漫江碧透，百舸争流”；“鹰击长空”对“鱼翔浅底”；“同学少年，风华正茂”对“书生意气，挥斥方遒”；“指点江山”对“激扬文字”。其中有对得很工整的，也有对得比较灵活的。对仗可以使诗歌形成整齐的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64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69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01" dur="indefinite" restart="never" nodeType="tmRoot">
          <p:childTnLst>
            <p:seq>
              <p:cTn id="802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06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08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81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814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459080" y="15508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比手法。词中含有多种形式的对比，使描绘的形象鲜明动人，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山红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漫江碧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颜色的对比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鹰击长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鱼翔浅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点江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扬文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动作的对比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学少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户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明比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万类霜天竞自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人民的被压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在词中点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暗含的对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5" dur="indefinite" restart="never" nodeType="tmRoot">
          <p:childTnLst>
            <p:seq>
              <p:cTn id="816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20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22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826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828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459080" y="10936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苍茫大地，谁主沉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贯串上下阕。这首词上阕写景抒情，下阕追忆往事，而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苍茫大地，谁主沉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句，把上下阕贯串起来。从上阕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主沉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引出了下阕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粪土当年万户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中流击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豪情壮志，突出了同学少年的峥嵘岁月，这就含蓄地回答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主沉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问题：需要胸怀崇高理想、敢于英勇奋斗的热血青年来肩负主宰大地的重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87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29" dur="indefinite" restart="never" nodeType="tmRoot">
          <p:childTnLst>
            <p:seq>
              <p:cTn id="830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831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34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36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840" dur="2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842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35040" y="143496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毛泽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93—197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字润之，笔名子任，湖南湘潭人。中国现代伟大的无产阶级思想家、政治家、革命家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诗人。平生于政务、军旅之暇，喜爱诗词，在不同历史时期写下了许多佳作，代表作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《卜算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咏梅》等，其思想性和艺术性都达到了完美的统一，在世界文坛享有极高的声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2760" y="560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走近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84000" y="26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军事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60520" y="2693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书法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12480" y="376092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沁园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沙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94320" y="376092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忆秦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娄山关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000" y="3760920"/>
            <a:ext cx="11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七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征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30360" y="429408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沁园春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雪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187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4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9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9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918440" y="422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结构图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1306440" y="1365120"/>
            <a:ext cx="7315200" cy="376740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492" name="" descr=""/>
            <p:cNvPicPr/>
            <p:nvPr/>
          </p:nvPicPr>
          <p:blipFill>
            <a:blip r:embed="rId2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497" name="" descr=""/>
            <p:cNvPicPr/>
            <p:nvPr/>
          </p:nvPicPr>
          <p:blipFill>
            <a:blip r:embed="rId6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863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865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869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871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611360" y="1434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沁园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沙》写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秋，当时革命运动蓬勃发展，农民运动蓬勃兴起。毛泽东直接领导了湖南的农民运动，创建了湖南第一个党支部，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韶山支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同时，国共两党统一战线已经建立，国民革命政府在广州正式成立。但当时的革命领导人陈独秀看不到革命的力量，想把革命领导权交给资产阶级。毛泽东则看到了革命力量，坚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星星之火，可以燎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536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课文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197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107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109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113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115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63640" y="1114560"/>
            <a:ext cx="73152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而这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，毛泽东从韶山前往广州创办全国农民运动讲习所，途经长沙，重游橘子洲，面对绚丽的秋景和大好的革命形势，追忆了昔日的战斗岁月，不禁心潮起伏，浮想联翩，写下了这首气势磅礴的豪放词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201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206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127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129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13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1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35040" y="13446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词，是古代诗歌的一种，又称曲子词、诗余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，盛行于宋代，最初是配乐演唱的。词一般分上下两段，称上下阕或上下片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填词时所依据的乐调，与词的内容往往没有什么联系。例如：《沁园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沙》，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词牌，注明曲调；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________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题目，标明所咏的内容。从字数上看，词又可分为小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以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中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长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9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字以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38440" y="536400"/>
            <a:ext cx="21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文体常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03120" y="2008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短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1800" y="254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词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31920" y="368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沁园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89720" y="368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220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17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172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17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17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611360" y="7891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诗人创作诗歌作品，要借助一定的形象。这些写入作品的形象就是意象的“象”。但由于它们是经过诗人的挑选和判定的，所以已经附着了诗人的主观认识和情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“意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因而这些形象已不再是现实中的普通形象了，故称为“意象”。意象往往可以用数量的多少来统计，属于个体观念，如毛泽东《沁园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沙》中“看万山红遍，层林尽染；漫江碧透，百舸争流。鹰击长空，鱼翔浅底，万类霜天竞自由。”就有着：山、林、江、舸、鹰、鱼等意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2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229" name="" descr=""/>
            <p:cNvPicPr/>
            <p:nvPr/>
          </p:nvPicPr>
          <p:blipFill>
            <a:blip r:embed="rId5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190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19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196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198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30480" y="1627200"/>
            <a:ext cx="8850240" cy="340200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20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20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210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21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25480" y="56052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华文新魏"/>
              </a:rPr>
              <a:t>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220760" y="1905120"/>
            <a:ext cx="7934400" cy="37605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746520" y="1779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ì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04120" y="1779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061080" y="2389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11200" y="2389320"/>
            <a:ext cx="4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ɡ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358440" y="29988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ì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64240" y="299880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ànɡ liáo ku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52200" y="360828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hēnɡ ró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7280" y="36082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ó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46520" y="4218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i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07240" y="4218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9621720" y="1838160"/>
            <a:ext cx="2016000" cy="2117880"/>
            <a:chOff x="9621720" y="1838160"/>
            <a:chExt cx="2016000" cy="2117880"/>
          </a:xfrm>
        </p:grpSpPr>
        <p:pic>
          <p:nvPicPr>
            <p:cNvPr id="253" name="" descr=""/>
            <p:cNvPicPr/>
            <p:nvPr/>
          </p:nvPicPr>
          <p:blipFill>
            <a:blip r:embed="rId2"/>
            <a:stretch/>
          </p:blipFill>
          <p:spPr>
            <a:xfrm>
              <a:off x="9621720" y="1838160"/>
              <a:ext cx="2016000" cy="21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0173960" y="195408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3"/>
                </a:rPr>
                <a:t>课文导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173960" y="2739960"/>
              <a:ext cx="96228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4"/>
                </a:rPr>
                <a:t>预习检测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220400" y="3458880"/>
              <a:ext cx="109944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1800" spc="-1" strike="noStrike" u="sng">
                  <a:solidFill>
                    <a:srgbClr val="ffffff"/>
                  </a:solidFill>
                  <a:uFillTx/>
                  <a:latin typeface="Arial"/>
                  <a:hlinkClick r:id="rId5"/>
                </a:rPr>
                <a:t>探究与点拨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540000" y="1734120"/>
            <a:ext cx="513720" cy="2180520"/>
            <a:chOff x="9540000" y="1734120"/>
            <a:chExt cx="513720" cy="2180520"/>
          </a:xfrm>
        </p:grpSpPr>
        <p:pic>
          <p:nvPicPr>
            <p:cNvPr id="258" name="" descr=""/>
            <p:cNvPicPr/>
            <p:nvPr/>
          </p:nvPicPr>
          <p:blipFill>
            <a:blip r:embed="rId6"/>
            <a:stretch/>
          </p:blipFill>
          <p:spPr>
            <a:xfrm>
              <a:off x="9609120" y="1797120"/>
              <a:ext cx="444600" cy="21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9540000" y="1734120"/>
              <a:ext cx="454680" cy="186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栏目链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1.12903E-006 L -0.14569 1.12903E-006 E">
                                      <p:cBhvr>
                                        <p:cTn id="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3 -1.29032E-006 L -0.14223 -1.29032E-006 E">
                                      <p:cBhvr>
                                        <p:cTn id="271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223 -1.29032E-006 L -0.00646 -1.29032E-006 E">
                                      <p:cBhvr>
                                        <p:cTn id="275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69 1.12903E-006 L 0.00063 1.12903E-006 E">
                                      <p:cBhvr>
                                        <p:cTn id="277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3:20:43Z</dcterms:created>
  <dc:creator>1</dc:creator>
  <dc:description>1</dc:description>
  <cp:keywords>1</cp:keywords>
  <dc:language>en-US</dc:language>
  <cp:lastModifiedBy>惠通工作室</cp:lastModifiedBy>
  <cp:lastPrinted>1899-12-30T00:00:00Z</cp:lastPrinted>
  <dcterms:modified xsi:type="dcterms:W3CDTF">2014-07-01T02:38:50Z</dcterms:modified>
  <cp:revision>1</cp:revision>
  <dc:subject>1</dc:subject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