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explode.wav" ContentType="audio/x-wav"/>
  <Override PartName="/ppt/media/image15.gif" ContentType="image/gif"/>
  <Override PartName="/ppt/media/image18.jpeg" ContentType="image/jpeg"/>
  <Override PartName="/ppt/media/wind.wav" ContentType="audio/x-wav"/>
  <Override PartName="/ppt/media/chimes.wav" ContentType="audio/x-wav"/>
  <Override PartName="/ppt/media/image21.jpeg" ContentType="image/jpeg"/>
  <Override PartName="/ppt/media/type.wav" ContentType="audio/x-wav"/>
  <Override PartName="/ppt/media/image14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20.jpeg" ContentType="image/jpeg"/>
  <Override PartName="/ppt/media/image12.png" ContentType="image/png"/>
  <Override PartName="/ppt/media/image23.jpeg" ContentType="image/jpeg"/>
  <Override PartName="/ppt/media/hammer.wav" ContentType="audio/x-wav"/>
  <Override PartName="/ppt/media/image13.png" ContentType="image/png"/>
  <Override PartName="/ppt/media/laser.wav" ContentType="audio/x-wav"/>
  <Override PartName="/ppt/media/image4.png" ContentType="image/png"/>
  <Override PartName="/ppt/media/image19.jpeg" ContentType="image/jpeg"/>
  <Override PartName="/ppt/media/image24.jpeg" ContentType="image/jpeg"/>
  <Override PartName="/ppt/media/image26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5.jpeg" ContentType="image/jpeg"/>
  <Override PartName="/ppt/media/image2.png" ContentType="image/png"/>
  <Override PartName="/ppt/media/suction.wav" ContentType="audio/x-wav"/>
  <Override PartName="/ppt/media/image1.jpeg" ContentType="image/jpeg"/>
  <Override PartName="/ppt/media/image10.png" ContentType="image/png"/>
  <Override PartName="/ppt/media/image5.png" ContentType="image/png"/>
  <Override PartName="/ppt/media/whoosh.wav" ContentType="audio/x-wav"/>
  <Override PartName="/ppt/media/click.wav" ContentType="audio/x-wav"/>
  <Override PartName="/ppt/media/voltage.wav" ContentType="audio/x-wav"/>
  <Override PartName="/ppt/media/image16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enovo User" initials="L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4-03-20T13:47:29.965000000" idx="1">
    <p:pos x="5323" y="318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C0B-48BC-4031-B4E5-58F6780C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730-6687-4B1E-A5CE-55FC67DD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6CF-3FAE-482C-BA24-C40DA048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E1C-EE84-44B2-9408-B0897AA4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31C-A6B0-4BF0-942C-26D9D31B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9BCE-A034-4AF5-9F0B-09F238F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1FB-B4F5-4166-ACAE-DDB2D3A6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23D-BE0C-4E74-AEE7-6340440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B894-E33E-4CB7-B728-4C0628FD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6593-8B20-41F3-8712-7F155B08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32E-2F13-46F0-BE7E-E548078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ADA-6EB9-49C4-BED1-9A9149D9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31A4-C2EC-4318-8AD5-A680091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0A42-0721-4290-A5F7-0FF342F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B9B-2A60-4A50-98A0-1FFA271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BB35-0AC3-45D5-9A8B-FEECDFE3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A2D1-E3C3-4E8B-ABFF-52742486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491-B4B5-4B8E-BFE3-EFC7E3A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589-9D84-4B25-8BA8-EC41391F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6A8-9B80-4F0C-A9A5-01533FB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064-634C-4D2C-8C2B-BF0E08B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A2B-9981-4FAF-8F81-4396222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977-A76A-4EB1-95D6-3FAE3FC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76F-E172-46E6-8D42-1C5B632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F1A-9E43-44AB-A812-24CCB8EDFBD4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8EDF-4EEC-4209-8E23-372E85E9CCF2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TN_005.WAV" TargetMode="External"/><Relationship Id="rId3" Type="http://schemas.microsoft.com/office/2007/relationships/media" Target="file:///tmp/home/.config/libreoffice/4/user/gallery/MTN_00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wind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drumroll.wav"/><Relationship Id="rId3" Type="http://schemas.openxmlformats.org/officeDocument/2006/relationships/audio" Target="../media/suction.wav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drumroll.wav"/><Relationship Id="rId3" Type="http://schemas.openxmlformats.org/officeDocument/2006/relationships/audio" Target="../media/explode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explode.wav"/><Relationship Id="rId3" Type="http://schemas.openxmlformats.org/officeDocument/2006/relationships/audio" Target="../media/suction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uction.wav"/><Relationship Id="rId3" Type="http://schemas.openxmlformats.org/officeDocument/2006/relationships/audio" Target="../media/voltage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.xml"/><Relationship Id="rId8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726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540080" y="907920"/>
            <a:ext cx="43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fbf39"/>
                </a:solidFill>
                <a:latin typeface="Arial"/>
                <a:ea typeface="隶书"/>
              </a:rPr>
              <a:t>祝福</a:t>
            </a:r>
            <a:r>
              <a:rPr b="0" lang="zh-CN" sz="8800" spc="-1" strike="noStrike">
                <a:solidFill>
                  <a:srgbClr val="afbf39"/>
                </a:solidFill>
                <a:latin typeface="Arial"/>
                <a:ea typeface="隶书"/>
              </a:rPr>
              <a:t>　　　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29560" y="2781360"/>
            <a:ext cx="789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Arial"/>
                <a:ea typeface="宋体"/>
              </a:rPr>
              <a:t>鲁　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75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本文在叙述方法上有什么特点？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倒叙。祥林嫂在富人们一片祝福声中寂然死去，形成了一股浓厚的悲剧气氛，可是，这样的一个悲惨结局非但没有人同情，竟然引起鲁四老爷的震怒，甚至被骂为“谬种”，这就造成了一系列的悬念：祥林嫂是什么样的人？她为什么会落到这样的境遇？她为什么会得罪鲁四老爷？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这种叙述方法有什么作用？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042920" y="494064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41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倒叙除了制造悬念，还有暗示情节的悲剧性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用倒叙的方法一定要注意衔接，文中哪一句是在结构上承上启下，显示由倒叙转为顺叙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5120" y="3794040"/>
            <a:ext cx="52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8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然而先前所见所闻她的半生事迹的断片，至此也联成一片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69228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华文行楷"/>
              </a:rPr>
              <a:t>请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宋体"/>
              </a:rPr>
              <a:t>思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77336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祥林嫂的悲剧在“鲁镇”这个“舞台”上来演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鲁镇”是怎样的一个地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那里表现出怎样的事态风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342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Arial"/>
                <a:ea typeface="宋体"/>
              </a:rPr>
              <a:t>封闭、落后、迷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关键词</a:t>
            </a:r>
            <a:r>
              <a:rPr b="1" i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437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定   位</a:t>
            </a:r>
            <a:r>
              <a:rPr b="1" i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437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00"/>
                </a:solidFill>
                <a:latin typeface="Arial"/>
                <a:ea typeface="宋体"/>
              </a:rPr>
              <a:t>礼教、迷信和冷漠的坟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二：祥林嫂死了，死因是什么？自然死亡？自杀？他杀？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哪些人与祥林嫂之死有着直接或间接的关系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鲁四老爷、四婶、婆婆、大伯、卫老婆子、柳妈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些人是如何将祥林嫂逼上死地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105264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1: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鲁四老爷是怎样的一个人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99736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顽固保守、固守礼教、阴险歹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1497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定位</a:t>
            </a:r>
            <a:r>
              <a:rPr b="1" i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5084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封建礼教的忠实走狗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060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关键词</a:t>
            </a:r>
            <a:r>
              <a:rPr b="1" i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关于四叔的记叙和描写 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为什么要描写四叔的书房？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270828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书房可以看出四叔的思想旨趣的保守陈旧落伍，同时书房又有些破败，比如对联一半脱落，《康熙字典》未必完全，显示出四叔并非一个治学严谨的道学家。“事理通达心气和平”的对联与他骂祥林嫂是谬种形成鲜明对比，具备讽刺意味，写出了四叔的虚伪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文中哪些地方可以看出鲁四老爷的特点？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鲁四老爷对雇用祥林嫂最初的态度是“皱眉，讨厌她是寡妇。祥林嫂被抢走时，鲁四老爷的反应可以用两次“可恶”和“然而”来概括。鲁四老爷估计祥林嫂是逃出来的，“皱一皱眉”表示反感，却没有丝毫同情心。寻人时，也仍然是“踱”。 发现祥林嫂被抢走，鲁四老爷说了两次“可恶”，“然而”。我们细细分析一下就可以发现，里面没有丝毫是对祥林嫂的同情。第一次“可恶”的是婆婆“抢”的举动，给自己带来了麻烦。“然而”是书面语转折连词，后面隐含的意思是：祥林嫂私自逃出，礼教不容；婆婆作主，理所当然，而且表示了鲁四老爷的假斯文。第二次说可恶是针对卫老婆子的，对卫老婆子先荐祥林嫂然后又合伙劫她，闹得沸反盈天，有损鲁家的体面。“然而”找到像祥林嫂这样比男人还勤快的劳动力是不容易的。第一部分有一部分对鲁四老爷的大骂新党及其书房的描写。这一切都能可看出鲁四老爷是地主阶级知识分子的典型。他迂腐、保守、顽固，反对一切改革和革命，尊崇理学和孔孟之道，自觉维护封建制度和封建礼教。他自私伪善，冷酷无情，对祥林嫂的迫害大都是他授意或得到他默许的，是他通过“祝福”阻断了祥林嫂的生路，把她逼向死地。他是导致祥林嫂惨死的人物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i="1" lang="zh-CN" sz="3800" spc="-1" strike="noStrike">
                <a:solidFill>
                  <a:srgbClr val="000099"/>
                </a:solidFill>
                <a:latin typeface="Garamond"/>
              </a:rPr>
              <a:t>:</a:t>
            </a:r>
            <a:r>
              <a:rPr b="1" i="1" lang="zh-CN" sz="3800" spc="-1" strike="noStrike">
                <a:solidFill>
                  <a:srgbClr val="000099"/>
                </a:solidFill>
                <a:latin typeface="Garamond"/>
              </a:rPr>
              <a:t>祥林嫂周围的其他人对祥林嫂态度如何</a:t>
            </a:r>
            <a:r>
              <a:rPr b="1" i="1" lang="zh-CN" sz="3800" spc="-1" strike="noStrike">
                <a:solidFill>
                  <a:srgbClr val="000099"/>
                </a:solidFill>
                <a:latin typeface="Garamond"/>
              </a:rPr>
              <a:t>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、婆婆和大伯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婆婆强迫祥林嫂改嫁，说明旧社会劳动妇女没有人身自由，丈夫死了还得受制于婆婆。绳子一捆，塞在花轿里，以八十千的价格“卖”掉了。祥林嫂的出格反抗也不可能改变她的命运。从中我们还可看到一个矛盾：婆婆卖媳妇是应该的，甚至人们还夸她精明，祥林嫂的反抗是不应该的。在这个角度上，封建思想是支持她婆婆的，婆婆可以支配媳妇的命运。但改嫁又偏偏是祥林嫂最大也是唯一的罪名。在这个方面，封建思想又不可能原谅祥林嫂的“罪”。在这个矛盾中，我们看不到祥林嫂的活路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大伯收房子也是应该的。原因很简单，祥林嫂没了儿子，也就是没了贺家的后代，也就成了贺家的外人，房子是不能给她的。但封建思想又教育女子们：生是夫家人，死是夫家鬼。在这个矛盾中，我们也看不见祥林嫂的生存空间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9640" y="17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(2)</a:t>
            </a:r>
            <a:r>
              <a:rPr b="1" i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柳妈</a:t>
            </a:r>
            <a:r>
              <a:rPr b="1" i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1341360"/>
            <a:ext cx="287280" cy="1366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3"/>
                  <a:pt x="10800" y="1806"/>
                </a:cubicBezTo>
                <a:lnTo>
                  <a:pt x="10800" y="9007"/>
                </a:lnTo>
                <a:cubicBezTo>
                  <a:pt x="10800" y="9910"/>
                  <a:pt x="5400" y="10813"/>
                  <a:pt x="0" y="10813"/>
                </a:cubicBezTo>
                <a:cubicBezTo>
                  <a:pt x="5400" y="10813"/>
                  <a:pt x="10800" y="11716"/>
                  <a:pt x="10800" y="12619"/>
                </a:cubicBezTo>
                <a:lnTo>
                  <a:pt x="10800" y="19794"/>
                </a:lnTo>
                <a:cubicBezTo>
                  <a:pt x="10800" y="206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1052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恶毒、愚昧、杀人于无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1700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外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1700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丑陋、令人厌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2349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23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卑鄙无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67640" y="1341360"/>
            <a:ext cx="217440" cy="3382920"/>
          </a:xfrm>
          <a:custGeom>
            <a:avLst/>
            <a:gdLst>
              <a:gd name="textAreaLeft" fmla="*/ 0 w 217440"/>
              <a:gd name="textAreaRight" fmla="*/ 78480 w 217440"/>
              <a:gd name="textAreaTop" fmla="*/ 88200 h 3382920"/>
              <a:gd name="textAreaBottom" fmla="*/ 329472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35120" y="1989000"/>
            <a:ext cx="21088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精神的愚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人情的冷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429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(3)</a:t>
            </a:r>
            <a:r>
              <a:rPr b="1" i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其他人</a:t>
            </a:r>
            <a:r>
              <a:rPr b="1" i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3068640"/>
            <a:ext cx="287280" cy="158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3068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宋体"/>
              </a:rPr>
              <a:t>短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3068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淡然简捷的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宋体"/>
              </a:rPr>
              <a:t>四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364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慌乱的语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4365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Arial"/>
                <a:ea typeface="宋体"/>
              </a:rPr>
              <a:t>女人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92360" y="429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鄙薄厌烦的神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（</a:t>
            </a:r>
            <a:r>
              <a:rPr b="1" i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1</a:t>
            </a:r>
            <a:r>
              <a:rPr b="1" i="1" lang="zh-CN" sz="2800" spc="-1" strike="noStrike">
                <a:solidFill>
                  <a:srgbClr val="6600ff"/>
                </a:solidFill>
                <a:latin typeface="Arial"/>
                <a:ea typeface="宋体"/>
              </a:rPr>
              <a:t>）婆婆和大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76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宋体"/>
              </a:rPr>
              <a:t>卑鄙无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537372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祥林嫂是非死不可的，同情她的人和冷酷的人，自私的人，是一样把她往死地里赶，是一样使她增加痛苦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91000" y="5373720"/>
            <a:ext cx="729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丁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Garamond"/>
              </a:rPr>
              <a:t>3:</a:t>
            </a:r>
            <a:r>
              <a:rPr b="1" lang="zh-CN" sz="3800" spc="-1" strike="noStrike">
                <a:solidFill>
                  <a:srgbClr val="cc0000"/>
                </a:solidFill>
                <a:latin typeface="Garamond"/>
              </a:rPr>
              <a:t>谁应该对祥林嫂的死负责</a:t>
            </a:r>
            <a:r>
              <a:rPr b="1" lang="zh-CN" sz="3800" spc="-1" strike="noStrike">
                <a:solidFill>
                  <a:srgbClr val="cc0000"/>
                </a:solidFill>
                <a:latin typeface="Garamond"/>
              </a:rPr>
              <a:t>?</a:t>
            </a:r>
            <a:r>
              <a:rPr b="1" lang="zh-CN" sz="3800" spc="-1" strike="noStrike">
                <a:solidFill>
                  <a:srgbClr val="cc0000"/>
                </a:solidFill>
                <a:latin typeface="Garamond"/>
              </a:rPr>
              <a:t>谁是元凶</a:t>
            </a:r>
            <a:r>
              <a:rPr b="1" lang="zh-CN" sz="3800" spc="-1" strike="noStrike">
                <a:solidFill>
                  <a:srgbClr val="cc0000"/>
                </a:solidFill>
                <a:latin typeface="Garamond"/>
              </a:rPr>
              <a:t>??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2133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宋体"/>
              </a:rPr>
              <a:t>林嫂祥勤快能干而又善良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宋体"/>
              </a:rPr>
              <a:t>在一次次走投无路中苦苦挣扎到最后一息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333360"/>
            <a:ext cx="1152360" cy="1150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3366"/>
                </a:solidFill>
                <a:latin typeface="Arial"/>
                <a:ea typeface="宋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8640" y="3789360"/>
            <a:ext cx="1277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宋体"/>
              </a:rPr>
              <a:t>谁 是  凶  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3357720"/>
            <a:ext cx="360360" cy="331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4172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鲁镇的环境氛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328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迷信麻木愚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29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鲁镇的思想认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顽固守旧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尊崇礼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55897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鲁镇的待人处事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2080" y="6093000"/>
            <a:ext cx="45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5805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宋体"/>
              </a:rPr>
              <a:t>淡漠而无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4000" y="3357720"/>
            <a:ext cx="216000" cy="3024000"/>
          </a:xfrm>
          <a:custGeom>
            <a:avLst/>
            <a:gdLst>
              <a:gd name="textAreaLeft" fmla="*/ 0 w 216000"/>
              <a:gd name="textAreaRight" fmla="*/ 78120 w 21600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4508640"/>
            <a:ext cx="431640" cy="647640"/>
          </a:xfrm>
          <a:prstGeom prst="rightArrow">
            <a:avLst>
              <a:gd name="adj1" fmla="val 46565"/>
              <a:gd name="adj2" fmla="val 5882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96520" y="3141720"/>
            <a:ext cx="115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合谋杀害祥林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56720" y="4653000"/>
            <a:ext cx="21564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1120" y="2852640"/>
            <a:ext cx="911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封建礼教与迷信才是真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022640"/>
            <a:ext cx="56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这是一个旧中国农村妇女的悲惨故事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780000" cy="3573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321080" cy="3645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-243000"/>
            <a:ext cx="45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0"/>
            <a:ext cx="280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三：祥林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54936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Arial"/>
                <a:ea typeface="隶书"/>
              </a:rPr>
              <a:t>1:</a:t>
            </a:r>
            <a:r>
              <a:rPr b="0" lang="zh-CN" sz="3200" spc="-1" strike="noStrike">
                <a:solidFill>
                  <a:srgbClr val="66ff66"/>
                </a:solidFill>
                <a:latin typeface="Arial"/>
                <a:ea typeface="隶书"/>
              </a:rPr>
              <a:t>关于祥林嫂的外貌描写</a:t>
            </a:r>
            <a:r>
              <a:rPr b="0" lang="zh-CN" sz="3200" spc="-1" strike="noStrike">
                <a:solidFill>
                  <a:srgbClr val="66ff66"/>
                </a:solidFill>
                <a:latin typeface="Arial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1125360"/>
            <a:ext cx="871380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第一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: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头上扎着白头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乌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蓝夹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月白背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年纪大约二十六七脸色青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但两颊却还是红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2276640"/>
            <a:ext cx="8640720" cy="94716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第二次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: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头上扎着白头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乌裙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蓝夹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月白背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脸色青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只是两颊上已经消失了血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顺着眼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眼角上带些泪痕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眼光也没有先前那样精神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3776760"/>
            <a:ext cx="8785440" cy="1373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第三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五年前花白的头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即今已经全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全不像四十上下的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脸上瘦削不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黄中带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而且消尽了先前悲哀的神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仿佛是木刻似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只有那眼珠间或一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还可以表示她是一个活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她一手提着竹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中一个破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空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一手拄着一支比她更长的竹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下端开了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她分明已经纯乎是一个乞丐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比较它们的异同，思考其用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作者通过肖像描写首先显示出的祥林嫂的性格特点：勤劳，朴实，善良，温顺，要求极低，易于满足。但再到鲁镇时，两颊和眼睛发生了变化，说明精神上受到刺激，极度悲伤。而第三处则显示其遭遇悲惨，乞讨无路，陷于绝境，内心深处受到摧残，精神麻木，已是濒于死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作者正是用白描手法，在对比中显示人物的境遇，内心的痛苦和悲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71640" y="476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Arial"/>
                <a:ea typeface="宋体"/>
              </a:rPr>
              <a:t>作用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41300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表现人物的质朴与忠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更重要的是表现了人物命运的变化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揭示了人物一步一步被逼向灭亡的过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762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042920" y="260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2;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关于祥林嫂的反抗精神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9079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Arial"/>
                <a:ea typeface="宋体"/>
              </a:rPr>
              <a:t>A:</a:t>
            </a:r>
            <a:r>
              <a:rPr b="1" i="1" lang="zh-CN" sz="2800" spc="-1" strike="noStrike">
                <a:solidFill>
                  <a:srgbClr val="993366"/>
                </a:solidFill>
                <a:latin typeface="Arial"/>
                <a:ea typeface="宋体"/>
              </a:rPr>
              <a:t>祥林嫂对不幸的命运抗争过吗</a:t>
            </a:r>
            <a:r>
              <a:rPr b="1" i="1" lang="zh-CN" sz="2800" spc="-1" strike="noStrike">
                <a:solidFill>
                  <a:srgbClr val="993366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148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抗争表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1557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逃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;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山中出逃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做工鲁镇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20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宋体"/>
              </a:rPr>
              <a:t>维护自我尊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27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撞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改嫁中的“出格”行为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33577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宋体"/>
              </a:rPr>
              <a:t>对婆家为她安排的命运的反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400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捐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;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倾其所有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洗刷“污秽” 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3280" y="45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宋体"/>
              </a:rPr>
              <a:t>追求人的平等权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51577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问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宋体"/>
              </a:rPr>
              <a:t>死前问我鬼神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661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宋体"/>
              </a:rPr>
              <a:t>对天经地义的神权的质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3760" y="2060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宋体"/>
              </a:rPr>
              <a:t>敢于直面封建妇道、孝道</a:t>
            </a:r>
            <a:r>
              <a:rPr b="1" lang="zh-CN" sz="2800" spc="-1" strike="noStrike">
                <a:solidFill>
                  <a:srgbClr val="3b812f"/>
                </a:solidFill>
                <a:latin typeface="Arial"/>
                <a:ea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5280" y="260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B: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你如何看待祥林嫂的抗争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这种抗争的实质是什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148428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宋体"/>
              </a:rPr>
              <a:t>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1844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1557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宋体"/>
              </a:rPr>
              <a:t>躲避被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3960" y="20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宋体"/>
              </a:rPr>
              <a:t>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宋体"/>
              </a:rPr>
              <a:t>不愿二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148428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67280" y="184464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从一而终”的封建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3960" y="27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宋体"/>
              </a:rPr>
              <a:t>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92360" y="3068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2565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宋体"/>
              </a:rPr>
              <a:t>向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宋体"/>
              </a:rPr>
              <a:t>封建迷信</a:t>
            </a: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宋体"/>
              </a:rPr>
              <a:t>低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3500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ff"/>
                </a:solidFill>
                <a:latin typeface="Arial"/>
                <a:ea typeface="宋体"/>
              </a:rPr>
              <a:t>总结</a:t>
            </a:r>
            <a:r>
              <a:rPr b="1" i="1" lang="zh-CN" sz="4400" spc="-1" strike="noStrike">
                <a:solidFill>
                  <a:srgbClr val="ff00ff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3500280"/>
            <a:ext cx="71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抗争是自发的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缺乏明确的认识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而且方式方法都是错误的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.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所以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抗争的结果只能是逃出“苦海”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又进“狼窝”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.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封建礼教与迷信在祥林嫂头脑中也是根深蒂固的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落后与愚昧仍然是祥林嫂性格中相当突出的因素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新宋体-18030"/>
              </a:rPr>
              <a:t>.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小说的标题为祝福，其中有什么样的深刻含义呢？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提示：小说写了几次祝福？一共四次。一进鲁宅的祝福。二进鲁宅，两次祝福。生命结束在祝福前夕。祝福是什么？是一种备祭礼、拜神，放鞭炮，以祈求好运的民俗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回答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年底的祝福是一个时间标志，把祥林嫂的人生悲剧串联起来，形成清晰的发展脉络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作者用祝福为题，包含了反讽意味，在鲁镇家家祝福的背景下，被众人歧视的祥林嫂却在这一刻死去，增添了作品的悲剧氛围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祝福与祥林嫂的命运发展关系密切，进鲁宅的三次祝福，第一次祝福，体现了祥林嫂的勤劳，后两次祝福时遭拒，使祥林嫂精神崩溃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3933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  <a:ea typeface="宋体"/>
              </a:rPr>
              <a:t>祝福 ”为题的含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这部小说还有哪几处环境描写？品味其中的语句，体味环境描写的作用。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：开头和结尾的祝福场景；祥林嫂死后当晚“冬日雪短……反而渐渐地舒畅起来”一节；祝福前夕柳妈寻祥林嫂开心时，“微雪点点地下来了”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：开头的祝福景象：小说在开头就渲染了鲁镇年终祝福的热闹忙碌的气氛：晚云的闪光、爆竹的钝响、幽微的火药和人们忙碌的景象。调动了读者的视觉、听觉和嗅觉，写得层次分明，具体形象，使人如见其景，如闻其声。课文中用“沉重”的晚云，“阴暗”的天色，“将鲁镇乱成一团糟”等语句透露出作者对这种气氛的反感和贬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：祥林嫂死后当晚“冬日雪短……反而渐渐地舒畅起来”一节：这段景物描写的作用是渲染悲凉沉寂的气氛，烘托“我”的心情，从“寂静”、“沉寂”等词中可以看出。中间的议论是反语，表现了“我”对这个黑暗社会的憎恨。最后一句的“轻松”实际上可理解为愤激和沉痛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：祝福前夕柳妈寻祥林嫂开心时，“微雪点点地下来了”：暗示着下文柳妈的话即将带给祥林嫂巨大的心理阴影，起到了暗示情节的作用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：结尾的祝福景象：这一段景物描写是由回想到现实，第一句是过渡，与前面转入回忆的句子照应，这一段描写与开头的景物描写前后呼应，渲染了热烈气氛，同时反衬出祥林嫂惨死的悲凉。最后一句故意虚写，那些“醉醺醺”蹒跚的“天地圣众”，哪里会赐福给穷人呢？买不起爆竹的穷人们，得到的只是无限的痛苦和悲哀。这个结尾，以“我”的感受来写景，深化了旧社会封建礼教吃人的本质，使结构更加严谨完善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总结 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环境描写的分类：自然环境和社会环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环境描写的作用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提供人物生活的场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反映时代特征、社会特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渲染气氛，衬托人物心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侧面反映人物的性格，烘托人物形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暗示、推动情节的发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讨论：作品中“我”的形象。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作品中的“我”是一个具有正义感的小资产阶级知识分子的形象。“我”反感鲁四老爷，厌恶封建礼俗，同情祥林嫂，但另一方面又是软弱无能，无力给祥林嫂以帮助。在小说结构上，“我”又起着线索作用，祥林嫂一生的悲惨遭遇都是通过“我”的所见所闻来反映，“我”是事件的见证人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1620720" y="-2043000"/>
            <a:ext cx="14411160" cy="10810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71640" y="76500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3399"/>
                </a:solidFill>
                <a:latin typeface="Arial"/>
                <a:ea typeface="宋体"/>
              </a:rPr>
              <a:t>作业</a:t>
            </a:r>
            <a:r>
              <a:rPr b="1" i="1" lang="zh-CN" sz="4400" spc="-1" strike="noStrike">
                <a:solidFill>
                  <a:srgbClr val="cc3399"/>
                </a:solidFill>
                <a:latin typeface="Arial"/>
                <a:ea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162864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祥林嫂捐了门槛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仍然被禁止参与‘祝福’活动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在极度失望中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她拿起斧子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宋体"/>
              </a:rPr>
              <a:t>怒砍土地庙门槛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82560" y="3716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结合祥林嫂的性格特征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以小论文的形式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评价增添这个情节是否妥当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0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95640" y="3284640"/>
            <a:ext cx="5400720" cy="381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5435640" cy="3959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789360"/>
            <a:ext cx="40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鲁镇的人们在准备过“祝福”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916280"/>
            <a:ext cx="7623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0" lang="zh-CN" sz="9600" spc="-1" strike="noStrike">
                <a:solidFill>
                  <a:srgbClr val="006633"/>
                </a:solidFill>
                <a:latin typeface="Garamond"/>
                <a:ea typeface="楷体_GB2312"/>
              </a:rPr>
              <a:t>小说情节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506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68000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2867040" cy="3382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51640" y="836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鲁四老爷（鲁迅四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65300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论如何，我明天决计要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4751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3695760" cy="309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436572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手脚都壮大，又只是顺着眼，不开一句口，很像一个安分耐劳的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创作背景及时代意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675640" cy="4953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4360" y="1484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祝福》创作于１９２４年，后收入作者第二部小说集《彷徨》中．２０世纪２０年代，正是中国新文化运动的发展时期．新文化运动的口号是“民主、科学”，而阻止中国进入民主、科学时代的最大障碍，就是中国两千多年遗留下来的腐朽愚昧的封建思想．妇女则是封建思想的最大受害者．鲁迅选择妇女题材，是为了深刻揭露封建思想文化的流弊和余毒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993300"/>
                </a:solidFill>
                <a:latin typeface="Garamond"/>
                <a:ea typeface="隶书"/>
              </a:rPr>
              <a:t>你预习了吗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字词音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发轫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（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è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）轫，车前横木．发轫指新事物或某种局面开始现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寒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暄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问寒问暖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烟霭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霭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山中的雾气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CN" sz="2600" spc="-1" strike="noStrike">
                <a:solidFill>
                  <a:srgbClr val="cc6600"/>
                </a:solidFill>
                <a:latin typeface="Arial"/>
              </a:rPr>
              <a:t>蔼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悚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ǒng</a:t>
            </a: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然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害怕的样子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芒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zh-CN" sz="2600" spc="-1" strike="noStrike">
                <a:solidFill>
                  <a:srgbClr val="996600"/>
                </a:solidFill>
                <a:latin typeface="Arial"/>
              </a:rPr>
              <a:t>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麦穗上的尖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07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00"/>
                </a:solidFill>
                <a:latin typeface="Arial"/>
              </a:rPr>
              <a:t>忌讳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顾忌或禁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00"/>
                </a:solidFill>
                <a:latin typeface="Arial"/>
              </a:rPr>
              <a:t>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ìng</a:t>
            </a:r>
            <a:r>
              <a:rPr b="0" lang="zh-CN" sz="2200" spc="-1" strike="noStrike">
                <a:solidFill>
                  <a:srgbClr val="996600"/>
                </a:solidFill>
                <a:latin typeface="Arial"/>
                <a:ea typeface="Arial"/>
              </a:rPr>
              <a:t>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驰骋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00"/>
                </a:solidFill>
                <a:latin typeface="Arial"/>
              </a:rPr>
              <a:t>捺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à):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按住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00"/>
                </a:solidFill>
                <a:latin typeface="Arial"/>
                <a:ea typeface="Arial"/>
              </a:rPr>
              <a:t>拗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(nìu)</a:t>
            </a:r>
            <a:r>
              <a:rPr b="0" lang="zh-CN" sz="2200" spc="-1" strike="noStrike">
                <a:solidFill>
                  <a:srgbClr val="996600"/>
                </a:solidFill>
                <a:latin typeface="Arial"/>
                <a:ea typeface="Arial"/>
              </a:rPr>
              <a:t>不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无法改变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亦读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(ào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指“不顺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拗口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亦读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(aǒ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指“弄弯使断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把竹竿拗断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5734080"/>
            <a:ext cx="792000" cy="385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828720" y="206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  <a:ea typeface="宋体"/>
              </a:rPr>
              <a:t>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4149720"/>
            <a:ext cx="2808360" cy="934920"/>
          </a:xfrm>
          <a:prstGeom prst="wedgeRectCallout">
            <a:avLst>
              <a:gd name="adj1" fmla="val -44574"/>
              <a:gd name="adj2" fmla="val 12538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请牢记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371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7353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0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924360" y="-1611360"/>
            <a:ext cx="14411520" cy="1081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1280" y="0"/>
            <a:ext cx="60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隶书"/>
              </a:rPr>
              <a:t>情节与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400" y="2492280"/>
            <a:ext cx="16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0" y="3068640"/>
            <a:ext cx="789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  <a:ea typeface="华文新魏"/>
              </a:rPr>
              <a:t>祝       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565360"/>
            <a:ext cx="216000" cy="30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34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眼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38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回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54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眼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215"/>
                </a:lnTo>
                <a:cubicBezTo>
                  <a:pt x="10800" y="8115"/>
                  <a:pt x="5400" y="9015"/>
                  <a:pt x="0" y="9015"/>
                </a:cubicBezTo>
                <a:cubicBezTo>
                  <a:pt x="5400" y="9015"/>
                  <a:pt x="10800" y="9915"/>
                  <a:pt x="10800" y="108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371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133"/>
                </a:lnTo>
                <a:cubicBezTo>
                  <a:pt x="10800" y="7033"/>
                  <a:pt x="5400" y="7933"/>
                  <a:pt x="0" y="7933"/>
                </a:cubicBezTo>
                <a:cubicBezTo>
                  <a:pt x="5400" y="7933"/>
                  <a:pt x="10800" y="8833"/>
                  <a:pt x="10800" y="9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2060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序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结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57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422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高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5307120"/>
            <a:ext cx="81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58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尾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206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祝福景象和鲁四老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852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寂然死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573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初到鲁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帮工鲁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414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迫改嫁，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被卖深山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cc6600"/>
                </a:solidFill>
                <a:latin typeface="Arial"/>
                <a:ea typeface="宋体"/>
              </a:rPr>
              <a:t>勤劳谋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8690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丧夫失子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再到鲁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祝福之夜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祝福景象和我的感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0"/>
            <a:ext cx="3240000" cy="1557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行楷"/>
              </a:rPr>
              <a:t>你能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行楷"/>
              </a:rPr>
              <a:t>整理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行楷"/>
              </a:rPr>
              <a:t>来吗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02:35:47Z</dcterms:created>
  <dc:creator/>
  <dc:description/>
  <dc:language>en-US</dc:language>
  <cp:lastModifiedBy>YlmF</cp:lastModifiedBy>
  <dcterms:modified xsi:type="dcterms:W3CDTF">2012-11-21T16:27:25Z</dcterms:modified>
  <cp:revision>0</cp:revision>
  <dc:subject/>
  <dc:title/>
</cp:coreProperties>
</file>