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wmf" ContentType="image/x-wmf"/>
  <Override PartName="/ppt/media/image10.jpeg" ContentType="image/jpeg"/>
  <Override PartName="/ppt/media/image17.jpeg" ContentType="image/jpeg"/>
  <Override PartName="/ppt/media/image9.png" ContentType="image/png"/>
  <Override PartName="/ppt/media/image14.wmf" ContentType="image/x-wmf"/>
  <Override PartName="/ppt/media/image5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6.jpeg" ContentType="image/jpeg"/>
  <Override PartName="/ppt/media/image8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880-7E78-4DA5-8407-77163A09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FE4-4439-4093-8703-6EEEE878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DA8-0228-4E76-9D11-6CADAA28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575-0DEB-409D-89F0-177BEB9F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48D-B720-4FA6-A17A-CFFCF1F2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9DB-A63C-47DB-8B8E-23E60887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066-C193-4CA5-9A8C-1FA62675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F84-BF80-4C36-A473-65283C85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DA9-D9E1-42E4-97BE-F077FAE1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673-AE83-4BDE-9498-F6893AD8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D7A-B1C7-4B8F-B5AE-A4DD657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F70-1B4F-471B-A52A-918D5A3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7404-F7A4-4762-A63E-60D30CF123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.wmf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.wmf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9600" y="-233280"/>
            <a:ext cx="9763200" cy="732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4920" y="15778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2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窗前的气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365720"/>
            <a:ext cx="46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教：吕     淑     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宁夏银川二十一小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ShockwaveFlash1"/>
          <p:cNvGraphicFramePr/>
          <p:nvPr/>
        </p:nvGraphicFramePr>
        <p:xfrm>
          <a:off x="71280" y="0"/>
          <a:ext cx="896472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0"/>
                    <a:ext cx="8964720" cy="6524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52360" y="26028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读一读，比一比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4149720"/>
            <a:ext cx="28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6360" y="2228760"/>
            <a:ext cx="89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科利亚的心情一下子好了许多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27640" y="3860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1938240"/>
            <a:ext cx="8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科利亚的心情好了许多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1143000" y="0"/>
            <a:ext cx="11145960" cy="6840360"/>
            <a:chOff x="-1143000" y="0"/>
            <a:chExt cx="11145960" cy="68403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-1143000" y="0"/>
              <a:ext cx="11145960" cy="68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68494" t="0" r="0" b="10277"/>
            <a:stretch/>
          </p:blipFill>
          <p:spPr>
            <a:xfrm>
              <a:off x="6477120" y="0"/>
              <a:ext cx="3504960" cy="61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16000" y="7858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想一想，说一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258768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科利亚＿＿＿＿＿＿＿＿＿＿，高兴地笑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2124000" y="189000"/>
          <a:ext cx="555300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89000"/>
                    <a:ext cx="555300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627280" y="1484280"/>
            <a:ext cx="468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户 逗 亚 猜 拴 呆 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病 始 张 床 科 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780000" y="3540240"/>
            <a:ext cx="647640" cy="609480"/>
            <a:chOff x="3780000" y="3540240"/>
            <a:chExt cx="647640" cy="609480"/>
          </a:xfrm>
        </p:grpSpPr>
        <p:sp>
          <p:nvSpPr>
            <p:cNvPr id="154" name=""/>
            <p:cNvSpPr/>
            <p:nvPr/>
          </p:nvSpPr>
          <p:spPr>
            <a:xfrm>
              <a:off x="3780000" y="3540240"/>
              <a:ext cx="647640" cy="608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0000" y="38494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99680" y="35402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427640" y="3540240"/>
            <a:ext cx="647640" cy="609480"/>
            <a:chOff x="4427640" y="3540240"/>
            <a:chExt cx="647640" cy="609480"/>
          </a:xfrm>
        </p:grpSpPr>
        <p:sp>
          <p:nvSpPr>
            <p:cNvPr id="158" name=""/>
            <p:cNvSpPr/>
            <p:nvPr/>
          </p:nvSpPr>
          <p:spPr>
            <a:xfrm>
              <a:off x="4427640" y="3540240"/>
              <a:ext cx="647640" cy="608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27640" y="38494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7320" y="35402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076720" y="3540240"/>
            <a:ext cx="647640" cy="609480"/>
            <a:chOff x="5076720" y="3540240"/>
            <a:chExt cx="647640" cy="609480"/>
          </a:xfrm>
        </p:grpSpPr>
        <p:sp>
          <p:nvSpPr>
            <p:cNvPr id="162" name=""/>
            <p:cNvSpPr/>
            <p:nvPr/>
          </p:nvSpPr>
          <p:spPr>
            <a:xfrm>
              <a:off x="5076720" y="3540240"/>
              <a:ext cx="647640" cy="608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76720" y="38494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96400" y="35402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780000" y="4114800"/>
            <a:ext cx="647640" cy="609480"/>
            <a:chOff x="3780000" y="4114800"/>
            <a:chExt cx="647640" cy="609480"/>
          </a:xfrm>
        </p:grpSpPr>
        <p:sp>
          <p:nvSpPr>
            <p:cNvPr id="166" name=""/>
            <p:cNvSpPr/>
            <p:nvPr/>
          </p:nvSpPr>
          <p:spPr>
            <a:xfrm>
              <a:off x="3780000" y="4114800"/>
              <a:ext cx="647640" cy="608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80000" y="442404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99680" y="41148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425840" y="4114800"/>
            <a:ext cx="647640" cy="609480"/>
            <a:chOff x="4425840" y="4114800"/>
            <a:chExt cx="647640" cy="609480"/>
          </a:xfrm>
        </p:grpSpPr>
        <p:sp>
          <p:nvSpPr>
            <p:cNvPr id="170" name=""/>
            <p:cNvSpPr/>
            <p:nvPr/>
          </p:nvSpPr>
          <p:spPr>
            <a:xfrm>
              <a:off x="4425840" y="4114800"/>
              <a:ext cx="647640" cy="608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5840" y="442404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45520" y="41148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076720" y="4114800"/>
            <a:ext cx="647640" cy="609480"/>
            <a:chOff x="5076720" y="4114800"/>
            <a:chExt cx="647640" cy="609480"/>
          </a:xfrm>
        </p:grpSpPr>
        <p:sp>
          <p:nvSpPr>
            <p:cNvPr id="174" name=""/>
            <p:cNvSpPr/>
            <p:nvPr/>
          </p:nvSpPr>
          <p:spPr>
            <a:xfrm>
              <a:off x="5076720" y="4114800"/>
              <a:ext cx="647640" cy="608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6720" y="442404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6400" y="41148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897000" y="349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楷体_GB2312"/>
              </a:rPr>
              <a:t>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71920" y="350028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楷体_GB2312"/>
              </a:rPr>
              <a:t>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96240" y="3544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2038320" y="2614680"/>
          <a:ext cx="1698480" cy="156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38320" y="2614680"/>
                    <a:ext cx="169848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933560" y="2374920"/>
            <a:ext cx="2016000" cy="20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33560" y="3397320"/>
            <a:ext cx="2016000" cy="3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30400" y="2374920"/>
            <a:ext cx="1800" cy="2019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27640" y="2389320"/>
            <a:ext cx="2016000" cy="20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27640" y="3411360"/>
            <a:ext cx="2016000" cy="3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2389320"/>
            <a:ext cx="1800" cy="2019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050920" y="2624040"/>
          <a:ext cx="1657440" cy="152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2624040"/>
                    <a:ext cx="165744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537160" y="2565360"/>
          <a:ext cx="1533600" cy="1622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37160" y="2565360"/>
                    <a:ext cx="153360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533920" y="2558880"/>
          <a:ext cx="1559160" cy="164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33920" y="2558880"/>
                    <a:ext cx="155916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14480" y="2449440"/>
            <a:ext cx="1771560" cy="1665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4480" y="3295800"/>
            <a:ext cx="17715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89280" y="2449440"/>
            <a:ext cx="0" cy="1668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84560" y="2382840"/>
            <a:ext cx="988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楷体_GB2312"/>
              </a:rPr>
              <a:t>床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57520" y="2487600"/>
            <a:ext cx="1771560" cy="1665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57520" y="3333600"/>
            <a:ext cx="17715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32320" y="2487600"/>
            <a:ext cx="0" cy="1668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13200" y="223524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Arial"/>
                <a:ea typeface="楷体_GB2312"/>
              </a:rPr>
              <a:t>病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4800" y="2516040"/>
            <a:ext cx="1771920" cy="1665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84800" y="3362400"/>
            <a:ext cx="1771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59600" y="2516040"/>
            <a:ext cx="0" cy="1668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3320" y="2363760"/>
            <a:ext cx="988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楷体_GB2312"/>
              </a:rPr>
              <a:t>周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-147600"/>
            <a:ext cx="9685440" cy="6961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58920" y="442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作业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119700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练习写半包围结构的字，每个字写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遍再组一个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2492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练习正确、流利、有感情地朗读课文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和家人或小伙伴赛一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386064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想一想，假如你的红气球也能飘到科利亚的窗前，你想在上面写些什么，画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851040" y="330120"/>
          <a:ext cx="1920600" cy="230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330120"/>
                    <a:ext cx="192060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971640" y="3070080"/>
          <a:ext cx="1738080" cy="20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3070080"/>
                    <a:ext cx="17380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89080" y="981000"/>
          <a:ext cx="1295280" cy="111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9080" y="981000"/>
                    <a:ext cx="1295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826920" y="1052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科利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58920" y="3592440"/>
          <a:ext cx="115236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3592440"/>
                    <a:ext cx="11523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44440" y="3573360"/>
            <a:ext cx="16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开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706920" y="333360"/>
          <a:ext cx="1919160" cy="230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06920" y="333360"/>
                    <a:ext cx="19191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95640" y="1019160"/>
          <a:ext cx="1297080" cy="1114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95640" y="1019160"/>
                    <a:ext cx="12970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635280" y="1052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呆呆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373800" y="260280"/>
          <a:ext cx="1919160" cy="2305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73800" y="260280"/>
                    <a:ext cx="19191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730920" y="907920"/>
          <a:ext cx="1222560" cy="1049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30920" y="907920"/>
                    <a:ext cx="12225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372360" y="9493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猜出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564000" y="3141720"/>
          <a:ext cx="1738080" cy="208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564000" y="3141720"/>
                    <a:ext cx="17380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851280" y="3664080"/>
          <a:ext cx="1152360" cy="990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851280" y="3664080"/>
                    <a:ext cx="115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736800" y="3645000"/>
            <a:ext cx="16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拴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84720" y="3068640"/>
          <a:ext cx="1738440" cy="2087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084720" y="3068640"/>
                    <a:ext cx="17384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372360" y="3591000"/>
          <a:ext cx="1152360" cy="9903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72360" y="3591000"/>
                    <a:ext cx="115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257880" y="3571920"/>
            <a:ext cx="16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逗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5084640"/>
            <a:ext cx="335160" cy="1729080"/>
          </a:xfrm>
          <a:custGeom>
            <a:avLst/>
            <a:gdLst/>
            <a:ahLst/>
            <a:rect l="l" t="t" r="r" b="b"/>
            <a:pathLst>
              <a:path w="211" h="1089">
                <a:moveTo>
                  <a:pt x="211" y="0"/>
                </a:moveTo>
                <a:cubicBezTo>
                  <a:pt x="135" y="136"/>
                  <a:pt x="60" y="273"/>
                  <a:pt x="30" y="454"/>
                </a:cubicBezTo>
                <a:cubicBezTo>
                  <a:pt x="0" y="635"/>
                  <a:pt x="15" y="862"/>
                  <a:pt x="30" y="10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5157720"/>
            <a:ext cx="601560" cy="1727280"/>
          </a:xfrm>
          <a:custGeom>
            <a:avLst/>
            <a:gdLst/>
            <a:ahLst/>
            <a:rect l="l" t="t" r="r" b="b"/>
            <a:pathLst>
              <a:path w="379" h="1088">
                <a:moveTo>
                  <a:pt x="363" y="0"/>
                </a:moveTo>
                <a:cubicBezTo>
                  <a:pt x="371" y="68"/>
                  <a:pt x="379" y="136"/>
                  <a:pt x="318" y="317"/>
                </a:cubicBezTo>
                <a:cubicBezTo>
                  <a:pt x="257" y="498"/>
                  <a:pt x="128" y="793"/>
                  <a:pt x="0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5084640"/>
            <a:ext cx="600120" cy="1873440"/>
          </a:xfrm>
          <a:custGeom>
            <a:avLst/>
            <a:gdLst/>
            <a:ahLst/>
            <a:rect l="l" t="t" r="r" b="b"/>
            <a:pathLst>
              <a:path w="378" h="1180">
                <a:moveTo>
                  <a:pt x="363" y="0"/>
                </a:moveTo>
                <a:cubicBezTo>
                  <a:pt x="370" y="128"/>
                  <a:pt x="378" y="257"/>
                  <a:pt x="318" y="454"/>
                </a:cubicBezTo>
                <a:cubicBezTo>
                  <a:pt x="258" y="651"/>
                  <a:pt x="129" y="915"/>
                  <a:pt x="0" y="11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8720" y="2492280"/>
            <a:ext cx="684360" cy="4465800"/>
          </a:xfrm>
          <a:custGeom>
            <a:avLst/>
            <a:gdLst/>
            <a:ahLst/>
            <a:rect l="l" t="t" r="r" b="b"/>
            <a:pathLst>
              <a:path w="431" h="2813">
                <a:moveTo>
                  <a:pt x="0" y="0"/>
                </a:moveTo>
                <a:cubicBezTo>
                  <a:pt x="102" y="125"/>
                  <a:pt x="204" y="250"/>
                  <a:pt x="272" y="409"/>
                </a:cubicBezTo>
                <a:cubicBezTo>
                  <a:pt x="340" y="568"/>
                  <a:pt x="385" y="764"/>
                  <a:pt x="408" y="953"/>
                </a:cubicBezTo>
                <a:cubicBezTo>
                  <a:pt x="431" y="1142"/>
                  <a:pt x="431" y="1316"/>
                  <a:pt x="408" y="1543"/>
                </a:cubicBezTo>
                <a:cubicBezTo>
                  <a:pt x="385" y="1770"/>
                  <a:pt x="310" y="2102"/>
                  <a:pt x="272" y="2314"/>
                </a:cubicBezTo>
                <a:cubicBezTo>
                  <a:pt x="234" y="2526"/>
                  <a:pt x="207" y="2669"/>
                  <a:pt x="181" y="28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565360"/>
            <a:ext cx="1081080" cy="4392720"/>
          </a:xfrm>
          <a:custGeom>
            <a:avLst/>
            <a:gdLst/>
            <a:ahLst/>
            <a:rect l="l" t="t" r="r" b="b"/>
            <a:pathLst>
              <a:path w="681" h="2767">
                <a:moveTo>
                  <a:pt x="0" y="0"/>
                </a:moveTo>
                <a:cubicBezTo>
                  <a:pt x="19" y="56"/>
                  <a:pt x="38" y="113"/>
                  <a:pt x="91" y="181"/>
                </a:cubicBezTo>
                <a:cubicBezTo>
                  <a:pt x="144" y="249"/>
                  <a:pt x="242" y="310"/>
                  <a:pt x="318" y="408"/>
                </a:cubicBezTo>
                <a:cubicBezTo>
                  <a:pt x="394" y="506"/>
                  <a:pt x="484" y="627"/>
                  <a:pt x="545" y="771"/>
                </a:cubicBezTo>
                <a:cubicBezTo>
                  <a:pt x="606" y="915"/>
                  <a:pt x="681" y="1096"/>
                  <a:pt x="681" y="1270"/>
                </a:cubicBezTo>
                <a:cubicBezTo>
                  <a:pt x="681" y="1444"/>
                  <a:pt x="553" y="1648"/>
                  <a:pt x="545" y="1814"/>
                </a:cubicBezTo>
                <a:cubicBezTo>
                  <a:pt x="537" y="1980"/>
                  <a:pt x="628" y="2109"/>
                  <a:pt x="635" y="2268"/>
                </a:cubicBezTo>
                <a:cubicBezTo>
                  <a:pt x="642" y="2427"/>
                  <a:pt x="616" y="2597"/>
                  <a:pt x="590" y="276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2492280"/>
            <a:ext cx="1440000" cy="4465800"/>
          </a:xfrm>
          <a:custGeom>
            <a:avLst/>
            <a:gdLst/>
            <a:ahLst/>
            <a:rect l="l" t="t" r="r" b="b"/>
            <a:pathLst>
              <a:path w="907" h="2813">
                <a:moveTo>
                  <a:pt x="45" y="0"/>
                </a:moveTo>
                <a:cubicBezTo>
                  <a:pt x="22" y="19"/>
                  <a:pt x="0" y="38"/>
                  <a:pt x="45" y="91"/>
                </a:cubicBezTo>
                <a:cubicBezTo>
                  <a:pt x="90" y="144"/>
                  <a:pt x="205" y="212"/>
                  <a:pt x="318" y="318"/>
                </a:cubicBezTo>
                <a:cubicBezTo>
                  <a:pt x="431" y="424"/>
                  <a:pt x="643" y="552"/>
                  <a:pt x="726" y="726"/>
                </a:cubicBezTo>
                <a:cubicBezTo>
                  <a:pt x="809" y="900"/>
                  <a:pt x="809" y="1081"/>
                  <a:pt x="816" y="1361"/>
                </a:cubicBezTo>
                <a:cubicBezTo>
                  <a:pt x="823" y="1641"/>
                  <a:pt x="756" y="2162"/>
                  <a:pt x="771" y="2404"/>
                </a:cubicBezTo>
                <a:cubicBezTo>
                  <a:pt x="786" y="2646"/>
                  <a:pt x="846" y="2729"/>
                  <a:pt x="907" y="28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971640" y="3070080"/>
            <a:ext cx="1800000" cy="3743640"/>
            <a:chOff x="971640" y="3070080"/>
            <a:chExt cx="1800000" cy="3743640"/>
          </a:xfrm>
        </p:grpSpPr>
        <p:graphicFrame>
          <p:nvGraphicFramePr>
            <p:cNvPr id="83" name=""/>
            <p:cNvGraphicFramePr/>
            <p:nvPr/>
          </p:nvGraphicFramePr>
          <p:xfrm>
            <a:off x="971640" y="3070080"/>
            <a:ext cx="1738080" cy="2087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71640" y="3070080"/>
                      <a:ext cx="173808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" name=""/>
            <p:cNvGraphicFramePr/>
            <p:nvPr/>
          </p:nvGraphicFramePr>
          <p:xfrm>
            <a:off x="1258920" y="3592440"/>
            <a:ext cx="1152360" cy="990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58920" y="3592440"/>
                      <a:ext cx="11523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1144440" y="3573360"/>
              <a:ext cx="162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开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47640" y="5084640"/>
              <a:ext cx="335160" cy="1729080"/>
            </a:xfrm>
            <a:custGeom>
              <a:avLst/>
              <a:gdLst/>
              <a:ahLst/>
              <a:rect l="l" t="t" r="r" b="b"/>
              <a:pathLst>
                <a:path w="211" h="1089">
                  <a:moveTo>
                    <a:pt x="211" y="0"/>
                  </a:moveTo>
                  <a:cubicBezTo>
                    <a:pt x="135" y="136"/>
                    <a:pt x="60" y="273"/>
                    <a:pt x="30" y="454"/>
                  </a:cubicBezTo>
                  <a:cubicBezTo>
                    <a:pt x="0" y="635"/>
                    <a:pt x="15" y="862"/>
                    <a:pt x="30" y="10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564000" y="3141720"/>
            <a:ext cx="1800000" cy="3743280"/>
            <a:chOff x="3564000" y="3141720"/>
            <a:chExt cx="1800000" cy="3743280"/>
          </a:xfrm>
        </p:grpSpPr>
        <p:graphicFrame>
          <p:nvGraphicFramePr>
            <p:cNvPr id="90" name=""/>
            <p:cNvGraphicFramePr/>
            <p:nvPr/>
          </p:nvGraphicFramePr>
          <p:xfrm>
            <a:off x="3564000" y="3141720"/>
            <a:ext cx="1738080" cy="208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64000" y="3141720"/>
                      <a:ext cx="173808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"/>
            <p:cNvGraphicFramePr/>
            <p:nvPr/>
          </p:nvGraphicFramePr>
          <p:xfrm>
            <a:off x="3851280" y="3664080"/>
            <a:ext cx="1152360" cy="990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851280" y="3664080"/>
                      <a:ext cx="115236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736800" y="3645000"/>
              <a:ext cx="162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拴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1280" y="5157720"/>
              <a:ext cx="601560" cy="1727280"/>
            </a:xfrm>
            <a:custGeom>
              <a:avLst/>
              <a:gdLst/>
              <a:ahLst/>
              <a:rect l="l" t="t" r="r" b="b"/>
              <a:pathLst>
                <a:path w="379" h="1088">
                  <a:moveTo>
                    <a:pt x="363" y="0"/>
                  </a:moveTo>
                  <a:cubicBezTo>
                    <a:pt x="371" y="68"/>
                    <a:pt x="379" y="136"/>
                    <a:pt x="318" y="317"/>
                  </a:cubicBezTo>
                  <a:cubicBezTo>
                    <a:pt x="257" y="498"/>
                    <a:pt x="128" y="793"/>
                    <a:pt x="0" y="10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84720" y="3068640"/>
            <a:ext cx="1800360" cy="3889440"/>
            <a:chOff x="6084720" y="3068640"/>
            <a:chExt cx="1800360" cy="3889440"/>
          </a:xfrm>
        </p:grpSpPr>
        <p:graphicFrame>
          <p:nvGraphicFramePr>
            <p:cNvPr id="97" name=""/>
            <p:cNvGraphicFramePr/>
            <p:nvPr/>
          </p:nvGraphicFramePr>
          <p:xfrm>
            <a:off x="6084720" y="3068640"/>
            <a:ext cx="1738440" cy="2087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084720" y="3068640"/>
                      <a:ext cx="173844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6372360" y="3591000"/>
            <a:ext cx="1152360" cy="990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72360" y="3591000"/>
                      <a:ext cx="115236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6257880" y="3571920"/>
              <a:ext cx="162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逗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72360" y="5084640"/>
              <a:ext cx="600120" cy="1873440"/>
            </a:xfrm>
            <a:custGeom>
              <a:avLst/>
              <a:gdLst/>
              <a:ahLst/>
              <a:rect l="l" t="t" r="r" b="b"/>
              <a:pathLst>
                <a:path w="378" h="1180">
                  <a:moveTo>
                    <a:pt x="363" y="0"/>
                  </a:moveTo>
                  <a:cubicBezTo>
                    <a:pt x="370" y="128"/>
                    <a:pt x="378" y="257"/>
                    <a:pt x="318" y="454"/>
                  </a:cubicBezTo>
                  <a:cubicBezTo>
                    <a:pt x="258" y="651"/>
                    <a:pt x="129" y="915"/>
                    <a:pt x="0" y="1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372360" y="260280"/>
            <a:ext cx="2087280" cy="6697800"/>
            <a:chOff x="6372360" y="260280"/>
            <a:chExt cx="2087280" cy="6697800"/>
          </a:xfrm>
        </p:grpSpPr>
        <p:graphicFrame>
          <p:nvGraphicFramePr>
            <p:cNvPr id="104" name=""/>
            <p:cNvGraphicFramePr/>
            <p:nvPr/>
          </p:nvGraphicFramePr>
          <p:xfrm>
            <a:off x="6373800" y="260280"/>
            <a:ext cx="1919160" cy="23050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373800" y="260280"/>
                      <a:ext cx="191916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6730920" y="907920"/>
            <a:ext cx="1222560" cy="10494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730920" y="907920"/>
                      <a:ext cx="1222560" cy="104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6372360" y="949320"/>
              <a:ext cx="20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猜出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08720" y="2492280"/>
              <a:ext cx="684360" cy="4465800"/>
            </a:xfrm>
            <a:custGeom>
              <a:avLst/>
              <a:gdLst/>
              <a:ahLst/>
              <a:rect l="l" t="t" r="r" b="b"/>
              <a:pathLst>
                <a:path w="431" h="2813">
                  <a:moveTo>
                    <a:pt x="0" y="0"/>
                  </a:moveTo>
                  <a:cubicBezTo>
                    <a:pt x="102" y="125"/>
                    <a:pt x="204" y="250"/>
                    <a:pt x="272" y="409"/>
                  </a:cubicBezTo>
                  <a:cubicBezTo>
                    <a:pt x="340" y="568"/>
                    <a:pt x="385" y="764"/>
                    <a:pt x="408" y="953"/>
                  </a:cubicBezTo>
                  <a:cubicBezTo>
                    <a:pt x="431" y="1142"/>
                    <a:pt x="431" y="1316"/>
                    <a:pt x="408" y="1543"/>
                  </a:cubicBezTo>
                  <a:cubicBezTo>
                    <a:pt x="385" y="1770"/>
                    <a:pt x="310" y="2102"/>
                    <a:pt x="272" y="2314"/>
                  </a:cubicBezTo>
                  <a:cubicBezTo>
                    <a:pt x="234" y="2526"/>
                    <a:pt x="207" y="2669"/>
                    <a:pt x="181" y="28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35280" y="333360"/>
            <a:ext cx="2089080" cy="6624720"/>
            <a:chOff x="3635280" y="333360"/>
            <a:chExt cx="2089080" cy="6624720"/>
          </a:xfrm>
        </p:grpSpPr>
        <p:graphicFrame>
          <p:nvGraphicFramePr>
            <p:cNvPr id="111" name=""/>
            <p:cNvGraphicFramePr/>
            <p:nvPr/>
          </p:nvGraphicFramePr>
          <p:xfrm>
            <a:off x="3706920" y="333360"/>
            <a:ext cx="1919160" cy="23036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706920" y="333360"/>
                      <a:ext cx="1919160" cy="23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3995640" y="1019160"/>
            <a:ext cx="1297080" cy="11145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3995640" y="1019160"/>
                      <a:ext cx="1297080" cy="11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3635280" y="1052640"/>
              <a:ext cx="208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呆呆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3280" y="2565360"/>
              <a:ext cx="1081080" cy="4392720"/>
            </a:xfrm>
            <a:custGeom>
              <a:avLst/>
              <a:gdLst/>
              <a:ahLst/>
              <a:rect l="l" t="t" r="r" b="b"/>
              <a:pathLst>
                <a:path w="681" h="2767">
                  <a:moveTo>
                    <a:pt x="0" y="0"/>
                  </a:moveTo>
                  <a:cubicBezTo>
                    <a:pt x="19" y="56"/>
                    <a:pt x="38" y="113"/>
                    <a:pt x="91" y="181"/>
                  </a:cubicBezTo>
                  <a:cubicBezTo>
                    <a:pt x="144" y="249"/>
                    <a:pt x="242" y="310"/>
                    <a:pt x="318" y="408"/>
                  </a:cubicBezTo>
                  <a:cubicBezTo>
                    <a:pt x="394" y="506"/>
                    <a:pt x="484" y="627"/>
                    <a:pt x="545" y="771"/>
                  </a:cubicBezTo>
                  <a:cubicBezTo>
                    <a:pt x="606" y="915"/>
                    <a:pt x="681" y="1096"/>
                    <a:pt x="681" y="1270"/>
                  </a:cubicBezTo>
                  <a:cubicBezTo>
                    <a:pt x="681" y="1444"/>
                    <a:pt x="553" y="1648"/>
                    <a:pt x="545" y="1814"/>
                  </a:cubicBezTo>
                  <a:cubicBezTo>
                    <a:pt x="537" y="1980"/>
                    <a:pt x="628" y="2109"/>
                    <a:pt x="635" y="2268"/>
                  </a:cubicBezTo>
                  <a:cubicBezTo>
                    <a:pt x="642" y="2427"/>
                    <a:pt x="616" y="2597"/>
                    <a:pt x="590" y="27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26920" y="330120"/>
            <a:ext cx="2376720" cy="6627960"/>
            <a:chOff x="826920" y="330120"/>
            <a:chExt cx="2376720" cy="6627960"/>
          </a:xfrm>
        </p:grpSpPr>
        <p:graphicFrame>
          <p:nvGraphicFramePr>
            <p:cNvPr id="118" name=""/>
            <p:cNvGraphicFramePr/>
            <p:nvPr/>
          </p:nvGraphicFramePr>
          <p:xfrm>
            <a:off x="851040" y="330120"/>
            <a:ext cx="1920600" cy="23068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851040" y="330120"/>
                      <a:ext cx="1920600" cy="23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1189080" y="981000"/>
            <a:ext cx="1295280" cy="111276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1189080" y="981000"/>
                      <a:ext cx="1295280" cy="111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826920" y="1052640"/>
              <a:ext cx="208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科利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63640" y="2492280"/>
              <a:ext cx="1440000" cy="4465800"/>
            </a:xfrm>
            <a:custGeom>
              <a:avLst/>
              <a:gdLst/>
              <a:ahLst/>
              <a:rect l="l" t="t" r="r" b="b"/>
              <a:pathLst>
                <a:path w="907" h="2813">
                  <a:moveTo>
                    <a:pt x="45" y="0"/>
                  </a:moveTo>
                  <a:cubicBezTo>
                    <a:pt x="22" y="19"/>
                    <a:pt x="0" y="38"/>
                    <a:pt x="45" y="91"/>
                  </a:cubicBezTo>
                  <a:cubicBezTo>
                    <a:pt x="90" y="144"/>
                    <a:pt x="205" y="212"/>
                    <a:pt x="318" y="318"/>
                  </a:cubicBezTo>
                  <a:cubicBezTo>
                    <a:pt x="431" y="424"/>
                    <a:pt x="643" y="552"/>
                    <a:pt x="726" y="726"/>
                  </a:cubicBezTo>
                  <a:cubicBezTo>
                    <a:pt x="809" y="900"/>
                    <a:pt x="809" y="1081"/>
                    <a:pt x="816" y="1361"/>
                  </a:cubicBezTo>
                  <a:cubicBezTo>
                    <a:pt x="823" y="1641"/>
                    <a:pt x="756" y="2162"/>
                    <a:pt x="771" y="2404"/>
                  </a:cubicBezTo>
                  <a:cubicBezTo>
                    <a:pt x="786" y="2646"/>
                    <a:pt x="846" y="2729"/>
                    <a:pt x="907" y="28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857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读一读，认一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901800"/>
            <a:ext cx="792000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科利亚静静地躺在病床上，呆呆地望着       窗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气球停了一会儿，开始一上一下地动起来，这是怎么回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这下他猜出来了，准是米沙想的招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他好像看见米沙拉动拴着气球的绳子，几个同学站在四周，叽叽喳喳地指手画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科利亚望着窗外那张逗人的“小脸”，高兴地笑了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50760" y="1052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27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他好像看见米沙拉动拴着气球的绳子，几个同学站在四周，叽叽喳喳地指手画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58920" y="37296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练习说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887480"/>
            <a:ext cx="860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病床上的科利亚</a:t>
            </a: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看不到＿＿＿＿＿＿＿，看不到＿＿＿＿＿，看不到＿＿＿＿＿＿＿……科利亚＿＿＿＿＿＿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7029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3:16:13Z</dcterms:created>
  <dc:creator>语文大师 xiexingcun.com</dc:creator>
  <dc:description/>
  <dc:language>en-US</dc:language>
  <cp:lastModifiedBy>User</cp:lastModifiedBy>
  <dcterms:modified xsi:type="dcterms:W3CDTF">2014-07-21T18:55:43Z</dcterms:modified>
  <cp:revision>0</cp:revision>
  <dc:subject/>
  <dc:title>语文大师 xiexingcun.com</dc:title>
</cp:coreProperties>
</file>