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6F29-6776-45E1-8EEA-0C14C90BF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048C-52BB-4CB7-A4BB-20B268E3A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657A-5678-4EC5-9015-2D055F46E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CA85-059A-404A-BE4C-30C6F50AC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85B0-41A3-4634-AC42-6DC559ABD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7FEF-92D5-4AFF-BCE8-212F18F4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3329-BBB2-443F-A431-5D22C44D9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D434-2137-4138-8CB6-AB9409DF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ED06-177F-4FD7-BA2D-F3675C634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1756-46EA-48D5-8260-1658B45C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C902-2BEF-477C-ADBE-BC5C169D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D53F-54B8-42BD-ACB7-CCB5BB12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3EA6E-F8A9-4727-8B42-DB1B2F9356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557" t="6460" r="557" b="12243"/>
          <a:stretch/>
        </p:blipFill>
        <p:spPr>
          <a:xfrm>
            <a:off x="0" y="1231920"/>
            <a:ext cx="9144000" cy="5626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286000" y="152280"/>
            <a:ext cx="403848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1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15 </a:t>
            </a:r>
            <a:r>
              <a:rPr b="1" lang="zh-CN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画风</a:t>
            </a:r>
            <a:endParaRPr b="1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557" t="6460" r="557" b="12243"/>
          <a:stretch/>
        </p:blipFill>
        <p:spPr>
          <a:xfrm>
            <a:off x="0" y="1231920"/>
            <a:ext cx="9144000" cy="56260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张洁问：“你想怎样画风？”</a:t>
            </a:r>
            <a:br>
              <a:rPr sz="4000"/>
            </a:b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我说：“ 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Arial"/>
              </a:rPr>
              <a:t>                      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>
            <a:lum bright="70000" contrast="-70000"/>
          </a:blip>
          <a:srcRect l="557" t="6460" r="557" b="12243"/>
          <a:stretch/>
        </p:blipFill>
        <p:spPr>
          <a:xfrm>
            <a:off x="0" y="53352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个性作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选择你最感兴趣的一项去完成吧！</a:t>
            </a:r>
            <a:br>
              <a:rPr sz="3200"/>
            </a:b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　　小画家：用你的画笔，画风或声音、气味。</a:t>
            </a:r>
            <a:br>
              <a:rPr sz="3200"/>
            </a:b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　　播音员：有感情地朗读课文。</a:t>
            </a:r>
            <a:br>
              <a:rPr sz="3200"/>
            </a:b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　　小演员：和好朋友一起表演课本剧。</a:t>
            </a:r>
            <a:br>
              <a:rPr sz="3200"/>
            </a:b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　　小诗人：编一首关于风的儿歌。</a:t>
            </a:r>
            <a:br>
              <a:rPr sz="3200"/>
            </a:b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　　小巧手：做架纸飞机或风车，到风中去放飞        你的欢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>
            <a:lum bright="70000" contrast="-70000"/>
          </a:blip>
          <a:srcRect l="557" t="6460" r="557" b="12243"/>
          <a:stretch/>
        </p:blipFill>
        <p:spPr>
          <a:xfrm>
            <a:off x="0" y="53352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读一读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828800"/>
            <a:ext cx="8077320" cy="47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333399"/>
                </a:solidFill>
                <a:latin typeface="宋体"/>
              </a:rPr>
              <a:t>乌云   旗杆   忽然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宋体"/>
              </a:rPr>
              <a:t>  </a:t>
            </a:r>
            <a:r>
              <a:rPr b="1" lang="zh-CN" sz="5400" spc="-1" strike="noStrike">
                <a:solidFill>
                  <a:srgbClr val="333399"/>
                </a:solidFill>
                <a:latin typeface="宋体"/>
              </a:rPr>
              <a:t>显得   雨丝    转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宋体"/>
              </a:rPr>
              <a:t>  </a:t>
            </a:r>
            <a:r>
              <a:rPr b="1" lang="zh-CN" sz="5400" spc="-1" strike="noStrike">
                <a:solidFill>
                  <a:srgbClr val="333399"/>
                </a:solidFill>
                <a:latin typeface="宋体"/>
              </a:rPr>
              <a:t>转弯     眨眨眼睛</a:t>
            </a:r>
            <a:r>
              <a:rPr b="1" lang="zh-CN" sz="1800" spc="-1" strike="noStrike">
                <a:solidFill>
                  <a:srgbClr val="009999"/>
                </a:solidFill>
                <a:latin typeface="宋体"/>
              </a:rPr>
              <a:t> </a:t>
            </a:r>
            <a:br>
              <a:rPr sz="5400"/>
            </a:br>
            <a:r>
              <a:rPr b="0" lang="zh-CN" sz="5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>
            <a:lum bright="70000" contrast="-70000"/>
          </a:blip>
          <a:srcRect l="557" t="6460" r="557" b="12243"/>
          <a:stretch/>
        </p:blipFill>
        <p:spPr>
          <a:xfrm>
            <a:off x="0" y="45720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描写风的古诗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828800"/>
            <a:ext cx="8458200" cy="30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宋体"/>
                <a:ea typeface="宋体"/>
              </a:rPr>
              <a:t>不知细叶谁裁出，二月春风似剪刀。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  <a:ea typeface="宋体"/>
              </a:rPr>
              <a:t>忽如一夜春风来，千树万树梨花开。</a:t>
            </a:r>
            <a:r>
              <a:rPr b="1" lang="zh-CN" sz="4000" spc="-1" strike="noStrike">
                <a:solidFill>
                  <a:srgbClr val="009999"/>
                </a:solidFill>
                <a:latin typeface="宋体"/>
                <a:ea typeface="宋体"/>
              </a:rPr>
              <a:t>儿童散学归来早，忙趁东风放纸鸢。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  <a:ea typeface="宋体"/>
              </a:rPr>
              <a:t>夜来风雨声，花落知多少 </a:t>
            </a:r>
            <a:br>
              <a:rPr sz="4000"/>
            </a:br>
            <a:r>
              <a:rPr b="1" lang="zh-CN" sz="5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>
            <a:lum bright="70000" contrast="-70000"/>
          </a:blip>
          <a:srcRect l="557" t="6460" r="557" b="12243"/>
          <a:stretch/>
        </p:blipFill>
        <p:spPr>
          <a:xfrm>
            <a:off x="0" y="45720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他们是怎样画风的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1143000"/>
            <a:ext cx="84582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只见她在房子前面画了一根旗杆，旗子在空中飘着。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2666880"/>
            <a:ext cx="883908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她画了个拿风车的小男孩，风车在呼呼地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39625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她在大树旁边画了几棵弯弯的小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80060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他把太阳擦去，画了几片乌云，又画了几条斜斜的雨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5625" t="9586" r="8714" b="10551"/>
          <a:stretch/>
        </p:blipFill>
        <p:spPr>
          <a:xfrm>
            <a:off x="0" y="2819520"/>
            <a:ext cx="9144000" cy="40384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只见她在房子前面画了一根旗杆（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g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ā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），旗子在空中飘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1752480"/>
            <a:ext cx="8991720" cy="119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宋体"/>
              </a:rPr>
              <a:t>赵小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眨眨眼睛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宋体"/>
              </a:rPr>
              <a:t>，想了想说：“我能！”只见她在房子前面画了一根旗杆，旗子在空中飘着。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15000" y="3886200"/>
            <a:ext cx="266688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她画了个拿风车的小男孩，风车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呼呼地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转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11964" t="16622" r="10698" b="20713"/>
          <a:stretch/>
        </p:blipFill>
        <p:spPr>
          <a:xfrm>
            <a:off x="0" y="1819440"/>
            <a:ext cx="9144000" cy="50385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她在大树旁边画了几棵弯弯的小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1752480"/>
            <a:ext cx="16002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陈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14501" t="18313" r="14501" b="22410"/>
          <a:stretch/>
        </p:blipFill>
        <p:spPr>
          <a:xfrm>
            <a:off x="0" y="1809720"/>
            <a:ext cx="9144000" cy="50482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他把太阳擦去，画了几片乌云，又画了几条斜斜的雨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523880"/>
            <a:ext cx="13716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52388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宋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FOfficeDoc1"/>
          <p:cNvGraphicFramePr/>
          <p:nvPr/>
        </p:nvGraphicFramePr>
        <p:xfrm>
          <a:off x="228600" y="0"/>
          <a:ext cx="8610480" cy="645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FOfficeDoc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610480" cy="645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>
            <a:lum bright="70000" contrast="-70000"/>
          </a:blip>
          <a:srcRect l="557" t="6460" r="557" b="12243"/>
          <a:stretch/>
        </p:blipFill>
        <p:spPr>
          <a:xfrm>
            <a:off x="0" y="60948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演一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宋涛说：“谁能画风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陈丹说：“风，看不见，摸不着，谁也画不出来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赵小艺眨眨眼睛，想了想说：“我能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宋涛说：“是风，风把旗子吹得飘起来了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陈丹说：“我也会画风了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宋涛想了想说：“下雨了，风把雨丝吹斜了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赵小艺笑着说：“我还能画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语文大师 xiexingcun.com</dc:creator>
  <dc:description/>
  <dc:language>en-US</dc:language>
  <cp:lastModifiedBy>雨林木风</cp:lastModifiedBy>
  <dcterms:modified xsi:type="dcterms:W3CDTF">2014-07-21T18:57:51Z</dcterms:modified>
  <cp:revision>0</cp:revision>
  <dc:subject/>
  <dc:title>语文大师 xiexingcun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