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png" ContentType="image/png"/>
  <Override PartName="/ppt/media/image8.gif" ContentType="image/gif"/>
  <Override PartName="/ppt/media/image7.gif" ContentType="image/gif"/>
  <Override PartName="/ppt/media/image5.jpeg" ContentType="image/jpeg"/>
  <Override PartName="/ppt/media/image13.png" ContentType="image/png"/>
  <Override PartName="/ppt/media/image19.gif" ContentType="image/gif"/>
  <Override PartName="/ppt/media/image1.jpeg" ContentType="image/jpeg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20.png" ContentType="image/png"/>
  <Override PartName="/ppt/media/image15.gif" ContentType="image/gif"/>
  <Override PartName="/ppt/media/image3.jpeg" ContentType="image/jpeg"/>
  <Override PartName="/ppt/media/image14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62C-2048-4B9D-AAD1-99106431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574-688A-411D-BB36-C30392B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EC1-CE79-4934-A235-82D7658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420-780E-45D0-AE48-21D143AC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DD8-09CC-469E-AEB8-28F5B2E0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288-728E-40CA-B3B2-CD0EAAF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400-337B-41EF-8669-0F8EE13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52A-0654-4663-9E7D-3336213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00F-8D72-4BE3-8A26-A082295B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861-A208-4B9F-9A0C-A28E355F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F13-1879-48F7-AC12-F1E683B2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4F3-E041-4D89-BBAF-C3A50F3F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1C09-76A3-4DA6-B5D9-BC3A121CB6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8.gif"/><Relationship Id="rId3" Type="http://schemas.openxmlformats.org/officeDocument/2006/relationships/image" Target="../media/image19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"/>
          <p:cNvSpPr/>
          <p:nvPr/>
        </p:nvSpPr>
        <p:spPr>
          <a:xfrm>
            <a:off x="2916360" y="1989000"/>
            <a:ext cx="6227640" cy="2376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76720" y="2432160"/>
            <a:ext cx="578808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第</a:t>
            </a:r>
            <a:r>
              <a:rPr b="1" lang="en-US" sz="5500" spc="-1" strike="noStrike">
                <a:solidFill>
                  <a:srgbClr val="f79646"/>
                </a:solidFill>
                <a:latin typeface="黑体"/>
                <a:ea typeface="黑体"/>
              </a:rPr>
              <a:t>8</a:t>
            </a: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课 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 </a:t>
            </a:r>
            <a:r>
              <a:rPr b="1" lang="zh-CN" sz="5500" spc="-1" strike="noStrike">
                <a:solidFill>
                  <a:srgbClr val="f79646"/>
                </a:solidFill>
                <a:latin typeface="黑体"/>
                <a:ea typeface="黑体"/>
              </a:rPr>
              <a:t>寡人之于国也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276720" y="443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黑体"/>
                <a:ea typeface="黑体"/>
              </a:rPr>
              <a:t>作者：</a:t>
            </a:r>
            <a:r>
              <a:rPr b="1" lang="en-US" sz="2400" spc="-1" strike="noStrike">
                <a:solidFill>
                  <a:srgbClr val="7f7f7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7f7f7f"/>
                </a:solidFill>
                <a:latin typeface="黑体"/>
                <a:ea typeface="黑体"/>
              </a:rPr>
              <a:t>孟子</a:t>
            </a:r>
            <a:r>
              <a:rPr b="1" lang="en-US" sz="2400" spc="-1" strike="noStrike">
                <a:solidFill>
                  <a:srgbClr val="7f7f7f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360se6\User Data\temp\01300000344131123468735005343.jpg"/>
          <p:cNvPicPr/>
          <p:nvPr/>
        </p:nvPicPr>
        <p:blipFill>
          <a:blip r:embed="rId1"/>
          <a:stretch/>
        </p:blipFill>
        <p:spPr>
          <a:xfrm>
            <a:off x="0" y="1989000"/>
            <a:ext cx="291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389480" y="1459080"/>
            <a:ext cx="762120" cy="533160"/>
            <a:chOff x="4389480" y="1459080"/>
            <a:chExt cx="762120" cy="533160"/>
          </a:xfrm>
        </p:grpSpPr>
        <p:sp>
          <p:nvSpPr>
            <p:cNvPr id="176" name="Line 2"/>
            <p:cNvSpPr/>
            <p:nvPr/>
          </p:nvSpPr>
          <p:spPr>
            <a:xfrm>
              <a:off x="4389480" y="145908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389480" y="1459080"/>
              <a:ext cx="76212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245120" y="2467080"/>
            <a:ext cx="901440" cy="574560"/>
            <a:chOff x="4245120" y="2467080"/>
            <a:chExt cx="901440" cy="574560"/>
          </a:xfrm>
        </p:grpSpPr>
        <p:sp>
          <p:nvSpPr>
            <p:cNvPr id="179" name="Line 3"/>
            <p:cNvSpPr/>
            <p:nvPr/>
          </p:nvSpPr>
          <p:spPr>
            <a:xfrm flipV="1">
              <a:off x="4245120" y="2467080"/>
              <a:ext cx="901440" cy="57456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10800000">
              <a:off x="4245120" y="2467080"/>
              <a:ext cx="90144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11680" y="2254320"/>
            <a:ext cx="533520" cy="360"/>
            <a:chOff x="4711680" y="2254320"/>
            <a:chExt cx="533520" cy="360"/>
          </a:xfrm>
        </p:grpSpPr>
        <p:sp>
          <p:nvSpPr>
            <p:cNvPr id="182" name="Line 4"/>
            <p:cNvSpPr/>
            <p:nvPr/>
          </p:nvSpPr>
          <p:spPr>
            <a:xfrm>
              <a:off x="4711680" y="2254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711680" y="22543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5"/>
          <p:cNvSpPr/>
          <p:nvPr/>
        </p:nvSpPr>
        <p:spPr>
          <a:xfrm>
            <a:off x="5245200" y="1949400"/>
            <a:ext cx="106668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养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00400" y="3978360"/>
            <a:ext cx="1067040" cy="360"/>
            <a:chOff x="4100400" y="3978360"/>
            <a:chExt cx="1067040" cy="360"/>
          </a:xfrm>
        </p:grpSpPr>
        <p:sp>
          <p:nvSpPr>
            <p:cNvPr id="186" name="Line 6"/>
            <p:cNvSpPr/>
            <p:nvPr/>
          </p:nvSpPr>
          <p:spPr>
            <a:xfrm>
              <a:off x="4100400" y="397836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100400" y="397836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7"/>
          <p:cNvSpPr/>
          <p:nvPr/>
        </p:nvSpPr>
        <p:spPr>
          <a:xfrm>
            <a:off x="5253120" y="3691080"/>
            <a:ext cx="1066680" cy="5814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教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405480" y="2106720"/>
            <a:ext cx="236520" cy="1876320"/>
          </a:xfrm>
          <a:custGeom>
            <a:avLst/>
            <a:gdLst>
              <a:gd name="textAreaLeft" fmla="*/ 0 w 236520"/>
              <a:gd name="textAreaRight" fmla="*/ 85320 w 236520"/>
              <a:gd name="textAreaTop" fmla="*/ 48960 h 1876320"/>
              <a:gd name="textAreaBottom" fmla="*/ 1827360 h 18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1"/>
                  <a:pt x="10800" y="1802"/>
                </a:cubicBezTo>
                <a:lnTo>
                  <a:pt x="10800" y="8998"/>
                </a:lnTo>
                <a:cubicBezTo>
                  <a:pt x="10800" y="9899"/>
                  <a:pt x="16200" y="10800"/>
                  <a:pt x="21600" y="10800"/>
                </a:cubicBezTo>
                <a:cubicBezTo>
                  <a:pt x="16200" y="10800"/>
                  <a:pt x="10800" y="11701"/>
                  <a:pt x="10800" y="12602"/>
                </a:cubicBezTo>
                <a:lnTo>
                  <a:pt x="10800" y="19798"/>
                </a:lnTo>
                <a:cubicBezTo>
                  <a:pt x="10800" y="206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6692760" y="2611440"/>
            <a:ext cx="23432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  <a:ea typeface="宋体"/>
              </a:rPr>
              <a:t>然而不王者，未之有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500120" y="49752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阐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“王道之成”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1"/>
          <p:cNvGrpSpPr/>
          <p:nvPr/>
        </p:nvGrpSpPr>
        <p:grpSpPr>
          <a:xfrm>
            <a:off x="355680" y="1027080"/>
            <a:ext cx="3961800" cy="520560"/>
            <a:chOff x="355680" y="1027080"/>
            <a:chExt cx="3961800" cy="520560"/>
          </a:xfrm>
        </p:grpSpPr>
        <p:sp>
          <p:nvSpPr>
            <p:cNvPr id="193" name="Text Box 12"/>
            <p:cNvSpPr/>
            <p:nvPr/>
          </p:nvSpPr>
          <p:spPr>
            <a:xfrm>
              <a:off x="736200" y="10270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亩之宅，树之以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3" descr="wbb01slc"/>
            <p:cNvPicPr/>
            <p:nvPr/>
          </p:nvPicPr>
          <p:blipFill>
            <a:blip r:embed="rId1"/>
            <a:stretch/>
          </p:blipFill>
          <p:spPr>
            <a:xfrm>
              <a:off x="355680" y="1103400"/>
              <a:ext cx="3711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14"/>
          <p:cNvGrpSpPr/>
          <p:nvPr/>
        </p:nvGrpSpPr>
        <p:grpSpPr>
          <a:xfrm>
            <a:off x="368280" y="1949400"/>
            <a:ext cx="4495680" cy="520560"/>
            <a:chOff x="368280" y="1949400"/>
            <a:chExt cx="4495680" cy="520560"/>
          </a:xfrm>
        </p:grpSpPr>
        <p:sp>
          <p:nvSpPr>
            <p:cNvPr id="196" name="Text Box 15"/>
            <p:cNvSpPr/>
            <p:nvPr/>
          </p:nvSpPr>
          <p:spPr>
            <a:xfrm>
              <a:off x="749160" y="19494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鸡豚狗彘之畜，无失其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6" descr="wbb01srg"/>
            <p:cNvPicPr/>
            <p:nvPr/>
          </p:nvPicPr>
          <p:blipFill>
            <a:blip r:embed="rId2"/>
            <a:stretch/>
          </p:blipFill>
          <p:spPr>
            <a:xfrm>
              <a:off x="368280" y="2034720"/>
              <a:ext cx="371520" cy="37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17"/>
          <p:cNvGrpSpPr/>
          <p:nvPr/>
        </p:nvGrpSpPr>
        <p:grpSpPr>
          <a:xfrm>
            <a:off x="355680" y="3691080"/>
            <a:ext cx="3190320" cy="520560"/>
            <a:chOff x="355680" y="3691080"/>
            <a:chExt cx="3190320" cy="520560"/>
          </a:xfrm>
        </p:grpSpPr>
        <p:sp>
          <p:nvSpPr>
            <p:cNvPr id="199" name="Text Box 18"/>
            <p:cNvSpPr/>
            <p:nvPr/>
          </p:nvSpPr>
          <p:spPr>
            <a:xfrm>
              <a:off x="726840" y="369108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谨庠序，申孝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9" descr="wbb01slb"/>
            <p:cNvPicPr/>
            <p:nvPr/>
          </p:nvPicPr>
          <p:blipFill>
            <a:blip r:embed="rId3"/>
            <a:stretch/>
          </p:blipFill>
          <p:spPr>
            <a:xfrm>
              <a:off x="355680" y="3829320"/>
              <a:ext cx="3711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20"/>
          <p:cNvGrpSpPr/>
          <p:nvPr/>
        </p:nvGrpSpPr>
        <p:grpSpPr>
          <a:xfrm>
            <a:off x="355680" y="2827440"/>
            <a:ext cx="3809880" cy="523800"/>
            <a:chOff x="355680" y="2827440"/>
            <a:chExt cx="3809880" cy="523800"/>
          </a:xfrm>
        </p:grpSpPr>
        <p:sp>
          <p:nvSpPr>
            <p:cNvPr id="202" name="Text Box 21"/>
            <p:cNvSpPr/>
            <p:nvPr/>
          </p:nvSpPr>
          <p:spPr>
            <a:xfrm>
              <a:off x="736560" y="282744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百亩之田，勿夺其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22" descr="wbb01srr"/>
            <p:cNvPicPr/>
            <p:nvPr/>
          </p:nvPicPr>
          <p:blipFill>
            <a:blip r:embed="rId4"/>
            <a:stretch/>
          </p:blipFill>
          <p:spPr>
            <a:xfrm>
              <a:off x="355680" y="2979720"/>
              <a:ext cx="371520" cy="371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23800" y="98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狗彘食人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95440" y="20606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涂有饿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203800" y="1557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非我也，岁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564160" y="393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王无罪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259080" y="4800600"/>
            <a:ext cx="57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阐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使民加多应有的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3403440" y="1123920"/>
            <a:ext cx="1523880" cy="1495800"/>
            <a:chOff x="3403440" y="1123920"/>
            <a:chExt cx="1523880" cy="1495800"/>
          </a:xfrm>
        </p:grpSpPr>
        <p:grpSp>
          <p:nvGrpSpPr>
            <p:cNvPr id="212" name="Group 8"/>
            <p:cNvGrpSpPr/>
            <p:nvPr/>
          </p:nvGrpSpPr>
          <p:grpSpPr>
            <a:xfrm>
              <a:off x="3403440" y="1123920"/>
              <a:ext cx="1523880" cy="838080"/>
              <a:chOff x="3403440" y="1123920"/>
              <a:chExt cx="1523880" cy="838080"/>
            </a:xfrm>
          </p:grpSpPr>
          <p:sp>
            <p:nvSpPr>
              <p:cNvPr id="213" name="AutoShape 9"/>
              <p:cNvSpPr/>
              <p:nvPr/>
            </p:nvSpPr>
            <p:spPr>
              <a:xfrm>
                <a:off x="3555720" y="1733400"/>
                <a:ext cx="1371600" cy="228600"/>
              </a:xfrm>
              <a:prstGeom prst="rightArrow">
                <a:avLst>
                  <a:gd name="adj1" fmla="val 50000"/>
                  <a:gd name="adj2" fmla="val 150000"/>
                </a:avLst>
              </a:prstGeom>
              <a:solidFill>
                <a:srgbClr val="99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0"/>
              <p:cNvSpPr/>
              <p:nvPr/>
            </p:nvSpPr>
            <p:spPr>
              <a:xfrm>
                <a:off x="3403440" y="1123920"/>
                <a:ext cx="137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错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11"/>
            <p:cNvSpPr/>
            <p:nvPr/>
          </p:nvSpPr>
          <p:spPr>
            <a:xfrm>
              <a:off x="3632040" y="20383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态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2"/>
          <p:cNvSpPr/>
          <p:nvPr/>
        </p:nvSpPr>
        <p:spPr>
          <a:xfrm>
            <a:off x="2898720" y="1123920"/>
            <a:ext cx="216000" cy="1417680"/>
          </a:xfrm>
          <a:custGeom>
            <a:avLst/>
            <a:gdLst>
              <a:gd name="textAreaLeft" fmla="*/ 0 w 216000"/>
              <a:gd name="textAreaRight" fmla="*/ 78120 w 216000"/>
              <a:gd name="textAreaTop" fmla="*/ 36720 h 1417680"/>
              <a:gd name="textAreaBottom" fmla="*/ 1380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6427800" y="2565360"/>
            <a:ext cx="216000" cy="1152720"/>
          </a:xfrm>
          <a:prstGeom prst="downArrow">
            <a:avLst>
              <a:gd name="adj1" fmla="val 50000"/>
              <a:gd name="adj2" fmla="val 133417"/>
            </a:avLst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5629320" y="2637000"/>
            <a:ext cx="6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正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781680" y="2637000"/>
            <a:ext cx="6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005"/>
          <p:cNvPicPr/>
          <p:nvPr/>
        </p:nvPicPr>
        <p:blipFill>
          <a:blip r:embed="rId1"/>
          <a:stretch/>
        </p:blipFill>
        <p:spPr>
          <a:xfrm>
            <a:off x="666720" y="3000240"/>
            <a:ext cx="2419560" cy="31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90480" y="1604880"/>
            <a:ext cx="79138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孟子的王道思想包括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精神文明和物质文明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．首先解决百姓的温饱问题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．加强文教德化，提高人民的精神修养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．统治者严于律己，不推卸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孟子注意到了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可持续发展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4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在开发利用自然资源时，不能滥砍滥伐，滥捕滥杀，更不能竭泽而渔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8360" y="69192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以现代观念审识古人的思想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539640" y="1773360"/>
            <a:ext cx="820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正面阐述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自己的主张，提出“仁政”的一系列措施：①合理的发展生产；②加强教化；③关心老百姓疾苦，不推诿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、当对方一个错误的论题出现，孟子往往从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侧面进攻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，并不急于反驳，而是以退为进，水到渠成，说服对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长于设喻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，贴切的比喻使其说理充满不可辩驳的力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2080" y="1022400"/>
            <a:ext cx="35719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宋体"/>
                <a:ea typeface="宋体"/>
              </a:rPr>
              <a:t>雄辩艺术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971640" y="508464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682560" y="1700280"/>
            <a:ext cx="79930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结构严谨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从表面看，铺张扬厉，似乎散漫无纪，实则段落分明，层次井然，而且环环相扣，不可分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善用比喻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孟子善于运用比喻说理，文字显得从容不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气势充沛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孟子的文章具有雄辩的气势，表现在语言上是使用整齐的排偶句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76360" y="974520"/>
            <a:ext cx="237492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写作特色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276200" y="1044720"/>
            <a:ext cx="106380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梁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067280" y="1044720"/>
            <a:ext cx="11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宋体"/>
              </a:rPr>
              <a:t>对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75640" y="1116000"/>
            <a:ext cx="104112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258920" y="2124000"/>
            <a:ext cx="108108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问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875640" y="2197080"/>
            <a:ext cx="115236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议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>
            <a:hlinkClick r:id="rId1" action="ppaction://hlinksldjump"/>
          </p:cNvPr>
          <p:cNvSpPr/>
          <p:nvPr/>
        </p:nvSpPr>
        <p:spPr>
          <a:xfrm>
            <a:off x="611280" y="3419640"/>
            <a:ext cx="201600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民不加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>
            <a:hlinkClick r:id="rId2" action="ppaction://hlinksldjump"/>
          </p:cNvPr>
          <p:cNvSpPr/>
          <p:nvPr/>
        </p:nvSpPr>
        <p:spPr>
          <a:xfrm>
            <a:off x="5076720" y="3492360"/>
            <a:ext cx="314496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五十步笑百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339840" y="4495680"/>
            <a:ext cx="365580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可（走进圈套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716360" y="4500720"/>
            <a:ext cx="351000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望民之加多于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11280" y="5518080"/>
            <a:ext cx="315108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斯天下之民至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>
            <a:hlinkClick r:id="rId3" action="ppaction://hlinksldjump"/>
          </p:cNvPr>
          <p:cNvSpPr/>
          <p:nvPr/>
        </p:nvSpPr>
        <p:spPr>
          <a:xfrm>
            <a:off x="5364000" y="5518080"/>
            <a:ext cx="2846520" cy="5814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施仁政的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62200" y="1676520"/>
            <a:ext cx="360" cy="457200"/>
            <a:chOff x="1762200" y="1676520"/>
            <a:chExt cx="360" cy="457200"/>
          </a:xfrm>
        </p:grpSpPr>
        <p:sp>
          <p:nvSpPr>
            <p:cNvPr id="248" name="Line 13"/>
            <p:cNvSpPr/>
            <p:nvPr/>
          </p:nvSpPr>
          <p:spPr>
            <a:xfrm>
              <a:off x="1762200" y="1676520"/>
              <a:ext cx="0" cy="45720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762200" y="16765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62200" y="2827440"/>
            <a:ext cx="360" cy="457200"/>
            <a:chOff x="1762200" y="2827440"/>
            <a:chExt cx="360" cy="457200"/>
          </a:xfrm>
        </p:grpSpPr>
        <p:sp>
          <p:nvSpPr>
            <p:cNvPr id="251" name="Line 14"/>
            <p:cNvSpPr/>
            <p:nvPr/>
          </p:nvSpPr>
          <p:spPr>
            <a:xfrm>
              <a:off x="1762200" y="2827440"/>
              <a:ext cx="0" cy="45720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1762200" y="28274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842920" y="1486080"/>
            <a:ext cx="3888000" cy="2087280"/>
            <a:chOff x="2842920" y="1486080"/>
            <a:chExt cx="3888000" cy="2087280"/>
          </a:xfrm>
        </p:grpSpPr>
        <p:sp>
          <p:nvSpPr>
            <p:cNvPr id="254" name="Line 15"/>
            <p:cNvSpPr/>
            <p:nvPr/>
          </p:nvSpPr>
          <p:spPr>
            <a:xfrm flipV="1">
              <a:off x="2843280" y="1486080"/>
              <a:ext cx="3887640" cy="208728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 rot="10800000">
              <a:off x="2842920" y="1485720"/>
              <a:ext cx="3887640" cy="20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451640" y="1747800"/>
            <a:ext cx="360" cy="457200"/>
            <a:chOff x="7451640" y="1747800"/>
            <a:chExt cx="360" cy="457200"/>
          </a:xfrm>
        </p:grpSpPr>
        <p:sp>
          <p:nvSpPr>
            <p:cNvPr id="257" name="Line 16"/>
            <p:cNvSpPr/>
            <p:nvPr/>
          </p:nvSpPr>
          <p:spPr>
            <a:xfrm>
              <a:off x="7451640" y="1747800"/>
              <a:ext cx="0" cy="45720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7451640" y="17478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451640" y="2852640"/>
            <a:ext cx="360" cy="647640"/>
            <a:chOff x="7451640" y="2852640"/>
            <a:chExt cx="360" cy="647640"/>
          </a:xfrm>
        </p:grpSpPr>
        <p:sp>
          <p:nvSpPr>
            <p:cNvPr id="260" name="Line 17"/>
            <p:cNvSpPr/>
            <p:nvPr/>
          </p:nvSpPr>
          <p:spPr>
            <a:xfrm>
              <a:off x="7451640" y="2852640"/>
              <a:ext cx="0" cy="64764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7451640" y="2852640"/>
              <a:ext cx="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67280" y="3979800"/>
            <a:ext cx="838080" cy="457200"/>
            <a:chOff x="4067280" y="3979800"/>
            <a:chExt cx="838080" cy="457200"/>
          </a:xfrm>
        </p:grpSpPr>
        <p:sp>
          <p:nvSpPr>
            <p:cNvPr id="263" name="Line 18"/>
            <p:cNvSpPr/>
            <p:nvPr/>
          </p:nvSpPr>
          <p:spPr>
            <a:xfrm flipH="1">
              <a:off x="4067280" y="3979800"/>
              <a:ext cx="838080" cy="45720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4067280" y="39798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030560" y="4741920"/>
            <a:ext cx="609840" cy="1440"/>
            <a:chOff x="4030560" y="4741920"/>
            <a:chExt cx="609840" cy="1440"/>
          </a:xfrm>
        </p:grpSpPr>
        <p:sp>
          <p:nvSpPr>
            <p:cNvPr id="266" name="Line 19"/>
            <p:cNvSpPr/>
            <p:nvPr/>
          </p:nvSpPr>
          <p:spPr>
            <a:xfrm>
              <a:off x="4030560" y="4741920"/>
              <a:ext cx="609840" cy="144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030560" y="4741920"/>
              <a:ext cx="609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4000" y="5084640"/>
            <a:ext cx="360" cy="457200"/>
            <a:chOff x="6804000" y="5084640"/>
            <a:chExt cx="360" cy="457200"/>
          </a:xfrm>
        </p:grpSpPr>
        <p:sp>
          <p:nvSpPr>
            <p:cNvPr id="269" name="Line 20"/>
            <p:cNvSpPr/>
            <p:nvPr/>
          </p:nvSpPr>
          <p:spPr>
            <a:xfrm>
              <a:off x="6804000" y="5084640"/>
              <a:ext cx="0" cy="45720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6804000" y="5084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850920" y="5805000"/>
            <a:ext cx="1368360" cy="360"/>
            <a:chOff x="3850920" y="5805000"/>
            <a:chExt cx="1368360" cy="360"/>
          </a:xfrm>
        </p:grpSpPr>
        <p:sp>
          <p:nvSpPr>
            <p:cNvPr id="272" name="Line 21"/>
            <p:cNvSpPr/>
            <p:nvPr/>
          </p:nvSpPr>
          <p:spPr>
            <a:xfrm flipH="1">
              <a:off x="3850920" y="5805360"/>
              <a:ext cx="1368360" cy="0"/>
            </a:xfrm>
            <a:prstGeom prst="line">
              <a:avLst/>
            </a:prstGeom>
            <a:ln w="57240">
              <a:solidFill>
                <a:srgbClr val="99cc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3850920" y="580500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2378160" y="1328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尽心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924360" y="752400"/>
            <a:ext cx="15127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移其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移其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508720" y="1328760"/>
            <a:ext cx="2233440" cy="58140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而民不加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5"/>
          <p:cNvSpPr/>
          <p:nvPr/>
        </p:nvSpPr>
        <p:spPr>
          <a:xfrm>
            <a:off x="7956720" y="1041480"/>
            <a:ext cx="457200" cy="1028520"/>
          </a:xfrm>
          <a:custGeom>
            <a:avLst/>
            <a:gdLst>
              <a:gd name="textAreaLeft" fmla="*/ 0 w 457200"/>
              <a:gd name="textAreaRight" fmla="*/ 457560 w 457200"/>
              <a:gd name="textAreaTop" fmla="*/ 0 h 1028520"/>
              <a:gd name="textAreaBottom" fmla="*/ 102852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6924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14676"/>
                </a:lnTo>
              </a:path>
            </a:pathLst>
          </a:custGeom>
          <a:solidFill>
            <a:srgbClr val="800080">
              <a:alpha val="81000"/>
            </a:srgbClr>
          </a:solidFill>
          <a:ln w="936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24000" y="132876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提出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2556000" y="227664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十步笑百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2484360" y="3789360"/>
            <a:ext cx="16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梁惠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3924360" y="3789360"/>
            <a:ext cx="20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邻国之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3490920" y="2924280"/>
            <a:ext cx="1152360" cy="865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>
              <a:alpha val="3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250920" y="29242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分析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116000" y="2073240"/>
            <a:ext cx="1440" cy="838080"/>
            <a:chOff x="1116000" y="2073240"/>
            <a:chExt cx="1440" cy="838080"/>
          </a:xfrm>
        </p:grpSpPr>
        <p:sp>
          <p:nvSpPr>
            <p:cNvPr id="287" name="Line 12"/>
            <p:cNvSpPr/>
            <p:nvPr/>
          </p:nvSpPr>
          <p:spPr>
            <a:xfrm>
              <a:off x="1116000" y="2073240"/>
              <a:ext cx="1440" cy="838080"/>
            </a:xfrm>
            <a:prstGeom prst="line">
              <a:avLst/>
            </a:prstGeom>
            <a:ln w="38160">
              <a:solidFill>
                <a:srgbClr val="ff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1116000" y="2073240"/>
              <a:ext cx="144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AutoShape 13"/>
          <p:cNvSpPr/>
          <p:nvPr/>
        </p:nvSpPr>
        <p:spPr>
          <a:xfrm>
            <a:off x="2050920" y="2565360"/>
            <a:ext cx="457200" cy="1368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116000" y="4003560"/>
            <a:ext cx="1440" cy="838440"/>
            <a:chOff x="1116000" y="4003560"/>
            <a:chExt cx="1440" cy="838440"/>
          </a:xfrm>
        </p:grpSpPr>
        <p:sp>
          <p:nvSpPr>
            <p:cNvPr id="291" name="Line 14"/>
            <p:cNvSpPr/>
            <p:nvPr/>
          </p:nvSpPr>
          <p:spPr>
            <a:xfrm>
              <a:off x="1116000" y="4003560"/>
              <a:ext cx="1440" cy="838440"/>
            </a:xfrm>
            <a:prstGeom prst="line">
              <a:avLst/>
            </a:prstGeom>
            <a:ln w="38160">
              <a:solidFill>
                <a:srgbClr val="ff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116000" y="4003560"/>
              <a:ext cx="144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15"/>
          <p:cNvSpPr/>
          <p:nvPr/>
        </p:nvSpPr>
        <p:spPr>
          <a:xfrm>
            <a:off x="2594160" y="52275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行仁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5364000" y="5157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之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4194000" y="4770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之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4194000" y="568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6588000" y="4941720"/>
            <a:ext cx="1981440" cy="106884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则斯天下之民至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0"/>
          <p:cNvSpPr/>
          <p:nvPr/>
        </p:nvSpPr>
        <p:spPr>
          <a:xfrm>
            <a:off x="3643200" y="5005440"/>
            <a:ext cx="457200" cy="990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1"/>
          <p:cNvSpPr/>
          <p:nvPr/>
        </p:nvSpPr>
        <p:spPr>
          <a:xfrm flipH="1">
            <a:off x="5014080" y="492912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324000" y="522756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3"/>
          <p:cNvGrpSpPr/>
          <p:nvPr/>
        </p:nvGrpSpPr>
        <p:grpSpPr>
          <a:xfrm>
            <a:off x="5219640" y="2216160"/>
            <a:ext cx="1125360" cy="703440"/>
            <a:chOff x="5219640" y="2216160"/>
            <a:chExt cx="1125360" cy="703440"/>
          </a:xfrm>
        </p:grpSpPr>
        <p:grpSp>
          <p:nvGrpSpPr>
            <p:cNvPr id="302" name=""/>
            <p:cNvGrpSpPr/>
            <p:nvPr/>
          </p:nvGrpSpPr>
          <p:grpSpPr>
            <a:xfrm>
              <a:off x="5219640" y="2612880"/>
              <a:ext cx="609480" cy="1800"/>
              <a:chOff x="5219640" y="2612880"/>
              <a:chExt cx="609480" cy="1800"/>
            </a:xfrm>
          </p:grpSpPr>
          <p:sp>
            <p:nvSpPr>
              <p:cNvPr id="303" name="Line 24"/>
              <p:cNvSpPr/>
              <p:nvPr/>
            </p:nvSpPr>
            <p:spPr>
              <a:xfrm>
                <a:off x="5219640" y="2612880"/>
                <a:ext cx="609480" cy="1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5219640" y="2612880"/>
                <a:ext cx="6094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25"/>
            <p:cNvSpPr/>
            <p:nvPr/>
          </p:nvSpPr>
          <p:spPr>
            <a:xfrm>
              <a:off x="5859360" y="2216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6"/>
          <p:cNvGrpSpPr/>
          <p:nvPr/>
        </p:nvGrpSpPr>
        <p:grpSpPr>
          <a:xfrm>
            <a:off x="5724360" y="3645000"/>
            <a:ext cx="1423800" cy="947160"/>
            <a:chOff x="5724360" y="3645000"/>
            <a:chExt cx="1423800" cy="947160"/>
          </a:xfrm>
        </p:grpSpPr>
        <p:grpSp>
          <p:nvGrpSpPr>
            <p:cNvPr id="307" name=""/>
            <p:cNvGrpSpPr/>
            <p:nvPr/>
          </p:nvGrpSpPr>
          <p:grpSpPr>
            <a:xfrm>
              <a:off x="5724360" y="4102200"/>
              <a:ext cx="632520" cy="1440"/>
              <a:chOff x="5724360" y="4102200"/>
              <a:chExt cx="632520" cy="1440"/>
            </a:xfrm>
          </p:grpSpPr>
          <p:sp>
            <p:nvSpPr>
              <p:cNvPr id="308" name="Line 27"/>
              <p:cNvSpPr/>
              <p:nvPr/>
            </p:nvSpPr>
            <p:spPr>
              <a:xfrm>
                <a:off x="5724360" y="4102200"/>
                <a:ext cx="63252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5724360" y="4102200"/>
                <a:ext cx="632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28"/>
            <p:cNvSpPr/>
            <p:nvPr/>
          </p:nvSpPr>
          <p:spPr>
            <a:xfrm>
              <a:off x="6218640" y="3645000"/>
              <a:ext cx="929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未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仁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9"/>
          <p:cNvSpPr/>
          <p:nvPr/>
        </p:nvSpPr>
        <p:spPr>
          <a:xfrm>
            <a:off x="7093080" y="2565360"/>
            <a:ext cx="1871640" cy="106884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数量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实质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3492360" y="1184400"/>
            <a:ext cx="457200" cy="990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mengzi"/>
          <p:cNvPicPr/>
          <p:nvPr/>
        </p:nvPicPr>
        <p:blipFill>
          <a:blip r:embed="rId1"/>
          <a:stretch/>
        </p:blipFill>
        <p:spPr>
          <a:xfrm>
            <a:off x="611280" y="1413000"/>
            <a:ext cx="2620800" cy="3768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635280" y="1123920"/>
            <a:ext cx="48974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　　孟子，名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轲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，字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子舆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战国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时著名的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思想家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政治家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和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教育家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。他继承并发展了孔子“仁”的学说，被尊为儒家的第二号圣人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——“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亚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183-34D3-4CBD-96DF-08B0D3DB10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mz雕像"/>
          <p:cNvPicPr/>
          <p:nvPr/>
        </p:nvPicPr>
        <p:blipFill>
          <a:blip r:embed="rId1"/>
          <a:stretch/>
        </p:blipFill>
        <p:spPr>
          <a:xfrm>
            <a:off x="6405480" y="1557360"/>
            <a:ext cx="2487600" cy="4535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257560" y="911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孟子的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0920" y="1476360"/>
            <a:ext cx="604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宋代以后常把孟子思想与孟子思想并称为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孔孟之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性善学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“人性之善也，犹水之就下也；人无有不善，水无有不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理想人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“人皆可以为尧舜”；“富贵不能淫，贫贱不能移，威武不能屈，此之谓大丈夫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仁政”思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“民为贵，社稷次之，君为轻。”“乐以天下，忧以天下，然而不王者，未之有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95280" y="1676520"/>
            <a:ext cx="835344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ec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儒家经典之一，现存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篇，全面反映了孟子的思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ec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善于雄辩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，具气势充沛、感情强烈、笔墨酣畅的风格；采用了多种方式方法进行辩论，逻辑谨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ec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善用比喻和寓言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陈述事理，辩论是非。南宋朱熹将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孟子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论语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》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大学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》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中庸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合在一起称“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四书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9840" y="620280"/>
            <a:ext cx="434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孟子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简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p23-1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363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4861080" y="1374840"/>
            <a:ext cx="367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孟子故里邹城市，位于山东省南部，与孔子的故乡曲阜毗邻，很早就被人们合称为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邹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276720" y="417204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提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民不加多”的疑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/>
          <p:nvPr/>
        </p:nvSpPr>
        <p:spPr>
          <a:xfrm rot="5400000">
            <a:off x="6968880" y="2009880"/>
            <a:ext cx="1693800" cy="855720"/>
          </a:xfrm>
          <a:custGeom>
            <a:avLst/>
            <a:gdLst>
              <a:gd name="textAreaLeft" fmla="*/ 0 w 1693800"/>
              <a:gd name="textAreaRight" fmla="*/ 1694160 w 16938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99cc00"/>
          </a:solidFill>
          <a:ln w="9360">
            <a:solidFill>
              <a:srgbClr val="3333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973160" y="125244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78080" y="11001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移其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78080" y="17859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移其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1960" y="1328760"/>
            <a:ext cx="838440" cy="380880"/>
            <a:chOff x="3801960" y="1328760"/>
            <a:chExt cx="838440" cy="380880"/>
          </a:xfrm>
        </p:grpSpPr>
        <p:sp>
          <p:nvSpPr>
            <p:cNvPr id="108" name="Line 7"/>
            <p:cNvSpPr/>
            <p:nvPr/>
          </p:nvSpPr>
          <p:spPr>
            <a:xfrm>
              <a:off x="3801960" y="132876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801960" y="132876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1600" y="1785600"/>
            <a:ext cx="838800" cy="304920"/>
            <a:chOff x="3801600" y="1785600"/>
            <a:chExt cx="838800" cy="304920"/>
          </a:xfrm>
        </p:grpSpPr>
        <p:sp>
          <p:nvSpPr>
            <p:cNvPr id="111" name="Line 8"/>
            <p:cNvSpPr/>
            <p:nvPr/>
          </p:nvSpPr>
          <p:spPr>
            <a:xfrm flipV="1">
              <a:off x="3801960" y="1785600"/>
              <a:ext cx="838440" cy="3049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10800000">
              <a:off x="3801600" y="178560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9"/>
          <p:cNvSpPr/>
          <p:nvPr/>
        </p:nvSpPr>
        <p:spPr>
          <a:xfrm>
            <a:off x="4869000" y="14810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民不加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54600" y="2928960"/>
            <a:ext cx="685800" cy="360"/>
            <a:chOff x="3954600" y="2928960"/>
            <a:chExt cx="685800" cy="360"/>
          </a:xfrm>
        </p:grpSpPr>
        <p:sp>
          <p:nvSpPr>
            <p:cNvPr id="115" name="Line 10"/>
            <p:cNvSpPr/>
            <p:nvPr/>
          </p:nvSpPr>
          <p:spPr>
            <a:xfrm>
              <a:off x="3954600" y="2928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954600" y="292896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1"/>
          <p:cNvSpPr/>
          <p:nvPr/>
        </p:nvSpPr>
        <p:spPr>
          <a:xfrm>
            <a:off x="4869000" y="26240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民不加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614520" y="1406520"/>
            <a:ext cx="1828800" cy="581400"/>
            <a:chOff x="614520" y="1406520"/>
            <a:chExt cx="1828800" cy="581400"/>
          </a:xfrm>
        </p:grpSpPr>
        <p:sp>
          <p:nvSpPr>
            <p:cNvPr id="119" name="Text Box 13"/>
            <p:cNvSpPr/>
            <p:nvPr/>
          </p:nvSpPr>
          <p:spPr>
            <a:xfrm>
              <a:off x="843120" y="1406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尽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wbb01slr"/>
            <p:cNvPicPr/>
            <p:nvPr/>
          </p:nvPicPr>
          <p:blipFill>
            <a:blip r:embed="rId1"/>
            <a:stretch/>
          </p:blipFill>
          <p:spPr>
            <a:xfrm>
              <a:off x="614520" y="1558800"/>
              <a:ext cx="28584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5"/>
          <p:cNvGrpSpPr/>
          <p:nvPr/>
        </p:nvGrpSpPr>
        <p:grpSpPr>
          <a:xfrm>
            <a:off x="601560" y="2624040"/>
            <a:ext cx="3429000" cy="581400"/>
            <a:chOff x="601560" y="2624040"/>
            <a:chExt cx="3429000" cy="581400"/>
          </a:xfrm>
        </p:grpSpPr>
        <p:sp>
          <p:nvSpPr>
            <p:cNvPr id="122" name="Text Box 16"/>
            <p:cNvSpPr/>
            <p:nvPr/>
          </p:nvSpPr>
          <p:spPr>
            <a:xfrm>
              <a:off x="830160" y="262404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无如寡人之用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7" descr="wbb01srg"/>
            <p:cNvPicPr/>
            <p:nvPr/>
          </p:nvPicPr>
          <p:blipFill>
            <a:blip r:embed="rId2"/>
            <a:stretch/>
          </p:blipFill>
          <p:spPr>
            <a:xfrm>
              <a:off x="601560" y="2795400"/>
              <a:ext cx="285840" cy="28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18" descr="002"/>
          <p:cNvPicPr/>
          <p:nvPr/>
        </p:nvPicPr>
        <p:blipFill>
          <a:blip r:embed="rId3"/>
          <a:stretch/>
        </p:blipFill>
        <p:spPr>
          <a:xfrm>
            <a:off x="755640" y="3933720"/>
            <a:ext cx="208908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755640" y="5591160"/>
            <a:ext cx="69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析  “民不加多”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348000" y="1541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投其所好，便于启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324240" y="32702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引王自己回答，自我否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492360" y="5084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以子之矛，攻子之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003640" y="2060640"/>
            <a:ext cx="287640" cy="576360"/>
          </a:xfrm>
          <a:prstGeom prst="downArrow">
            <a:avLst>
              <a:gd name="adj1" fmla="val 50000"/>
              <a:gd name="adj2" fmla="val 50168"/>
            </a:avLst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5003640" y="3860640"/>
            <a:ext cx="289080" cy="648000"/>
          </a:xfrm>
          <a:prstGeom prst="downArrow">
            <a:avLst>
              <a:gd name="adj1" fmla="val 50000"/>
              <a:gd name="adj2" fmla="val 56040"/>
            </a:avLst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736040" y="2133720"/>
            <a:ext cx="7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层层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2987640" y="4581360"/>
            <a:ext cx="5760720" cy="520560"/>
            <a:chOff x="2987640" y="4581360"/>
            <a:chExt cx="5760720" cy="520560"/>
          </a:xfrm>
        </p:grpSpPr>
        <p:sp>
          <p:nvSpPr>
            <p:cNvPr id="135" name="Text Box 10"/>
            <p:cNvSpPr/>
            <p:nvPr/>
          </p:nvSpPr>
          <p:spPr>
            <a:xfrm>
              <a:off x="3511080" y="4581360"/>
              <a:ext cx="52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王如知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1" descr="BD10297_"/>
            <p:cNvPicPr/>
            <p:nvPr/>
          </p:nvPicPr>
          <p:blipFill>
            <a:blip r:embed="rId1"/>
            <a:stretch/>
          </p:blipFill>
          <p:spPr>
            <a:xfrm>
              <a:off x="2987640" y="4733640"/>
              <a:ext cx="2617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2"/>
          <p:cNvGrpSpPr/>
          <p:nvPr/>
        </p:nvGrpSpPr>
        <p:grpSpPr>
          <a:xfrm>
            <a:off x="2965320" y="2695680"/>
            <a:ext cx="4572000" cy="520560"/>
            <a:chOff x="2965320" y="2695680"/>
            <a:chExt cx="4572000" cy="520560"/>
          </a:xfrm>
        </p:grpSpPr>
        <p:sp>
          <p:nvSpPr>
            <p:cNvPr id="138" name="Text Box 13"/>
            <p:cNvSpPr/>
            <p:nvPr/>
          </p:nvSpPr>
          <p:spPr>
            <a:xfrm>
              <a:off x="3422520" y="26956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以五十步笑百步，则何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14" descr="BD14866_"/>
            <p:cNvPicPr/>
            <p:nvPr/>
          </p:nvPicPr>
          <p:blipFill>
            <a:blip r:embed="rId2"/>
            <a:stretch/>
          </p:blipFill>
          <p:spPr>
            <a:xfrm>
              <a:off x="2965320" y="277200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5"/>
          <p:cNvGrpSpPr/>
          <p:nvPr/>
        </p:nvGrpSpPr>
        <p:grpSpPr>
          <a:xfrm>
            <a:off x="2981160" y="995400"/>
            <a:ext cx="3657600" cy="520560"/>
            <a:chOff x="2981160" y="995400"/>
            <a:chExt cx="3657600" cy="520560"/>
          </a:xfrm>
        </p:grpSpPr>
        <p:sp>
          <p:nvSpPr>
            <p:cNvPr id="141" name="Text Box 16"/>
            <p:cNvSpPr/>
            <p:nvPr/>
          </p:nvSpPr>
          <p:spPr>
            <a:xfrm>
              <a:off x="3514680" y="995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王好战，请以战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7" descr="BD14868_"/>
            <p:cNvPicPr/>
            <p:nvPr/>
          </p:nvPicPr>
          <p:blipFill>
            <a:blip r:embed="rId3"/>
            <a:stretch/>
          </p:blipFill>
          <p:spPr>
            <a:xfrm>
              <a:off x="2981160" y="1071720"/>
              <a:ext cx="297000" cy="29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18" descr="0002"/>
          <p:cNvPicPr/>
          <p:nvPr/>
        </p:nvPicPr>
        <p:blipFill>
          <a:blip r:embed="rId4"/>
          <a:stretch/>
        </p:blipFill>
        <p:spPr>
          <a:xfrm>
            <a:off x="466560" y="1484280"/>
            <a:ext cx="200052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952720" y="1209600"/>
            <a:ext cx="56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成语：“五十步笑百步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132000" y="2157480"/>
            <a:ext cx="4969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义：比喻缺点或错误的性质相同，只是情节轻或重的区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五十步笑百步来做比喻，说明梁惠王与邻国执政者没有本质区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003"/>
          <p:cNvPicPr/>
          <p:nvPr/>
        </p:nvPicPr>
        <p:blipFill>
          <a:blip r:embed="rId1"/>
          <a:srcRect l="0" t="0" r="4298" b="2114"/>
          <a:stretch/>
        </p:blipFill>
        <p:spPr>
          <a:xfrm>
            <a:off x="536400" y="2351160"/>
            <a:ext cx="21639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609480" y="1295280"/>
            <a:ext cx="3114720" cy="520560"/>
            <a:chOff x="609480" y="1295280"/>
            <a:chExt cx="3114720" cy="520560"/>
          </a:xfrm>
        </p:grpSpPr>
        <p:sp>
          <p:nvSpPr>
            <p:cNvPr id="152" name="Text Box 3"/>
            <p:cNvSpPr/>
            <p:nvPr/>
          </p:nvSpPr>
          <p:spPr>
            <a:xfrm>
              <a:off x="1143000" y="1295280"/>
              <a:ext cx="258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违农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4" descr="wbb01slg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5"/>
          <p:cNvGrpSpPr/>
          <p:nvPr/>
        </p:nvGrpSpPr>
        <p:grpSpPr>
          <a:xfrm>
            <a:off x="609480" y="3200400"/>
            <a:ext cx="3098880" cy="520560"/>
            <a:chOff x="609480" y="3200400"/>
            <a:chExt cx="3098880" cy="520560"/>
          </a:xfrm>
        </p:grpSpPr>
        <p:pic>
          <p:nvPicPr>
            <p:cNvPr id="155" name="Picture 6" descr="wbb01srb"/>
            <p:cNvPicPr/>
            <p:nvPr/>
          </p:nvPicPr>
          <p:blipFill>
            <a:blip r:embed="rId2"/>
            <a:stretch/>
          </p:blipFill>
          <p:spPr>
            <a:xfrm>
              <a:off x="609480" y="32259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7"/>
            <p:cNvSpPr/>
            <p:nvPr/>
          </p:nvSpPr>
          <p:spPr>
            <a:xfrm>
              <a:off x="1127160" y="3200400"/>
              <a:ext cx="258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以时入山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"/>
          <p:cNvGrpSpPr/>
          <p:nvPr/>
        </p:nvGrpSpPr>
        <p:grpSpPr>
          <a:xfrm>
            <a:off x="611280" y="2205000"/>
            <a:ext cx="3047400" cy="520560"/>
            <a:chOff x="611280" y="2205000"/>
            <a:chExt cx="3047400" cy="520560"/>
          </a:xfrm>
        </p:grpSpPr>
        <p:pic>
          <p:nvPicPr>
            <p:cNvPr id="158" name="Picture 9" descr="wbb01srr"/>
            <p:cNvPicPr/>
            <p:nvPr/>
          </p:nvPicPr>
          <p:blipFill>
            <a:blip r:embed="rId3"/>
            <a:stretch/>
          </p:blipFill>
          <p:spPr>
            <a:xfrm>
              <a:off x="611280" y="2266920"/>
              <a:ext cx="4251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1077480" y="2205000"/>
              <a:ext cx="258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入洿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76720" y="1557360"/>
            <a:ext cx="609480" cy="762120"/>
            <a:chOff x="3276720" y="1557360"/>
            <a:chExt cx="609480" cy="762120"/>
          </a:xfrm>
        </p:grpSpPr>
        <p:sp>
          <p:nvSpPr>
            <p:cNvPr id="161" name="Line 11"/>
            <p:cNvSpPr/>
            <p:nvPr/>
          </p:nvSpPr>
          <p:spPr>
            <a:xfrm>
              <a:off x="3276720" y="155736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276720" y="1557360"/>
              <a:ext cx="6094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276720" y="2492280"/>
            <a:ext cx="609480" cy="360"/>
            <a:chOff x="3276720" y="2492280"/>
            <a:chExt cx="609480" cy="360"/>
          </a:xfrm>
        </p:grpSpPr>
        <p:sp>
          <p:nvSpPr>
            <p:cNvPr id="164" name="Line 12"/>
            <p:cNvSpPr/>
            <p:nvPr/>
          </p:nvSpPr>
          <p:spPr>
            <a:xfrm>
              <a:off x="3276720" y="2492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276720" y="2492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76360" y="2707920"/>
            <a:ext cx="609840" cy="762120"/>
            <a:chOff x="3276360" y="2707920"/>
            <a:chExt cx="609840" cy="762120"/>
          </a:xfrm>
        </p:grpSpPr>
        <p:sp>
          <p:nvSpPr>
            <p:cNvPr id="167" name="Line 13"/>
            <p:cNvSpPr/>
            <p:nvPr/>
          </p:nvSpPr>
          <p:spPr>
            <a:xfrm flipV="1">
              <a:off x="3276720" y="27079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3276360" y="2707920"/>
              <a:ext cx="6094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14"/>
          <p:cNvSpPr/>
          <p:nvPr/>
        </p:nvSpPr>
        <p:spPr>
          <a:xfrm>
            <a:off x="4211640" y="1700280"/>
            <a:ext cx="91440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使民养生丧死无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5364000" y="242100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227640" y="2349360"/>
            <a:ext cx="25909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宋体"/>
              </a:rPr>
              <a:t>王道之始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258920" y="4437000"/>
            <a:ext cx="67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阐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“王道之始”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06:25:00Z</dcterms:created>
  <dc:creator>语文备课大师 www.xiexingcun.com【全免费】</dc:creator>
  <dc:description>语文备课大师 www.xiexingcun.com【全免费】</dc:description>
  <cp:keywords/>
  <dc:language>en-US</dc:language>
  <cp:lastModifiedBy>备课大师</cp:lastModifiedBy>
  <dcterms:modified xsi:type="dcterms:W3CDTF">2015-06-06T18:50:59Z</dcterms:modified>
  <cp:revision>0</cp:revision>
  <dc:subject> 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