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405-DBAF-4AAA-8845-B6F37E2F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1FC-F02B-4BB4-A6C1-4F0940F5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85E-D05E-43AF-97CF-39BF83E2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EF6-F79D-46EB-9CEF-C03B221D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7CE-D0BD-4213-ACFA-36CDEBB4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69C-0CE4-4E52-AE2F-747152F5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2BF-93D8-4A03-957D-A168FC1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8AE-6E5B-4C1D-B8D2-BB6AE1E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4DF-8407-45F6-9C67-49FD2461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F94-7CF6-4531-ACE2-D4B35B9D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E38-48E8-440C-B09C-86546B0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F47-0DE7-4CAE-B310-CBF6E0DC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260-5989-4588-A46B-5EBCC274EC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D16-58BF-419E-80FE-74E010023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07B-961C-4A01-B5AB-05EF72A0F5A7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图片01"/>
          <p:cNvPicPr/>
          <p:nvPr/>
        </p:nvPicPr>
        <p:blipFill>
          <a:blip r:embed="rId1"/>
          <a:stretch/>
        </p:blipFill>
        <p:spPr>
          <a:xfrm>
            <a:off x="250920" y="1047600"/>
            <a:ext cx="2084400" cy="6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9219e6f6e7ec950b730eec40"/>
          <p:cNvPicPr/>
          <p:nvPr/>
        </p:nvPicPr>
        <p:blipFill>
          <a:blip r:embed="rId2"/>
          <a:stretch/>
        </p:blipFill>
        <p:spPr>
          <a:xfrm>
            <a:off x="1979640" y="2151000"/>
            <a:ext cx="5256360" cy="394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DDF9-A50F-420B-BFE4-FCD74D80A071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内容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99280" y="2346480"/>
            <a:ext cx="331812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段内容各有什么侧重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蒙田认为生命的本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00000" y="29811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第一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侧重从不同的生活态度，表明为什么要热爱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第三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着重从生与死，生命的短暂谈怎样热爱生命──抓紧时间、有效利用时间、使生命过得丰盈充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042920" y="5373720"/>
            <a:ext cx="720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对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时告别人生，毫不惋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认识到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之本质在于死。因此只有乐于生的人才能真正不感到死之苦恼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7FA-C272-4621-A0DC-02379F5E785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004128201392818"/>
          <p:cNvPicPr/>
          <p:nvPr/>
        </p:nvPicPr>
        <p:blipFill>
          <a:blip r:embed="rId1"/>
          <a:stretch/>
        </p:blipFill>
        <p:spPr>
          <a:xfrm>
            <a:off x="2484360" y="1589040"/>
            <a:ext cx="4200480" cy="289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4" name="Text Box 4"/>
          <p:cNvSpPr/>
          <p:nvPr/>
        </p:nvSpPr>
        <p:spPr>
          <a:xfrm>
            <a:off x="4221360" y="48434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人是一根能思考的苇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68440" y="570852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帕斯卡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F665-93FF-4655-8674-FF66D9BFD1E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图片02"/>
          <p:cNvPicPr/>
          <p:nvPr/>
        </p:nvPicPr>
        <p:blipFill>
          <a:blip r:embed="rId1"/>
          <a:stretch/>
        </p:blipFill>
        <p:spPr>
          <a:xfrm>
            <a:off x="111240" y="981000"/>
            <a:ext cx="2157120" cy="792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b3a1c088e7d13f162d9868f"/>
          <p:cNvPicPr/>
          <p:nvPr/>
        </p:nvPicPr>
        <p:blipFill>
          <a:blip r:embed="rId2"/>
          <a:srcRect l="0" t="0" r="35767" b="0"/>
          <a:stretch/>
        </p:blipFill>
        <p:spPr>
          <a:xfrm>
            <a:off x="755640" y="2924280"/>
            <a:ext cx="2016000" cy="284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203640" y="3923280"/>
            <a:ext cx="5392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莱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斯卡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23-1662)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法国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具天才的数学家、物理学家、哲学家。他在理论科学和实验科学两方面都做出了巨大贡献。几何学上的帕斯卡尔六边形定理、帕斯卡尔三角形，物理学上的帕斯卡尔定理等均是他的贡献。他还创制了世界上第一台计算机，制作了水银气压计。他同时还是概率论的创立人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9EC4-485B-4C9E-A8BC-792E8C35832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00000" y="3141720"/>
            <a:ext cx="74170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部分（第</a:t>
            </a:r>
            <a:r>
              <a:rPr b="0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与自然界的万物区别开来的主要标志是人能够思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部分（第</a:t>
            </a:r>
            <a:r>
              <a:rPr b="0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4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想形成人的伟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部分（第</a:t>
            </a:r>
            <a:r>
              <a:rPr b="0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段）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人追求自己的尊严，应求之于思想的规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98400" y="2349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课文，概括课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BA6-7777-41C1-8AE6-192B304FAA8D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32720" y="2443320"/>
            <a:ext cx="4260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说“人是一根能思想的苇草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是能思想的苇草”概括了人什么样的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00000" y="2997360"/>
            <a:ext cx="727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是自然界最脆弱的东西，因而说他是“苇草”，但人又能思想，这是别的力量所无法摧毁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763080" y="497664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的渺小、脆弱，在大自然面前的不堪一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6F6-9CC3-47DC-AEB9-55BAD88B0545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116520" y="24685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帕斯卡尔为什么把人比作“一根能思想的苇草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26920" y="3325680"/>
            <a:ext cx="749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以“苇草”为喻，形象地写出人的渺小、脆弱，在大自然面前的不堪一击。这样比喻是为了衬托出思想的力量：思想使渺小的人变得高贵和有尊严。宇宙的浩大，能毁灭脆弱渺小的人；人却因为思想，可以囊括宇宙，这就是人在宇宙中的全部尊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85E7-E5BF-46C7-AFCE-39571BD47C37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00000" y="227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是一根能思想的苇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作者为什么说“我们全部的尊严就在于思想”？怎样理解“这就是道德的原则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71640" y="4024440"/>
            <a:ext cx="727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作者把思想看做是人之所以为人以及人超出其他万物的标志。因为人是高于自然的，在自然界中，人有着绝对的优势，他的优势表现在他的精神上，他的思想上。思想可以超越自然，超越物质，可以通向无限，这使得人在自然中有了尊严，有了主宰世界的能力，所以说：“我们全部的尊严就在于思想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C0E-DFF2-486F-8CD6-806ECE2823B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900000" y="2276640"/>
            <a:ext cx="73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是一根能思想的苇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作者为什么说“我们全部的尊严就在于思想”？怎样理解“这就是道德的原则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71640" y="397368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也正因为如此，我们“必须提高自己”，要“努力好好地思想”，这就是我们存在于世界的意义，人在自然中的崇高使命。这里，作者把这一使命上升到道德层面，换言之，人若不努力思想，就不是一个有道德的人，即丧失了人之为人的起码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6D2-D8F7-4B79-819D-B37E3EBBFBD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文章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00000" y="2508120"/>
            <a:ext cx="741708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内容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文章的核心观点：思想形成人的伟大。即：人之伟大源于他拥有思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文章主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很脆弱，伟大之处在于人能思想，人应该努力地“好好思想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7B1B-A1BE-451E-9990-657A2E670B7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761204749861_2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297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3" name="Text Box 5"/>
          <p:cNvSpPr/>
          <p:nvPr/>
        </p:nvSpPr>
        <p:spPr>
          <a:xfrm>
            <a:off x="4106880" y="4824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信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768280" y="575784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富尔格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DC3-DFFF-496F-9224-0F93B00B817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a075accb6758e8afc8176841"/>
          <p:cNvPicPr/>
          <p:nvPr/>
        </p:nvPicPr>
        <p:blipFill>
          <a:blip r:embed="rId1"/>
          <a:stretch/>
        </p:blipFill>
        <p:spPr>
          <a:xfrm>
            <a:off x="2484360" y="161460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807000" y="508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热爱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099120" y="585144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蒙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249B-741C-435F-84DF-01FCBE11C7F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图片02"/>
          <p:cNvPicPr/>
          <p:nvPr/>
        </p:nvPicPr>
        <p:blipFill>
          <a:blip r:embed="rId1"/>
          <a:stretch/>
        </p:blipFill>
        <p:spPr>
          <a:xfrm>
            <a:off x="111240" y="981000"/>
            <a:ext cx="2157120" cy="792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042920" y="2541600"/>
            <a:ext cx="69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尔格姆，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当代作家、哲学家。他当过牛仔、民歌手、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推销员、专业画家、教区牧师、酒吧调酒师、绘画教师。他和妻子住在西雅图的一座船屋里。主要著作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躺倒，身下就起火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自他的散文随笔集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需要知道的一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部散文随笔集极富哲理性，曾成为美国年度第一号畅销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A68-8F36-43B3-B440-C2D484AB572A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900000" y="3230640"/>
            <a:ext cx="741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这篇课文，画出那些对你感触比较深的信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一条信条或者哪几条信条对你感触比较深，是怎样的感悟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642680" y="2395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课文，思考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E9E-2127-468C-B593-4F997527B98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2062080" y="232416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主要观点是什么？作者强调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900000" y="308448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观点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我真正需要知道的一切，即怎样生活，怎样做事和怎样为人，我在幼儿园就学过。”接着，文章列出了十六条理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作者特别强调十六条中的一条：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当你们出门，到世界上去走走，最好还是手拉手，紧挨一起。”即强调人与人之间要团结，要互相关爱，要有集体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F2E-E379-4682-87C3-3E79FF6FBE59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重点研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124000" y="232416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富尔格姆列出这些最基本的信条有什么意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3141720"/>
            <a:ext cx="727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们常说，真理是朴素的。又说，世界上最难的事情，就是用最简明的语言表达最复杂的道理。对于应该怎样生活、怎样做事和怎样为人，在当代社会生活中越来越没有固定的衡量标准，使一般人难以把握、望而生畏。作者却把复杂问题简单化，而且讲得机智、幽默，充满温情，容易为人们所接受。正如文章中所说，这些信条“贴近真实，清晰明了并且坚实可靠”，便于大家信心十足地去实践，并获得成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9E61-A4D6-4A56-ADE8-F22DE3C9F7C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图片04"/>
          <p:cNvPicPr/>
          <p:nvPr/>
        </p:nvPicPr>
        <p:blipFill>
          <a:blip r:embed="rId1"/>
          <a:stretch/>
        </p:blipFill>
        <p:spPr>
          <a:xfrm>
            <a:off x="144360" y="907920"/>
            <a:ext cx="2195640" cy="78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35"/>
          <p:cNvPicPr/>
          <p:nvPr/>
        </p:nvPicPr>
        <p:blipFill>
          <a:blip r:embed="rId2"/>
          <a:stretch/>
        </p:blipFill>
        <p:spPr>
          <a:xfrm>
            <a:off x="2286000" y="2592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视频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61A3-F1BC-474E-BCF3-0D5713D0CA5E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图片05"/>
          <p:cNvPicPr/>
          <p:nvPr/>
        </p:nvPicPr>
        <p:blipFill>
          <a:blip r:embed="rId1"/>
          <a:stretch/>
        </p:blipFill>
        <p:spPr>
          <a:xfrm>
            <a:off x="179280" y="907920"/>
            <a:ext cx="2078280" cy="719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1187280" y="1844640"/>
            <a:ext cx="691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列各组词语中，字形全都正确的一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苦恼         老炼          短暂          优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赏玩         打发          流逝          脆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毁灭         优式          囊括          吞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推衍         分量          贴近          清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图片9"/>
          <p:cNvPicPr/>
          <p:nvPr/>
        </p:nvPicPr>
        <p:blipFill>
          <a:blip r:embed="rId2"/>
          <a:stretch/>
        </p:blipFill>
        <p:spPr>
          <a:xfrm>
            <a:off x="7012080" y="1628640"/>
            <a:ext cx="1231920" cy="8654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332000" y="5084640"/>
            <a:ext cx="6985080" cy="10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8000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690560" y="5157720"/>
            <a:ext cx="648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46"/>
          <p:cNvGrpSpPr/>
          <p:nvPr/>
        </p:nvGrpSpPr>
        <p:grpSpPr>
          <a:xfrm>
            <a:off x="682560" y="4653000"/>
            <a:ext cx="1224000" cy="576360"/>
            <a:chOff x="682560" y="4653000"/>
            <a:chExt cx="1224000" cy="576360"/>
          </a:xfrm>
        </p:grpSpPr>
        <p:sp>
          <p:nvSpPr>
            <p:cNvPr id="165" name="圆角矩形 51"/>
            <p:cNvSpPr/>
            <p:nvPr/>
          </p:nvSpPr>
          <p:spPr>
            <a:xfrm>
              <a:off x="1011240" y="4823280"/>
              <a:ext cx="788760" cy="33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e8dc"/>
                </a:gs>
                <a:gs pos="100000">
                  <a:srgbClr val="c4b284"/>
                </a:gs>
              </a:gsLst>
              <a:lin ang="5400000"/>
            </a:gradFill>
            <a:ln w="10080">
              <a:solidFill>
                <a:srgbClr val="a19574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图片 19" descr="33.png"/>
            <p:cNvPicPr/>
            <p:nvPr/>
          </p:nvPicPr>
          <p:blipFill>
            <a:blip r:embed="rId3"/>
            <a:stretch/>
          </p:blipFill>
          <p:spPr>
            <a:xfrm>
              <a:off x="682560" y="4653000"/>
              <a:ext cx="525960" cy="4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53" descr=""/>
            <p:cNvPicPr/>
            <p:nvPr/>
          </p:nvPicPr>
          <p:blipFill>
            <a:blip r:embed="rId4"/>
            <a:stretch/>
          </p:blipFill>
          <p:spPr>
            <a:xfrm>
              <a:off x="917280" y="4739760"/>
              <a:ext cx="989280" cy="48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0FD-8E2C-4A81-8653-CDCD9BC8477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图片05"/>
          <p:cNvPicPr/>
          <p:nvPr/>
        </p:nvPicPr>
        <p:blipFill>
          <a:blip r:embed="rId1"/>
          <a:stretch/>
        </p:blipFill>
        <p:spPr>
          <a:xfrm>
            <a:off x="179280" y="835200"/>
            <a:ext cx="2078280" cy="718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258920" y="1484280"/>
            <a:ext cx="684216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列各句中，没有语病的一句是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24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倒不仅是因生之艰辛或苦恼所致，而是由于生之本质在于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24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比别人多享受到一倍的生活，因为生活乐趣的大小是随我们对生活的关心程度而定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24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使宇宙毁灭了他，人却仍然要比致他于死命的东西非常高贵得多，因为他知道自己要灭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24"/>
              </a:spcBef>
              <a:buClr>
                <a:srgbClr val="008000"/>
              </a:buClr>
              <a:buFont typeface="楷体_GB2312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你们出门，到世界上去走走，要手拉手，注意来往车辆，紧挨一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图片9"/>
          <p:cNvPicPr/>
          <p:nvPr/>
        </p:nvPicPr>
        <p:blipFill>
          <a:blip r:embed="rId2"/>
          <a:stretch/>
        </p:blipFill>
        <p:spPr>
          <a:xfrm>
            <a:off x="6877080" y="1268280"/>
            <a:ext cx="1231920" cy="8654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1116000" y="5661000"/>
            <a:ext cx="7343640" cy="863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8000"/>
            </a:solidFill>
            <a:prstDash val="sys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8920" y="57340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联词搭配不当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改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赘余，应删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序不当，应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注意来往车辆，手拉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46"/>
          <p:cNvGrpSpPr/>
          <p:nvPr/>
        </p:nvGrpSpPr>
        <p:grpSpPr>
          <a:xfrm>
            <a:off x="611280" y="5300640"/>
            <a:ext cx="1150920" cy="504720"/>
            <a:chOff x="611280" y="5300640"/>
            <a:chExt cx="1150920" cy="504720"/>
          </a:xfrm>
        </p:grpSpPr>
        <p:sp>
          <p:nvSpPr>
            <p:cNvPr id="175" name="圆角矩形 51"/>
            <p:cNvSpPr/>
            <p:nvPr/>
          </p:nvSpPr>
          <p:spPr>
            <a:xfrm>
              <a:off x="911160" y="5435640"/>
              <a:ext cx="721800" cy="26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e8dc"/>
                </a:gs>
                <a:gs pos="100000">
                  <a:srgbClr val="c4b284"/>
                </a:gs>
              </a:gsLst>
              <a:lin ang="5400000"/>
            </a:gradFill>
            <a:ln w="10080">
              <a:solidFill>
                <a:srgbClr val="a19574"/>
              </a:solidFill>
              <a:miter/>
            </a:ln>
            <a:effectLst>
              <a:outerShdw dist="50760" dir="5400000" blurRad="0" rotWithShape="0">
                <a:srgbClr val="4e3b30">
                  <a:alpha val="6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19" descr="33.png"/>
            <p:cNvPicPr/>
            <p:nvPr/>
          </p:nvPicPr>
          <p:blipFill>
            <a:blip r:embed="rId3"/>
            <a:stretch/>
          </p:blipFill>
          <p:spPr>
            <a:xfrm>
              <a:off x="611280" y="5300640"/>
              <a:ext cx="480960" cy="38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TextBox 53" descr=""/>
            <p:cNvPicPr/>
            <p:nvPr/>
          </p:nvPicPr>
          <p:blipFill>
            <a:blip r:embed="rId4"/>
            <a:stretch/>
          </p:blipFill>
          <p:spPr>
            <a:xfrm>
              <a:off x="799920" y="5361840"/>
              <a:ext cx="962280" cy="44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CE8-EA6C-47F7-A492-B7B2D8FA3AA0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图片02"/>
          <p:cNvPicPr/>
          <p:nvPr/>
        </p:nvPicPr>
        <p:blipFill>
          <a:blip r:embed="rId1"/>
          <a:stretch/>
        </p:blipFill>
        <p:spPr>
          <a:xfrm>
            <a:off x="111240" y="981000"/>
            <a:ext cx="215712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W020081230530142882406"/>
          <p:cNvPicPr/>
          <p:nvPr/>
        </p:nvPicPr>
        <p:blipFill>
          <a:blip r:embed="rId2"/>
          <a:srcRect l="0" t="0" r="11319" b="13611"/>
          <a:stretch/>
        </p:blipFill>
        <p:spPr>
          <a:xfrm>
            <a:off x="755640" y="2709720"/>
            <a:ext cx="2448000" cy="331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" name="Rectangle 5"/>
          <p:cNvSpPr/>
          <p:nvPr/>
        </p:nvSpPr>
        <p:spPr>
          <a:xfrm>
            <a:off x="3564000" y="2565360"/>
            <a:ext cx="5073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53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92)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法国思想家、散文家。一译蒙台涅。加斯科涅郡人，出身于新贵族，祖上是波尔多的富商。蒙田曾当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文官，后辞官回乡，在相当长的一段时期内深居简出，闭户读书思考。但是他也喜欢出游，曾游历瑞士、意大利等国，留意各地人情风俗。他把读书心得、旅途见闻、日常感想记录下来，日积月累，写成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笔集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于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8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70B-614F-474F-9193-5662F0BF495A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4022640" y="148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98400" y="2349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课文，概括课文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00000" y="3213000"/>
            <a:ext cx="74170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段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谈起，阐释了对生命的认识，表达了对生命的热爱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段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渡，导出第三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段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示生的本质即死，表达更加热爱生活的思想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A5E2-55D7-4A6F-A0CC-2D46A19DC58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图片03"/>
          <p:cNvPicPr/>
          <p:nvPr/>
        </p:nvPicPr>
        <p:blipFill>
          <a:blip r:embed="rId1"/>
          <a:stretch/>
        </p:blipFill>
        <p:spPr>
          <a:xfrm>
            <a:off x="109440" y="76500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306680" y="133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研读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58560" y="2062080"/>
            <a:ext cx="407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觉得热爱生命就要如何对待生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对生命的理解和“哲人”的有什么不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971640" y="4618080"/>
            <a:ext cx="741672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哲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为生命的利用不外乎在于将它打发、消磨，并尽量回避它，无视它的存在，仿佛这是一件苦事、一件贱物似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认为生命受到自然的恩赐，它是优越无比的，如果我们觉得不堪生之重压或是白白虚度此生，那也只能怪我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900000" y="2781360"/>
            <a:ext cx="727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要热爱生活，“坏日子”要飞快地过，好日子要慢慢赏玩，领略美好的时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8EF-9FE2-42E8-875F-4BE6DC0BBEE9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310640" y="1481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研读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317680"/>
            <a:ext cx="72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要谈“热爱生命”，为什么开头却从“度日”说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936720" y="3613320"/>
            <a:ext cx="730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命”对人是公平的，人人都有，又和“度日”呀，“光阴”呀，密不可分，但是，面对这一个简单的问题，作者深知不同人有不同的认识和不同的态度。从这入手，会使人感觉：浅显、熟悉、亲切，其后就会自然的一步步的接受作者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03B-0021-4555-9E21-9F2831C45D7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904200" y="14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研读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00000" y="2205000"/>
            <a:ext cx="73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0000"/>
              </a:buClr>
              <a:buSzPct val="14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引用了古罗马哲学家塞涅卡的格言：“糊涂人的一生枯燥无味，躁动不安，却将全部希望寄托于来世。”作者对这句话没有作任何评论，他引用这句话的意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00000" y="4508640"/>
            <a:ext cx="72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说明随便打发时光的人实际上并不是什么“哲人”，而是真正的“糊涂人”。真正的希望不在于来世，不在于任何虚无缥缈的东西，而在于生命本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261A-C184-4753-B2CE-FCF7DC0A29F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904200" y="14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研读第三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28720" y="2276640"/>
            <a:ext cx="75596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对“死亡”，作者的态度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”热爱生命，但为什么“对随时告别人生，毫不惋惜”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826920" y="2924280"/>
            <a:ext cx="749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不要害怕死亡，只有乐于生，才能不感到死之苦恼。剩下的生命愈是短暂，“我”愈要使它过得丰盈饱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26920" y="5159520"/>
            <a:ext cx="756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因为乐于生的人好好地享受了生活，对于死亡就不会感到遗憾。而“我”热爱生活，“比别人多享受到一倍的生活”，当需要告别人生的时候，“我”会毫不惋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415-EC43-49DC-ABDE-4254262D28A3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图片03"/>
          <p:cNvPicPr/>
          <p:nvPr/>
        </p:nvPicPr>
        <p:blipFill>
          <a:blip r:embed="rId1"/>
          <a:stretch/>
        </p:blipFill>
        <p:spPr>
          <a:xfrm>
            <a:off x="109440" y="907920"/>
            <a:ext cx="2230560" cy="86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3904200" y="1481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研读第三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289240" y="2371680"/>
            <a:ext cx="452268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之本质在于死。” 这句话怎么理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享受生活要讲究方法”，文中谈到了哪些方法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332960" y="306864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生就有死，没有死也就没有生。死亡是生命的另一种形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826920" y="4797360"/>
            <a:ext cx="763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抓紧时间和有效的利用时间。只有正确认识生命，以乐观的态度去看待生活，关心生活，才能感受生活的美好，才能享受生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1:16Z</dcterms:created>
  <dc:creator>语文大师 www.xiexingcun.com【全站免费】</dc:creator>
  <dc:description>语文大师 www.xiexingcun.com【全站免费】</dc:description>
  <dc:language>en-US</dc:language>
  <cp:lastModifiedBy>CXPC</cp:lastModifiedBy>
  <dcterms:modified xsi:type="dcterms:W3CDTF">2014-12-31T23:53:12Z</dcterms:modified>
  <cp:revision>0</cp:revision>
  <dc:subject/>
  <dc:title>语文大师 www.xiexingcun.com【全站免费】</dc:title>
</cp:coreProperties>
</file>