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F27-B939-4454-8C3D-E25757B6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C95-3191-4E73-B9E3-C68C6584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9EE9-C44B-4013-BBDE-8A267AA1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03D3-2A04-4AE5-BFC2-1F1D9006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1823-C819-4760-BB19-4275EE42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2C65-A9D5-4C0D-B2FF-BC615C43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C14A-1939-47C5-9B17-3B6A9A3C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A6B1-36DB-4A54-8F91-838740CB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CE6E-120C-4519-B90B-826134F3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5344-09B0-4CB9-8461-098AC0B3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ADD8-CAA5-48DD-82D7-F816AE6F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7390-4C62-4A85-AC81-12B2BF60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6E2D-C8A2-430A-A3B2-C0B2A0DC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1BEF-E965-4F91-BC55-6C2208F3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C9D4-6150-4CBB-8990-D4A94ABA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3F8F-9CF5-4ADD-9275-2EBA9F93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C10E-CC3E-4DCE-8A29-2628E1B2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4F6D-F1BC-4A84-B724-6E1D9D38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EDD4-C625-41CC-ABAB-1CB35253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FCB-E0ED-4A60-920B-F8362E6B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AF27-C996-45BA-A09F-727A0C8B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532E-793A-456B-A954-CF45225D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B0D-2AB6-43DA-9D8B-4D65C684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A4EE-57C4-4530-A108-11DE8A3E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68F4-97AC-43F4-B98C-977943F661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9192-EE5E-48E6-9201-8B6B85148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00000" y="50133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方正黄草简体"/>
              </a:rPr>
              <a:t>中国最美丽的小城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汉仪颜楷繁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08000" y="0"/>
            <a:ext cx="470880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边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6000" y="4581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沈从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14400" y="43434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（三）感知：风俗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隶书"/>
              </a:rPr>
              <a:t>美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639440"/>
            <a:ext cx="85694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文章写到了湘西哪些独特的风俗习惯  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3284640"/>
            <a:ext cx="37447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</a:rPr>
              <a:t>端午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</a:rPr>
              <a:t>耍龙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</a:rPr>
              <a:t>月下对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95640" y="2492280"/>
            <a:ext cx="5148360" cy="4330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>
            <a:lum bright="-16000"/>
          </a:blip>
          <a:stretch/>
        </p:blipFill>
        <p:spPr>
          <a:xfrm>
            <a:off x="0" y="3213000"/>
            <a:ext cx="9144000" cy="6186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0"/>
            <a:ext cx="4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89000"/>
            <a:ext cx="32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89000"/>
            <a:ext cx="93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点阅读描写端午和耍龙灯的文字，说说作者为什么要着力做这样的描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77336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1413000"/>
            <a:ext cx="6624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答案：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、描写了湘西独特的风俗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、交待了翠翠生活的典型环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3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、推动故事情节的发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00000" y="50133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方正黄草简体"/>
              </a:rPr>
              <a:t>中国最美丽的小城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汉仪颜楷繁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908000" y="0"/>
            <a:ext cx="470880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边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80000" y="472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59280" y="50133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第二课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（四）捕捉：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隶书"/>
              </a:rPr>
              <a:t>人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性美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：文章哪些细节描写表现出湘西人民朴素的美德？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要求：独立思考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钟，然后发言，后发言的同学不要重复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306864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3789360"/>
            <a:ext cx="9144000" cy="3068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1280" y="2852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799308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三：探究翠翠的形象</a:t>
            </a:r>
            <a:br>
              <a:rPr sz="40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翠翠这个人物形象是全书之魂，是作者倾尽心力多角度塑造的艺术形象，细读文本，用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批注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阅读的方法，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赏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对翠翠的描写）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要求独立思考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分钟。然后发言，后发言的同学不要重复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4581360"/>
            <a:ext cx="914400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56000" y="-360"/>
            <a:ext cx="6588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补充材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翠翠在风日里养着，皮肤变得黑黑的，触目为青山绿水，一对眸子清明如水晶。自然既长养她且教育她，为人天真活泼，处处俨然如一只小兽物。人又那么乖，从不想到残忍的事情，从不发愁，从不动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6248" t="16677" r="41668" b="19449"/>
          <a:stretch/>
        </p:blipFill>
        <p:spPr>
          <a:xfrm>
            <a:off x="0" y="19080"/>
            <a:ext cx="2556000" cy="2065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0920" y="45086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从翠翠的身上我们看到了人性美的基本特征是什么？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（要求：请用简洁的语言加以概括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360" y="3645000"/>
            <a:ext cx="898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边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表现的人生形式是自然的，这里的人们善良、勤劳，质朴、真实、自然，毫不矫柔造作，毫不急功近利，体现了人性中最美的一面。这种人生形式是优美的，他们含蓄而毫不伸张，温情而毫不暴烈，他们的人生是优雅的，安详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200392923481592456"/>
          <p:cNvPicPr/>
          <p:nvPr/>
        </p:nvPicPr>
        <p:blipFill>
          <a:blip r:embed="rId1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708280"/>
            <a:ext cx="91440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要表现的本是一种“人生的形式”，一种“优美，健康，自然，而又不悖乎人性的人生形式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沈从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200392923481592456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404640"/>
            <a:ext cx="740556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思考：阅读课文，说说节选的文字围绕哪个节日展开的？每个小节主要写了哪些事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端午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节：眼前端午，筹备龙舟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节：前年端午，巧遇傩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节：去年端午，巧遇天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节：眼前端午，爱情憧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26200" y="617400"/>
            <a:ext cx="3365280" cy="841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6_1105584051"/>
          <p:cNvPicPr/>
          <p:nvPr/>
        </p:nvPicPr>
        <p:blipFill>
          <a:blip r:embed="rId2"/>
          <a:srcRect l="72559" t="66586" r="-1796" b="818"/>
          <a:stretch/>
        </p:blipFill>
        <p:spPr>
          <a:xfrm>
            <a:off x="7056360" y="5048280"/>
            <a:ext cx="1567080" cy="1111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260280"/>
            <a:ext cx="878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四、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主题探究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说说作者为什么要着力描写湘西的人性美？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要求先独立思考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分钟，然后小组讨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分钟，选代表发言，后发言的同学可以补充但不要重复。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3009960"/>
            <a:ext cx="914400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6516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2997360"/>
            <a:ext cx="41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9280" y="811080"/>
            <a:ext cx="2556000" cy="6046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627280" y="260280"/>
            <a:ext cx="65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沈从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之前生活在湘西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之后是生活在对湘西的回忆之中。他是抱着对新的人生追求与向往离开湘西的。但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代的中国是帝国主义、封建军阀和官僚们共同统治下的黑暗天地，他来到北京、上海后，看到的是都市上流社会“庸俗小气自私市侩”的众生相。沈从文用腐烂两个字来概括上海的都市文明。他说北京人的生命是怯懦的，而他在上海看到的是生命力的枯竭。他拒绝上海，他以一种乡下人的角度，认为上海文明是腐烂的文明，一切都是物质化、利益化。面对这样一种腐烂文化，他产生了危机感。他说 ，我再呆在这里，我原有的生命力，我的祖先给我的生命力也没了，我的祖先给我的诚实、勇敢、热情，血质的遗传到如今恐怕都已经荡然无存，在上海我的生命力要枯竭了。于是他想用这种平凡的、简朴的、单纯的生活方式来对抗这种畸形的都市文化。于是他开始眺望他早年生活过的故乡，凭着他对故乡下层人民怀有的那份“无可言说的温爱”之情，用热情、迷醉的歌喉对那里的风物人情唱出了一曲心灵的赞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图片3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29750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9280" y="54936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质朴的、纯真自然的爱才是优美健康的爱，这种爱值得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  <a:ea typeface="黑体"/>
              </a:rPr>
              <a:t>赞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84464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物欲泛滥的现代文明；金钱主义 的浅薄庸俗                         和腐化堕落的现实应该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批判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357720"/>
            <a:ext cx="825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3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、民族的传统品德和人格应该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Arial"/>
                <a:ea typeface="黑体"/>
              </a:rPr>
              <a:t>重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50920" y="3141720"/>
            <a:ext cx="8893080" cy="30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209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探究：人物可爱，是沈从文先生小说的一大特征。他的作品所有人物全都可爱善良，可又为什么翠翠的爱情以悲剧结束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37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328464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生活有些方面极其伟大，有些方面又极其平凡；性情有些方面极其美丽，有些方面又极其繁琐。”湘西的人性具有“人与自然契合”的一面，但也“充满了原始神秘的恐怖”，“野蛮与优美”交织在一起。这种处于待开发状态的原始自在的人性，不可避免地有其阴暗的一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914400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课外阅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沈从文笔下的北京上海文化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（钱理群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沈从文的寂寞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（汪曾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呼兰河传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（萧红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179280" y="6922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47628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创设情境 导入新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64000" y="1557360"/>
            <a:ext cx="4680000" cy="5300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9280" y="1916280"/>
            <a:ext cx="4176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小说形式写成的无韵之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用文字绘就的五彩之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一支宁静和乐的生活牧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一曲真挚热烈的爱情赞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200392923481592456"/>
          <p:cNvPicPr/>
          <p:nvPr/>
        </p:nvPicPr>
        <p:blipFill>
          <a:blip r:embed="rId1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9640" y="54936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深入研读 体验情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1341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请浏览课文，独立思考：边城的美表现在哪些方面？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（如有难度，可和同桌思考，然后发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2997360"/>
            <a:ext cx="4608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环境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风俗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人性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4000" y="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（二）欣赏：风景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14400" y="4876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方正黄草简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5:28:59Z</dcterms:created>
  <dc:creator/>
  <dc:description/>
  <cp:keywords/>
  <dc:language>en-US</dc:language>
  <cp:lastModifiedBy>USER</cp:lastModifiedBy>
  <cp:lastPrinted>1899-12-30T00:00:00Z</cp:lastPrinted>
  <dcterms:modified xsi:type="dcterms:W3CDTF">2012-11-21T04:52:4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