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C29-F52C-4E06-BC5D-EE7DA168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CF1-D119-4010-9991-DC56BA11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318-6F7A-4E3B-8A5E-82326E52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1BA-F57E-41FC-9F3D-79464F4E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98E-06F4-4386-81D3-081641E2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FA7-8AA5-4304-B0B1-35E290F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254-B4D0-417D-A17D-70DCDE2A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DF0-E5C6-45F1-85C2-A985F9E0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DD2-CEE4-42F7-8FCA-868F5744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56D-1349-4FB8-9B12-2B74AE86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873-2783-463A-BC9E-0B6914C3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879-19E9-4761-8DAB-981DEFEA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D19F-D8AF-4CCA-95EE-D401EB45D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0"/>
            <a:ext cx="9144000" cy="739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45000" y="838080"/>
            <a:ext cx="17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20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、她是我的朋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R5025" descr=""/>
          <p:cNvPicPr/>
          <p:nvPr/>
        </p:nvPicPr>
        <p:blipFill>
          <a:blip r:embed="rId1"/>
          <a:stretch/>
        </p:blipFill>
        <p:spPr>
          <a:xfrm>
            <a:off x="-533520" y="0"/>
            <a:ext cx="10591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62320" y="20574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52388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 她  是  我  的   朋  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809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  二   段： 阮    恒    献  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800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  三    段：献    血    原  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6668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  一   段： 朋    友    受   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R8066" descr=""/>
          <p:cNvPicPr/>
          <p:nvPr/>
        </p:nvPicPr>
        <p:blipFill>
          <a:blip r:embed="rId1"/>
          <a:stretch/>
        </p:blipFill>
        <p:spPr>
          <a:xfrm>
            <a:off x="657360" y="595440"/>
            <a:ext cx="7829280" cy="566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2480" y="14479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一阵沉默之后，一只小 手  颤  抖  地 举 起来。 忽 然 又放下去，然 后又举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114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39625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6600"/>
                </a:solidFill>
                <a:latin typeface="Times New Roman"/>
              </a:rPr>
              <a:t>阮恒举手时为什么“颤抖”？为什么把手“放下去”又“举起来”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-304920" y="0"/>
          <a:ext cx="94489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0"/>
                    <a:ext cx="9448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33520" y="19051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过了一会儿，他突然啜泣了一下，全身颤抖并迅速用另一只手捂住脸，“疼吗，阮恒？”医生问道。阮恒摇摇头。但过了一会儿，  他又开始呜咽，  并 再一次试图用手掩盖他的痛苦。医生又问是不是针刺疼了他，他又摇了摇头。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 接着，  他那不时的啜泣变成持续不断的低声哭泣。他眼睛紧闭着，用牙咬着自己的小拳头，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竭力制止抽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R505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8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2362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2438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895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2895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3434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3434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3341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5410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孙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0:13:04Z</dcterms:created>
  <dc:creator>语文大师 xiexingcun.com</dc:creator>
  <dc:description/>
  <dc:language>en-US</dc:language>
  <cp:lastModifiedBy>bnu100</cp:lastModifiedBy>
  <dcterms:modified xsi:type="dcterms:W3CDTF">2014-07-24T07:08:49Z</dcterms:modified>
  <cp:revision>0</cp:revision>
  <dc:subject/>
  <dc:title>语文大师 xiexingcun.com</dc:title>
</cp:coreProperties>
</file>