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AB2E-5D86-46BF-AC0B-5ED69652D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C4AD-E77F-4576-8BE7-ABF4F153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3A3B-7205-4B6F-921B-99784023D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DE08-76C7-4231-82C9-B2B2B7193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50F6-1DAB-4B8D-9B18-D4D78484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A53A-7E0F-4C86-810D-4C40CA15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E202-0332-4F67-9751-066CED4D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2808-7947-4453-A1C2-3538E6D1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0577-EFA4-467C-8784-FA8FBE3C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0400-6A54-4325-8B70-BCA47CF5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A457-CC8F-4430-ABEA-B10CDFFF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7C0C-4EB7-4356-AA54-59A00729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B352-A5B9-439D-AB7A-F8964A8A36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00200" y="8380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99"/>
                </a:solidFill>
                <a:latin typeface="Times New Roman"/>
                <a:ea typeface="华文新魏"/>
              </a:rPr>
              <a:t>让我们先来朗读一首儿歌吧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2438280"/>
            <a:ext cx="6858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6600"/>
                </a:solidFill>
                <a:latin typeface="Times New Roman"/>
                <a:ea typeface="幼圆"/>
              </a:rPr>
              <a:t>影子在前，影子在后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6600"/>
                </a:solidFill>
                <a:latin typeface="Times New Roman"/>
                <a:ea typeface="幼圆"/>
              </a:rPr>
              <a:t>影子是个小黑狗，常常跟着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6600"/>
                </a:solidFill>
                <a:latin typeface="Times New Roman"/>
                <a:ea typeface="幼圆"/>
              </a:rPr>
              <a:t>影子在左，影子在右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6600"/>
                </a:solidFill>
                <a:latin typeface="Times New Roman"/>
                <a:ea typeface="幼圆"/>
              </a:rPr>
              <a:t>影子是个好朋友，常常陪着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ch6a_72e.jpg (10447 bytes)"/>
          <p:cNvPicPr/>
          <p:nvPr/>
        </p:nvPicPr>
        <p:blipFill>
          <a:blip r:embed="rId2"/>
          <a:stretch/>
        </p:blipFill>
        <p:spPr>
          <a:xfrm>
            <a:off x="0" y="987480"/>
            <a:ext cx="3916440" cy="5870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334120" y="1557360"/>
            <a:ext cx="3319200" cy="5300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284720" y="0"/>
            <a:ext cx="251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6600"/>
                </a:solidFill>
                <a:latin typeface="Arial"/>
                <a:ea typeface="华文彩云"/>
              </a:rPr>
              <a:t>人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5867280"/>
            <a:ext cx="762120" cy="38124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33520" y="380880"/>
            <a:ext cx="784836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课堂小结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艺术是美好的，但艺术并非高不可攀，它存在于日常生活中甚至孩子不经意的游戏中。法国著名雕塑家罗丹说：“美是到处都有的，对于我们的眼睛，不是缺少美，而是缺少发现。”我们不仅要善于发现美，而且更要善于创造美。这样，有一天你会发现，你拥有了自己的艺术人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8600" y="304920"/>
            <a:ext cx="86868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作业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我们在生活中经常做游戏，比如用泥巴造城堡，用雪堆娃娃，用野花编花环……留心一下，想一想，你是否也在进行着一种艺术上的创造，是否也有艺术上的发现呢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?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请把这种活动和发现用恰当的语言表达出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3047760" cy="3505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105520" y="2743200"/>
            <a:ext cx="3429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304920"/>
            <a:ext cx="1523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3399"/>
                </a:solidFill>
                <a:latin typeface="Times New Roman"/>
                <a:ea typeface="华文彩云"/>
              </a:rPr>
              <a:t>竹  影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3124080"/>
            <a:ext cx="63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  <a:ea typeface="隶书"/>
              </a:rPr>
              <a:t>丰子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918480" y="2286000"/>
            <a:ext cx="549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010280" y="2743200"/>
            <a:ext cx="15256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4495680"/>
            <a:ext cx="793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2666880" cy="3733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581280" y="304920"/>
            <a:ext cx="4953240" cy="20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华文彩云"/>
              </a:rPr>
              <a:t>丰子恺小档案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华文彩云"/>
              </a:rPr>
              <a:t>    </a:t>
            </a:r>
            <a:r>
              <a:rPr b="1" lang="zh-CN" sz="2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丰子恺（</a:t>
            </a:r>
            <a:r>
              <a:rPr b="1" lang="zh-CN" sz="2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898—1975</a:t>
            </a:r>
            <a:r>
              <a:rPr b="1" lang="zh-CN" sz="2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，我国现代著名画家、文学家、美术和音乐教育家，是一位多方面卓有成就的文艺大师。丰子恺风格独特的漫画作品影响很大，深受人们的喜爱。他的作品内涵深刻，耐人寻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丰子恺的散文，在我国新文学史上也有较大的影响。主要作品有《缘缘堂随笔》《缘缘堂再笔》《艺术趣味》《率真集》等。这些作品除一部分艺术评论外，大都是叙述他自己亲身经历的生活和日常接触的人事，表现浓厚的生活情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9480" y="5335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  <a:ea typeface="华文彩云"/>
              </a:rPr>
              <a:t>检查预习：</a:t>
            </a: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这些词你都会读了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752480"/>
            <a:ext cx="678168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3300"/>
                </a:solidFill>
                <a:uFillTx/>
                <a:latin typeface="Times New Roman"/>
              </a:rPr>
              <a:t>惬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意                     水门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Times New Roman"/>
              </a:rPr>
              <a:t>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口头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Times New Roman"/>
              </a:rPr>
              <a:t>禅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                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Times New Roman"/>
              </a:rPr>
              <a:t> </a:t>
            </a:r>
            <a:r>
              <a:rPr b="1" lang="zh-CN" sz="4400" spc="-1" strike="noStrike" u="sng">
                <a:solidFill>
                  <a:srgbClr val="003399"/>
                </a:solidFill>
                <a:uFillTx/>
                <a:latin typeface="Times New Roman"/>
              </a:rPr>
              <a:t>乱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Times New Roman"/>
              </a:rPr>
              <a:t>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立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Times New Roman"/>
              </a:rPr>
              <a:t>轴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                     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Times New Roman"/>
              </a:rPr>
              <a:t>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3300"/>
                </a:solidFill>
                <a:uFillTx/>
                <a:latin typeface="Times New Roman"/>
              </a:rPr>
              <a:t>参差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不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16002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qi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10280" y="137160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　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tī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2743200"/>
            <a:ext cx="17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chá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274320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i</a:t>
            </a: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38280" y="3733920"/>
            <a:ext cx="19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zhó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19920" y="373392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zhà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05320" y="4800600"/>
            <a:ext cx="19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cē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480060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c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480" y="609480"/>
            <a:ext cx="77724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初读课文，整体感知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用一句简洁的话概括课文内容及主旨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3048120"/>
            <a:ext cx="8229600" cy="29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可参照以下形式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  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本文以……（一件什么事）引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……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（对什么的思考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09480" y="838080"/>
            <a:ext cx="754380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再读课文，交流感受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2743200"/>
            <a:ext cx="6858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你觉得文中哪些描写最为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动、最富有童趣？找出来有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情的朗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838080" y="53352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研读片断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1700280"/>
            <a:ext cx="8076960" cy="25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仔细阅读第五、六小节，同桌讨论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0066ff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画竹时要怎样才能使画富有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Times New Roman"/>
                <a:hlinkClick r:id="rId2" action="ppaction://hlinksldjump"/>
              </a:rPr>
              <a:t>“画意”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0066ff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西洋画和中国画有何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Times New Roman"/>
                <a:hlinkClick r:id="rId3" action="ppaction://hlinksldjump"/>
              </a:rPr>
              <a:t>区别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？从文中找出一句话加以概括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5300640"/>
            <a:ext cx="746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隶书"/>
              </a:rPr>
              <a:t>“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隶书"/>
              </a:rPr>
              <a:t>西洋画像照相，中国画像符号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308720" y="6165720"/>
            <a:ext cx="863640" cy="3589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hlinkClick r:id="rId4" action="ppaction://hlinksldjump"/>
              </a:rPr>
              <a:t>小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0988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410080" y="0"/>
            <a:ext cx="373392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585600" y="838080"/>
            <a:ext cx="13993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宋  郑板桥  作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67080" y="6095880"/>
            <a:ext cx="762120" cy="4572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4392360" cy="4392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651640" y="0"/>
            <a:ext cx="30096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600200" y="228600"/>
            <a:ext cx="352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6600"/>
                </a:solidFill>
                <a:latin typeface="Arial"/>
                <a:ea typeface="华文彩云"/>
              </a:rPr>
              <a:t>风景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语文备课大师网</dc:creator>
  <dc:description/>
  <dc:language>en-US</dc:language>
  <cp:lastModifiedBy>微软用户</cp:lastModifiedBy>
  <dcterms:modified xsi:type="dcterms:W3CDTF">2014-04-03T05:29:25Z</dcterms:modified>
  <cp:revision>0</cp:revision>
  <dc:subject/>
  <dc:title>语文备课大师网</dc:title>
</cp:coreProperties>
</file>