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gif" ContentType="image/gif"/>
  <Override PartName="/ppt/media/image24.gif" ContentType="image/gif"/>
  <Override PartName="/ppt/media/image3.png" ContentType="image/png"/>
  <Override PartName="/ppt/media/image4.jpeg" ContentType="image/jpeg"/>
  <Override PartName="/ppt/media/image2.png" ContentType="image/pn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4.gif" ContentType="image/gif"/>
  <Override PartName="/ppt/media/image30.jpeg" ContentType="image/jpeg"/>
  <Override PartName="/ppt/media/image5.gif" ContentType="image/gif"/>
  <Override PartName="/ppt/media/image7.jpeg" ContentType="image/jpeg"/>
  <Override PartName="/ppt/media/image31.gif" ContentType="image/gif"/>
  <Override PartName="/ppt/media/type.wav" ContentType="audio/x-wav"/>
  <Override PartName="/ppt/media/image6.jpeg" ContentType="image/jpeg"/>
  <Override PartName="/ppt/media/chimes.wav" ContentType="audio/x-wav"/>
  <Override PartName="/ppt/media/image11.png" ContentType="image/png"/>
  <Override PartName="/ppt/media/image9.jpeg" ContentType="image/jpeg"/>
  <Override PartName="/ppt/media/image1.png" ContentType="image/png"/>
  <Override PartName="/ppt/media/image12.jpeg" ContentType="image/jpeg"/>
  <Override PartName="/ppt/media/image13.jpeg" ContentType="image/jpeg"/>
  <Override PartName="/ppt/media/image20.gif" ContentType="image/gif"/>
  <Override PartName="/ppt/media/image16.gif" ContentType="image/gif"/>
  <Override PartName="/ppt/media/image21.png" ContentType="image/png"/>
  <Override PartName="/ppt/media/image17.gif" ContentType="image/gif"/>
  <Override PartName="/ppt/media/image22.gif" ContentType="image/gif"/>
  <Override PartName="/ppt/media/image18.jpeg" ContentType="image/jpeg"/>
  <Override PartName="/ppt/media/image23.jpeg" ContentType="image/jpeg"/>
  <Override PartName="/ppt/media/image25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EE5-CA62-4BC4-A214-57F6D7AB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EC7-ACA0-408D-8030-64A785EE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5E9-6224-49CD-A52A-6821D593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854-28D4-44B5-804F-0BD93122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1F68-C048-434C-9C7E-7EFB8266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3B0A-61F4-4939-912B-D44D9BEF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A429-9FC6-4588-A99C-32ED38D7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03A5-EA3E-49F6-A596-A439E08B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5918-6364-44F2-923C-104A4126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66FB-841E-4725-9A0D-01DD8C1C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CA3B-CFFE-4C07-BD0E-D603557A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FDF-7E1F-4BC5-8A8C-7592F2CA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2CC3-339B-46D9-BD57-05EC96EB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A5CF-536D-48A8-93A1-31D2484B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14C3-CE8F-481A-AFC8-BEC00A94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304F-BF72-4F35-B4AE-7BD94AE2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3193-BEAA-449A-B8FA-F107E4A7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2DE-0D75-4E95-B3DD-CC59E0B2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85C-40A6-43D4-BE59-D3C072BC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17A-F1D6-4F4C-AC20-DD284C99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DDB-556D-4AB6-B518-6AB29D10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DC5-9403-45B3-874E-163D30BF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5A9-FDD9-4C54-AC2C-97E8AE10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D5B-450F-4A38-97D0-5B9946B3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5A56-5C2E-4741-9F2A-309C65BD6B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AC6A-FE42-46F6-8242-41F0B74F72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5.xml"/><Relationship Id="rId6" Type="http://schemas.openxmlformats.org/officeDocument/2006/relationships/slide" Target="slide10.xml"/><Relationship Id="rId7" Type="http://schemas.openxmlformats.org/officeDocument/2006/relationships/hyperlink" Target="file:///tmp/home/.config/libreoffice/4/user/gallery/&#21475;&#25216;.wav" TargetMode="External"/><Relationship Id="rId8" Type="http://schemas.openxmlformats.org/officeDocument/2006/relationships/slide" Target="slide10.xml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ing.wav" TargetMode="External"/><Relationship Id="rId2" Type="http://schemas.openxmlformats.org/officeDocument/2006/relationships/hyperlink" Target="file:///tmp/home/.config/libreoffice/4/user/gallery/Ring.wav" TargetMode="External"/><Relationship Id="rId3" Type="http://schemas.openxmlformats.org/officeDocument/2006/relationships/hyperlink" Target="file:///tmp/home/.config/libreoffice/4/user/gallery/Ring.wav" TargetMode="Externa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6934320" cy="5410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400800" y="5943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林嗣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76720" y="5181480"/>
            <a:ext cx="2514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7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口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828800" y="6248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990720" y="914400"/>
            <a:ext cx="11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题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990720" y="3124080"/>
            <a:ext cx="20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Verdana"/>
                <a:ea typeface="楷体_GB2312"/>
              </a:rPr>
              <a:t>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5" action="ppaction://hlinksldjump"/>
          </p:cNvPr>
          <p:cNvSpPr/>
          <p:nvPr/>
        </p:nvSpPr>
        <p:spPr>
          <a:xfrm>
            <a:off x="990720" y="2438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6" action="ppaction://hlinksldjump"/>
          </p:cNvPr>
          <p:cNvSpPr/>
          <p:nvPr/>
        </p:nvSpPr>
        <p:spPr>
          <a:xfrm>
            <a:off x="990720" y="16765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7"/>
          </p:cNvPr>
          <p:cNvSpPr/>
          <p:nvPr/>
        </p:nvSpPr>
        <p:spPr>
          <a:xfrm>
            <a:off x="990720" y="6019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99ccff"/>
                </a:solidFill>
                <a:uFillTx/>
                <a:latin typeface="楷体_GB2312"/>
                <a:ea typeface="楷体_GB2312"/>
              </a:rPr>
              <a:t>朗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8" action="ppaction://hlinksldjump"/>
          </p:cNvPr>
          <p:cNvSpPr/>
          <p:nvPr/>
        </p:nvSpPr>
        <p:spPr>
          <a:xfrm>
            <a:off x="990720" y="38862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研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572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拓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5029200"/>
            <a:ext cx="1295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99ccff"/>
                </a:solidFill>
                <a:uFillTx/>
                <a:latin typeface="楷体_GB2312"/>
                <a:ea typeface="楷体_GB2312"/>
              </a:rPr>
              <a:t>检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9900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095880" y="4229280"/>
            <a:ext cx="3048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8153280" y="610560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                  </a:t>
            </a:r>
            <a:r>
              <a:rPr b="0" lang="zh-CN" sz="60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836640"/>
          <a:ext cx="8001000" cy="5846760"/>
        </p:xfrm>
        <a:graphic>
          <a:graphicData uri="http://schemas.openxmlformats.org/drawingml/2006/table">
            <a:tbl>
              <a:tblPr/>
              <a:tblGrid>
                <a:gridCol w="1486080"/>
                <a:gridCol w="2476440"/>
                <a:gridCol w="1218960"/>
                <a:gridCol w="1143000"/>
                <a:gridCol w="1676520"/>
              </a:tblGrid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场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声音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声音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作者评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听众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梦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惊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由远及近由外到内由小到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由分而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由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又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由大而小由密而疏微闻余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火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救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忽然变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由少而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由多而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2209680" y="1981080"/>
            <a:ext cx="2362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华文仿宋"/>
                <a:ea typeface="华文仿宋"/>
              </a:rPr>
              <a:t>犬吠 欠伸 呓语    儿啼 妇呜 夫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华文仿宋"/>
                <a:ea typeface="华文仿宋"/>
              </a:rPr>
              <a:t>（一时齐发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3200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3276720"/>
            <a:ext cx="24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仿宋"/>
                <a:ea typeface="华文仿宋"/>
              </a:rPr>
              <a:t>齁声    妇拍儿渐止    鼠作作索索             倾盆器声 咳嗽    （以响衬静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46483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1828800"/>
            <a:ext cx="990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众妙必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495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981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文仿宋"/>
                <a:ea typeface="华文仿宋"/>
              </a:rPr>
              <a:t>伸颈  侧目微笑 默叹以为妙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3276720"/>
            <a:ext cx="1676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意少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稍稍正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10280" y="4724280"/>
            <a:ext cx="16765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变色离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奋袖出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两股战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几欲先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9680" y="4911840"/>
            <a:ext cx="243864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文仿宋"/>
                <a:ea typeface="华文仿宋"/>
              </a:rPr>
              <a:t>大呼  齐哭 百千人大呼 儿哭  犬吠 力拉崩倒声 火爆声         风声求救声 曳屋声抢夺声泼水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仿宋"/>
                <a:ea typeface="华文仿宋"/>
              </a:rPr>
              <a:t>（无所不有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4800600"/>
            <a:ext cx="11430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不能指其一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不能名其一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根据课文内容填写下列表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297180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86600" y="640080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14800" y="434340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484360" y="476280"/>
            <a:ext cx="3490920" cy="520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1486080"/>
            <a:ext cx="8424720" cy="4597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本文从三方面记叙口技表演的奇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8360" y="2060640"/>
            <a:ext cx="8431200" cy="4597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“一桌、一椅、一扇、一抚尺而已。” 这个句子，省略了哪些句子成分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2987640"/>
            <a:ext cx="8424720" cy="4597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作者连续用了四个“一”字，有什么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8360" y="3740040"/>
            <a:ext cx="8424720" cy="4597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作者几次描写听众的神态表情？有什么用意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4491000"/>
            <a:ext cx="8424720" cy="4597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首段和末段都提到“一桌、一椅、一扇、一抚尺”，这样写是否重复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5518080"/>
            <a:ext cx="8424720" cy="4597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这篇课文记叙了什么内容？通过口技表演，摹拟了哪些声响？你学了这篇课文以后，有什么体会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问题讨论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交代口技艺人的表演道具，可以有三种方案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在开头交代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在结尾交代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开头结尾都交代 ，你认为哪个第一好，哪个第二好，那个第三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4329000"/>
            <a:ext cx="62722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答：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3&gt;2&gt;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1240" y="-357120"/>
            <a:ext cx="83674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问题讨论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000080"/>
            <a:ext cx="860256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项选择题：从课文可以推知，观众不具备以下哪种素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明有礼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丰富的想象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情投入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较高的欣赏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1600" y="3400560"/>
            <a:ext cx="83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严正声明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此题命题有误，课文有确凿证据证明，观众具备以上素质。观众能如此配合，从中可看出口技艺人技艺高超。我们可从中得知，一般观众能充分享受艺术的魅力，也需提高自己的修养；还有一点要注意，要独立思考，而不应迷信权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问题讨论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第二段中的“夫”为何要“叱”大儿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1766880"/>
            <a:ext cx="777240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俗话说：“三岁儿，神仙童”，这一年龄的孩童精力充沛，机灵过人。所以被吵醒后，一时兴奋，趁机捣乱，影响父亲睡眠。（此答案仅供参考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总结经验：口技的巧妙不仅在于发出的声音多，更在于它能以声音表现情节甚至人物形象。阅读时可发挥想象，把声音形象化，以增添阅读的质量和乐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问题讨论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4.  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火起”一节，宾客为何要“奋”袖出臂，几欲先“走”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1766880"/>
            <a:ext cx="7772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奋”袖是因为袖口太大，不便于行动，“奋”后可“走得快，好世界”。“走”古意为“跑”。口技艺人的表演形象逼真，以假乱真，以至观众信以为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64968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907920"/>
            <a:ext cx="6705360" cy="2250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☆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关于口技：杂技的一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演员运用口腔发声技巧来模仿各种声音。它能同时发出各种音响，这种技艺，清代属“百戏”之一种，表演者多隐身在布幔或屏风的后边，俗称“隔壁戏”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现代口技表演，演员不必隐身，改为借助扩音器发出各种声响，      并且可以借助于动作、手势。</a:t>
            </a:r>
            <a:r>
              <a:rPr b="0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06668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066680" y="2057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06668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rcRect l="5887" t="0" r="47066" b="37343"/>
          <a:stretch/>
        </p:blipFill>
        <p:spPr>
          <a:xfrm>
            <a:off x="7039080" y="4267080"/>
            <a:ext cx="2104920" cy="2590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332000" y="333360"/>
            <a:ext cx="4464000" cy="4597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导入：成语故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鸡鸣狗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4343400" y="611496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28800" y="449568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1"/>
          </p:cNvPr>
          <p:cNvSpPr/>
          <p:nvPr/>
        </p:nvSpPr>
        <p:spPr>
          <a:xfrm>
            <a:off x="2700000" y="4495680"/>
            <a:ext cx="1643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2"/>
          </p:cNvPr>
          <p:cNvSpPr/>
          <p:nvPr/>
        </p:nvSpPr>
        <p:spPr>
          <a:xfrm>
            <a:off x="4879800" y="4335120"/>
            <a:ext cx="5461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大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3"/>
          </p:cNvPr>
          <p:cNvSpPr/>
          <p:nvPr/>
        </p:nvSpPr>
        <p:spPr>
          <a:xfrm>
            <a:off x="5869800" y="4335120"/>
            <a:ext cx="9118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密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疏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隶书"/>
              </a:rPr>
              <a:t>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514600" y="990720"/>
            <a:ext cx="0" cy="3962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3200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伸颈侧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微笑默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06160" y="2590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意少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39480" y="16002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色出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股战欲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3657600"/>
            <a:ext cx="1828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正面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ff"/>
                </a:solidFill>
                <a:latin typeface="Times New Roman"/>
                <a:ea typeface="幼圆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幼圆"/>
              </a:rPr>
              <a:t>口技表演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幼圆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声音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幼圆"/>
              </a:rPr>
              <a:t>的变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210960"/>
            <a:ext cx="1828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  <a:ea typeface="隶书"/>
              </a:rPr>
              <a:t>侧面描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宾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反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590920" y="4038480"/>
            <a:ext cx="1218960" cy="76320"/>
          </a:xfrm>
          <a:prstGeom prst="line">
            <a:avLst/>
          </a:prstGeom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3920" y="2863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cc"/>
                </a:solidFill>
                <a:latin typeface="Times New Roman"/>
                <a:ea typeface="华文行楷"/>
              </a:rPr>
              <a:t>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00600" y="2971800"/>
            <a:ext cx="1066680" cy="0"/>
          </a:xfrm>
          <a:prstGeom prst="line">
            <a:avLst/>
          </a:prstGeom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76920" y="2362320"/>
            <a:ext cx="56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cc"/>
                </a:solidFill>
                <a:latin typeface="Times New Roman"/>
                <a:ea typeface="华文行楷"/>
              </a:rPr>
              <a:t>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10280" y="1600200"/>
            <a:ext cx="1295640" cy="0"/>
          </a:xfrm>
          <a:prstGeom prst="line">
            <a:avLst/>
          </a:prstGeom>
          <a:ln w="7632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28120" y="1720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cc"/>
                </a:solidFill>
                <a:latin typeface="Times New Roman"/>
                <a:ea typeface="华文行楷"/>
              </a:rPr>
              <a:t>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46440" y="533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情节发展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886200" y="2971800"/>
            <a:ext cx="914400" cy="990720"/>
          </a:xfrm>
          <a:prstGeom prst="line">
            <a:avLst/>
          </a:prstGeom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867280" y="1600200"/>
            <a:ext cx="1143000" cy="1295280"/>
          </a:xfrm>
          <a:prstGeom prst="line">
            <a:avLst/>
          </a:prstGeom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318456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cc"/>
                </a:solidFill>
                <a:latin typeface="Times New Roman"/>
                <a:ea typeface="华文行楷"/>
              </a:rPr>
              <a:t>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15200" y="9748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cc"/>
                </a:solidFill>
                <a:latin typeface="Times New Roman"/>
                <a:ea typeface="华文行楷"/>
              </a:rPr>
              <a:t>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0676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首尾照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9092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铺垫衬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1480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渐入佳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2920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欲扬先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24480" y="2209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推向高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8153280" y="610560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457200" y="914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4572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正面描写与侧面描写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350532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例如：从未见过开得这样盛的藤萝，只见一片辉煌的淡紫色，像一条瀑布，从空中垂下，不见其发端，也不见其终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67652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正面描写：直接对表现对象进行描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57200" y="1066680"/>
            <a:ext cx="76960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侧面描写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通过描绘对象周围的人物、景物或者通过描绘对象所产生的影响和效果来表现对象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49528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例如：我不由得停住了脚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324480" y="533520"/>
            <a:ext cx="166068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762120" y="274320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请运用所学的有关知识，找出文中的正面描写与侧面描写，并说说其作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6477120" y="685800"/>
            <a:ext cx="1733400" cy="19810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 flipH="1" rot="10800000">
            <a:off x="304920" y="5844600"/>
            <a:ext cx="84582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286000" y="1676520"/>
            <a:ext cx="4572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梦中惊醒，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渐入梦乡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火起群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38088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正面描写：艺人表演的三个场面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4952880"/>
            <a:ext cx="830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作用：直接地表现艺人的高超技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0" y="5791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作用：反衬口技表演者技艺高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侧面描写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762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0093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d60093"/>
                </a:solidFill>
                <a:latin typeface="Times New Roman"/>
              </a:rPr>
              <a:t>开头结尾部分对表演道具的交待</a:t>
            </a: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2514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d60093"/>
                </a:solidFill>
                <a:latin typeface="Times New Roman"/>
              </a:rPr>
              <a:t>表演过程中观众神情举止的反应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16765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一桌、一椅、一扇、一抚尺而已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352680"/>
            <a:ext cx="94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伸颈，侧目，微笑，默叹；意少舒，稍稍正坐；变色离席，奋袖出臂，两股战战，几欲先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127160" y="1687680"/>
            <a:ext cx="6492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676520"/>
            <a:ext cx="84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古代四大美女素有“沉鱼落雁，   羞花闭月”之貌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5734080" y="3657600"/>
            <a:ext cx="1714320" cy="22860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0" y="609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知识拓展：</a:t>
            </a: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体会下面的侧面描写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914400" y="541440"/>
            <a:ext cx="792468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日出东南隅，照我秦氏楼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秦氏有好女，自名为罗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罗敷喜蚕桑，采桑城南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青丝为笼系，桂枝为笼钩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头上倭堕髻，耳中明月珠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缃绮为下裙，紫绮为上襦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陌上桑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914400" y="304920"/>
            <a:ext cx="7696080" cy="86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行者见罗敷，下担捋髭须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少年见罗敷，脱帽着绡头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耕者忘其犁，锄者忘其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来归相怒怨，但坐看罗敷。 【年代】：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【作者】：汉无名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【内容】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057400" y="51814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3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38088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写法的迁移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52480" y="129528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运用侧面描写的手法写一句话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57400" y="304812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天气之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4191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2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风之大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5410080" y="3048120"/>
            <a:ext cx="19177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617560" y="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下列加点字注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6720" y="1600200"/>
            <a:ext cx="6105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20520" y="1600200"/>
            <a:ext cx="121104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hō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83360" y="2514600"/>
            <a:ext cx="7812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1360" y="2514600"/>
            <a:ext cx="11865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75720" y="3505320"/>
            <a:ext cx="9396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74680" y="3429000"/>
            <a:ext cx="14472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ā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98800" y="4343400"/>
            <a:ext cx="113004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à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31960" y="4343400"/>
            <a:ext cx="4701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j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4920" y="1447920"/>
            <a:ext cx="8534160" cy="3809880"/>
            <a:chOff x="304920" y="1447920"/>
            <a:chExt cx="8534160" cy="3809880"/>
          </a:xfrm>
        </p:grpSpPr>
        <p:sp>
          <p:nvSpPr>
            <p:cNvPr id="159" name=""/>
            <p:cNvSpPr/>
            <p:nvPr/>
          </p:nvSpPr>
          <p:spPr>
            <a:xfrm>
              <a:off x="304920" y="1447920"/>
              <a:ext cx="8534160" cy="3748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呓语（    ） 齁（   ）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曳（   ）    哗（    ）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叱（   ）</a:t>
              </a:r>
              <a:r>
                <a:rPr b="0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0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意少舒（    ）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中间（   ） 几欲先走（  ）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685800" y="3276000"/>
              <a:ext cx="76320" cy="759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685800" y="2438280"/>
              <a:ext cx="76320" cy="763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609480" y="4190400"/>
              <a:ext cx="76320" cy="759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1218600" y="5104800"/>
              <a:ext cx="75960" cy="759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4647600" y="2438280"/>
              <a:ext cx="75960" cy="763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4647600" y="3352680"/>
              <a:ext cx="75960" cy="763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5257800" y="4267080"/>
              <a:ext cx="76320" cy="763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4343400" y="5181480"/>
              <a:ext cx="76320" cy="763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066680" y="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．课文第一句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京中有善口技者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在全文起何作用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396252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不是简单重复，既有呼应作用，更主要的区别在于：开头以交代道具为主，为下文作铺垫，结尾再次强调道具的简单，称赞了表演者的高超技艺，让人对这场表演还回味无穷，对表演者的敬意油然而生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28954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．开头和结尾都写到了表演道具是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一桌、一椅、一扇、一抚尺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，是不是简单的重复？为什么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14479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这一句交代口技表演者名气大、技艺高。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字统领全篇，全文的内容情节都是围绕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来展开的。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90720" y="0"/>
            <a:ext cx="784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．课文直接描摹表演的内容和过程，这是从正面表现口技者的技艺精湛。另外还有侧面的描写，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一一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指出，并谈谈侧面描写有什么作用？</a:t>
            </a:r>
            <a:r>
              <a:rPr b="1" lang="zh-CN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2666880"/>
            <a:ext cx="77724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侧面描写包括两个方面：一是在几个场面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演中观众的不同神情举止的变化，二是在首尾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中对道具和场地气氛的描写。侧面描写从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角度衬托出表演者的高超技艺，使文章表现手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富于变化，增强了感染力，显得真实可信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914400" y="60948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。思考：课文第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段的描写可否省略？这一段有何作用？</a:t>
            </a:r>
            <a:r>
              <a:rPr b="0" lang="zh-CN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43000" y="1828800"/>
            <a:ext cx="7010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能省去。这段写一家四口人渐渐由醒而睡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用鼠声衬托这种宁静，既充满了生活的气息，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情节上突兀变化，由起先的喧闹陡然落为平静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也为下一个情节积势蓄力，暗示必将有更猛烈的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出现。这样处理，使课文情节显得起伏跌宕，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曲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819144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900000" y="1700280"/>
            <a:ext cx="7344000" cy="2288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 课文里表示时间的词语，既表明事件的时间关系，也具有衔接前后事件的作用，请把这些时间性的词语（少顷、既而、是时、一时、未几、忽、俄而、忽然）按照下边的分类填在横线上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突然发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几件事同时发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两事相继发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在特定的某个时间之内发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过了很短时间就发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659640" y="549360"/>
            <a:ext cx="990360" cy="9046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364000" y="549360"/>
            <a:ext cx="990720" cy="9046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067280" y="549360"/>
            <a:ext cx="99036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042920" y="765000"/>
            <a:ext cx="7201080" cy="33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 、下边列出课文里的三个短语，每个短语又附有三个短语。分别指出所附三个短语里加黑的词，哪个跟课文短语里同一个词的用法相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众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业典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精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丑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宾客意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舒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心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舒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动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舒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舒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筋活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一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莫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状 至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四 、你听过口技表演吗？如“火车进站”“军营的早晨”“欢度国庆”“虫鸟鸣叫”，或者别的什么，如记忆犹新，不妨作一番描述，有可能的话，在班上摹拟一下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firstslide"/>
            <a:hlinkClick r:id="rId1"/>
          </p:cNvPr>
          <p:cNvSpPr/>
          <p:nvPr/>
        </p:nvSpPr>
        <p:spPr>
          <a:xfrm>
            <a:off x="7543800" y="6248520"/>
            <a:ext cx="1066680" cy="380880"/>
          </a:xfrm>
          <a:prstGeom prst="leftArrow">
            <a:avLst>
              <a:gd name="adj1" fmla="val 50000"/>
              <a:gd name="adj2" fmla="val 70014"/>
            </a:avLst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8191440" y="5791320"/>
            <a:ext cx="9525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609480" y="1143000"/>
            <a:ext cx="367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重点词语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378936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这个时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26370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2006640"/>
            <a:ext cx="6012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ff"/>
                </a:solidFill>
                <a:uFillTx/>
                <a:latin typeface="Times New Roman"/>
              </a:rPr>
              <a:t>但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闻屏障中抚尺一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当</a:t>
            </a:r>
            <a:r>
              <a:rPr b="0" lang="zh-CN" sz="4800" spc="-1" strike="noStrike" u="sng">
                <a:solidFill>
                  <a:srgbClr val="0000ff"/>
                </a:solidFill>
                <a:uFillTx/>
                <a:latin typeface="Times New Roman"/>
              </a:rPr>
              <a:t>是时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cc"/>
                </a:solidFill>
                <a:latin typeface="Times New Roman"/>
              </a:rPr>
              <a:t>不能</a:t>
            </a:r>
            <a:r>
              <a:rPr b="0" lang="zh-CN" sz="4800" spc="-1" strike="noStrike" u="sng">
                <a:solidFill>
                  <a:srgbClr val="3366cc"/>
                </a:solidFill>
                <a:uFillTx/>
                <a:latin typeface="Times New Roman"/>
              </a:rPr>
              <a:t>名</a:t>
            </a:r>
            <a:r>
              <a:rPr b="0" lang="zh-CN" sz="4800" spc="-1" strike="noStrike">
                <a:solidFill>
                  <a:srgbClr val="3366cc"/>
                </a:solidFill>
                <a:latin typeface="Times New Roman"/>
              </a:rPr>
              <a:t>其一处也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cc"/>
                </a:solidFill>
                <a:latin typeface="Times New Roman"/>
              </a:rPr>
              <a:t>中</a:t>
            </a:r>
            <a:r>
              <a:rPr b="0" lang="zh-CN" sz="4800" spc="-1" strike="noStrike" u="sng">
                <a:solidFill>
                  <a:srgbClr val="3366cc"/>
                </a:solidFill>
                <a:uFillTx/>
                <a:latin typeface="Times New Roman"/>
              </a:rPr>
              <a:t>间</a:t>
            </a:r>
            <a:r>
              <a:rPr b="0" lang="zh-CN" sz="4800" spc="-1" strike="noStrike">
                <a:solidFill>
                  <a:srgbClr val="3366cc"/>
                </a:solidFill>
                <a:latin typeface="Times New Roman"/>
              </a:rPr>
              <a:t>力拉崩倒之声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复习检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1320" y="5562720"/>
            <a:ext cx="2133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651640" y="603396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0093"/>
                </a:solidFill>
                <a:latin typeface="Times New Roman"/>
              </a:rPr>
              <a:t>夹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4653000"/>
            <a:ext cx="25207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说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914400" y="1600200"/>
            <a:ext cx="54100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宾客意</a:t>
            </a: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少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舒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不能</a:t>
            </a: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名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其一处也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几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欲先走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中</a:t>
            </a: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间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力拉崩倒之声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48520" y="48769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夹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6200" y="38098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62720" y="266688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动词，说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724280" y="160020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稍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457200" y="3049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一词多义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29200" y="114300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副词，极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57800" y="35053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名词，手指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40384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1219320"/>
            <a:ext cx="3048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以为妙</a:t>
            </a: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群响毕</a:t>
            </a: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86400" y="48769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动词，指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18288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57800" y="21337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动词，消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3581280"/>
            <a:ext cx="46483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手有百</a:t>
            </a: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不能</a:t>
            </a: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指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其一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04920" y="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古今异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9907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cc"/>
                </a:solidFill>
                <a:latin typeface="Times New Roman"/>
              </a:rPr>
              <a:t>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97180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cc"/>
                </a:solidFill>
                <a:latin typeface="Times New Roman"/>
              </a:rPr>
              <a:t>即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342900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914400"/>
            <a:ext cx="1295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05320" y="38862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cc"/>
                </a:solidFill>
                <a:latin typeface="Times New Roman"/>
              </a:rPr>
              <a:t>虽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1371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52680" y="19810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cc"/>
                </a:solidFill>
                <a:latin typeface="Times New Roman"/>
              </a:rPr>
              <a:t>用鼻子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76520" y="2971800"/>
            <a:ext cx="12189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4864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</a:rPr>
              <a:t>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00200" y="4935600"/>
            <a:ext cx="12193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429000" y="49528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cc"/>
                </a:solidFill>
                <a:latin typeface="Times New Roman"/>
              </a:rPr>
              <a:t>大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29000" y="603396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cc"/>
                </a:solidFill>
                <a:latin typeface="Times New Roman"/>
              </a:rPr>
              <a:t>屁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6172200" y="1905120"/>
            <a:ext cx="22860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601080" y="3808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下列加点字注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986200" y="1600200"/>
            <a:ext cx="6105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01960" y="1600200"/>
            <a:ext cx="121104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hō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35840" y="2209680"/>
            <a:ext cx="7812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386480" y="2438280"/>
            <a:ext cx="11865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09080" y="3200400"/>
            <a:ext cx="9396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51640" y="4038480"/>
            <a:ext cx="113004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à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41040" y="4952880"/>
            <a:ext cx="4701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j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066680" y="1371600"/>
            <a:ext cx="8534160" cy="4358520"/>
            <a:chOff x="1066680" y="1371600"/>
            <a:chExt cx="8534160" cy="4358520"/>
          </a:xfrm>
        </p:grpSpPr>
        <p:sp>
          <p:nvSpPr>
            <p:cNvPr id="423" name=""/>
            <p:cNvSpPr/>
            <p:nvPr/>
          </p:nvSpPr>
          <p:spPr>
            <a:xfrm>
              <a:off x="1066680" y="1371600"/>
              <a:ext cx="8534160" cy="43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呓</a:t>
              </a:r>
              <a:r>
                <a:rPr b="0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语（    ） 夫</a:t>
              </a:r>
              <a:r>
                <a:rPr b="0" lang="zh-CN" sz="4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齁</a:t>
              </a:r>
              <a:r>
                <a:rPr b="0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声起（   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曳</a:t>
              </a:r>
              <a:r>
                <a:rPr b="0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屋声（   ）无敢</a:t>
              </a:r>
              <a:r>
                <a:rPr b="0" lang="zh-CN" sz="4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哗</a:t>
              </a:r>
              <a:r>
                <a:rPr b="0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者（   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叱</a:t>
              </a:r>
              <a:r>
                <a:rPr b="0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大儿声（   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中</a:t>
              </a:r>
              <a:r>
                <a:rPr b="0" lang="zh-CN" sz="4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间</a:t>
              </a:r>
              <a:r>
                <a:rPr b="0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力拉（   ）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0" lang="zh-CN" sz="4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几</a:t>
              </a:r>
              <a:r>
                <a:rPr b="0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欲先走（  ）</a:t>
              </a:r>
              <a:r>
                <a:rPr b="0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1447560" y="31996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1447560" y="23619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1371240" y="41140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1980360" y="50284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409360" y="23619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5409360" y="32763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6019560" y="4190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5105160" y="51051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380880"/>
            <a:ext cx="6019920" cy="626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善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会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厅事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北角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但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闻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乳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70200" y="533520"/>
            <a:ext cx="515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擅长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70200" y="1600200"/>
            <a:ext cx="515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集合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64880" y="2666880"/>
            <a:ext cx="515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59920" y="3581280"/>
            <a:ext cx="515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98800" y="4724280"/>
            <a:ext cx="515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喂奶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45720" y="5715000"/>
            <a:ext cx="515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609480" y="380880"/>
            <a:ext cx="381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重点词语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11280" y="1125360"/>
            <a:ext cx="60958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但闻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屏障中抚尺一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是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力拉崩倒之声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宾客意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少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舒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两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战战几欲先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56360" y="105264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只 听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32000" y="198900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这个时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185880" y="2924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夹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51280" y="393372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稍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435640" y="47242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43640" y="47242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990720" y="4800600"/>
            <a:ext cx="545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不能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名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其一处也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67280" y="4876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说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38080" y="2743200"/>
            <a:ext cx="3589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妇抚儿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乳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妇拍而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呜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38080" y="1447920"/>
            <a:ext cx="42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3366cc"/>
                </a:solidFill>
                <a:uFillTx/>
                <a:latin typeface="Times New Roman"/>
              </a:rPr>
              <a:t>会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宾客大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宴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60020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正赶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00800" y="16002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举行宴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657600" y="27432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喂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38480" y="37339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发出呜呜的声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29528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选择下列各句翻译正确的一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66680" y="15238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意少舒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95680" y="14479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2590920"/>
            <a:ext cx="6400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的意见很少舒心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的情绪稍微放松了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的心情很少舒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的心情渐渐舒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174960 w 609480"/>
              <a:gd name="textAreaRight" fmla="*/ 522000 w 60948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83808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是宾客无不变色离席，奋袖出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66680" y="1219320"/>
            <a:ext cx="784872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客人们没有一个不吓得变了脸色，离开座位，卷起袖子，露出手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客人们没有一个不吓得变了脸色，离开座位，振奋得伸出了手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种情况下，客人们没有一个不吓得变了脸色，离开座位，卷起袖子，露出手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种情况下，客人们没有一个不吓得变了脸色，振奋得伸出了手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43800" y="3049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457200" y="4572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释下列各组红色词语的含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1523880"/>
            <a:ext cx="9144000" cy="43599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⒈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妇抚儿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乳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(    )  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儿含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乳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啼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(    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⒉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众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妙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毕备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(    )  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以为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妙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绝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(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⒊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以为妙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绝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(    )  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群响毕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绝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(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⒋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手有百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(    )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其一端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(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⒌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满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坐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寂然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(    )  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众宾团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坐</a:t>
            </a:r>
            <a:r>
              <a:rPr b="1" lang="zh-CN" sz="40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(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19520" y="175248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喂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12188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乳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2590920"/>
            <a:ext cx="13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妙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98200" y="2590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美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8120" y="3429000"/>
            <a:ext cx="914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198200" y="342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消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819520" y="4267080"/>
            <a:ext cx="1447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手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98200" y="4267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43200" y="5257800"/>
            <a:ext cx="1905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“座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98200" y="5181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坐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990720" y="2286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选择下列各句翻译正确的一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38080" y="1295280"/>
            <a:ext cx="83059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意少舒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的意见很少舒心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的情绪稍微放松了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的心情很少舒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客的心情渐渐舒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67080" y="11430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于是宾客无不变色离席，奋袖出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1143000"/>
            <a:ext cx="9144000" cy="280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客人们没有一个不吓得变了脸色，离开座位，卷起袖子，露出手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客人们没有一个不吓得变了脸色，离开座位，振奋得伸出了手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种情况下，客人们没有一个不吓得变了脸色，离开座位，卷起袖子，露出手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种情况下，客人们没有一个不吓得变了脸色，振奋得伸出了手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8153280" y="610560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457200"/>
            <a:ext cx="3886200" cy="5978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众妙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毕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备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妙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少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舒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虽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一处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欲先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走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533520"/>
            <a:ext cx="2514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全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1447920"/>
            <a:ext cx="2971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极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2286000"/>
            <a:ext cx="26668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稍微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3124080"/>
            <a:ext cx="26668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夹杂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3962520"/>
            <a:ext cx="3124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即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4876920"/>
            <a:ext cx="4343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出，动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5715000"/>
            <a:ext cx="46479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乎，差点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43800" y="5715000"/>
            <a:ext cx="16002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0920" y="404640"/>
            <a:ext cx="8713800" cy="2104920"/>
          </a:xfrm>
          <a:prstGeom prst="rect">
            <a:avLst/>
          </a:prstGeom>
          <a:solidFill>
            <a:srgbClr val="ffffff">
              <a:alpha val="46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京中有善口技者。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会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宾客大宴，于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厅事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之东北角，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施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八尺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屏障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口技人坐屏障中，一桌、一椅、一扇、一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抚尺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而已。众宾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团坐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少顷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但闻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屏障中抚尺一下，满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坐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寂然，无敢哗者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遥闻深巷中犬吠，便有妇人惊觉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欠伸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其夫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呓语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既而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儿醒，大啼。夫亦醒。妇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抚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儿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乳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儿含乳啼，妇拍而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呜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之。又一大儿醒，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絮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不止。当是时，妇手拍儿声，口中呜声，儿含乳啼声，大儿初醒声，夫叱大儿声，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一时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齐发，众妙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毕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备。满坐宾客无不伸颈，侧目，微笑，默叹，以为妙绝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未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夫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齁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声起，妇拍儿亦渐拍渐止。微闻有鼠作作索索，盆器倾侧，妇梦中咳嗽。兵客意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少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舒，稍稍正坐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忽一人大呼“火起”，夫起大呼，妇亦起大呼。两儿齐哭。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俄而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百千人大呼，百千儿哭，百千犬吠。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中间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力拉崩倒之声。火爆声，呼呼风声，百千齐作；又夹百千求救声，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曳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屋许许声，抢夺声，泼水声。凡所应有，无所不有。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虽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人有百手，手有百指，不能指其一端；人有百口，口有百舌，不能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名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其一处也。于是宾客无不变色离席，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奋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袖出臂，两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股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战战，</a:t>
            </a: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欲先走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忽然抚尺一下，群响毕绝。撤屏视之，一人、一桌、一椅、一扇、一抚尺而已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153280" y="610560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括各段大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990720"/>
            <a:ext cx="3200400" cy="5456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段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段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段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段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段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71120" y="99072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介绍口技表演前的情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14600" y="1752480"/>
            <a:ext cx="6248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介绍表演一家人深夜惊醒的情况及宾客默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8880" y="3048120"/>
            <a:ext cx="658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介绍表演这家人从醒到又睡的情况及宾客情绪的变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08120" y="4343400"/>
            <a:ext cx="6635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介绍表演失火、救火的经过和宾客惊慌欲跑的神态动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5791320"/>
            <a:ext cx="71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介绍口技表演结束后的情形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14400" y="4572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课文结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327672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cc"/>
                </a:solidFill>
                <a:latin typeface="Times New Roman"/>
                <a:ea typeface="华文楷体"/>
              </a:rPr>
              <a:t>要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18432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cc"/>
                </a:solidFill>
                <a:latin typeface="Times New Roman"/>
                <a:ea typeface="华文楷体"/>
              </a:rPr>
              <a:t>首尾呼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4267080"/>
            <a:ext cx="358128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cc"/>
                </a:solidFill>
                <a:latin typeface="Times New Roman"/>
                <a:ea typeface="华文楷体"/>
              </a:rPr>
              <a:t>二个场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Times New Roman"/>
                <a:ea typeface="华文楷体"/>
              </a:rPr>
              <a:t>（三个情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4267080"/>
            <a:ext cx="228600" cy="1905120"/>
          </a:xfrm>
          <a:custGeom>
            <a:avLst/>
            <a:gdLst>
              <a:gd name="textAreaLeft" fmla="*/ 66960 w 228600"/>
              <a:gd name="textAreaRight" fmla="*/ 228960 w 228600"/>
              <a:gd name="textAreaTop" fmla="*/ 79200 h 1905120"/>
              <a:gd name="textAreaBottom" fmla="*/ 18259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705120"/>
            <a:ext cx="2666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（</a:t>
            </a:r>
            <a:r>
              <a:rPr b="1" i="1" lang="zh-CN" sz="3200" spc="-1" strike="noStrike">
                <a:solidFill>
                  <a:srgbClr val="003366"/>
                </a:solidFill>
                <a:latin typeface="Times New Roman"/>
                <a:ea typeface="隶书"/>
              </a:rPr>
              <a:t>一家人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梦中惊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由醒又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失火救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362320"/>
            <a:ext cx="228600" cy="2819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1905120"/>
            <a:ext cx="335304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桌一椅一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抚尺而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90720" y="0"/>
            <a:ext cx="2361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演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362320"/>
            <a:ext cx="7621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6216480"/>
            <a:ext cx="2895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演后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0"/>
            <a:ext cx="2667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道具简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76920" y="3808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0"/>
            <a:ext cx="2438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技艺高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685800"/>
            <a:ext cx="1209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609480"/>
            <a:ext cx="1203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宾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1828800"/>
            <a:ext cx="304560" cy="3276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7"/>
                </a:lnTo>
                <a:cubicBezTo>
                  <a:pt x="10800" y="9907"/>
                  <a:pt x="5400" y="10807"/>
                  <a:pt x="0" y="10807"/>
                </a:cubicBezTo>
                <a:cubicBezTo>
                  <a:pt x="5400" y="10807"/>
                  <a:pt x="10800" y="11707"/>
                  <a:pt x="10800" y="1260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447920"/>
            <a:ext cx="1105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深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惊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98720" y="1600200"/>
            <a:ext cx="1826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伸颈侧目微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默叹以为妙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3124080"/>
            <a:ext cx="13716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醒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复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66680" y="2971800"/>
            <a:ext cx="127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意少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稍稍正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4648320"/>
            <a:ext cx="1524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失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救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95280" y="4038480"/>
            <a:ext cx="1278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变色离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奋袖出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两股战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几欲先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685800"/>
            <a:ext cx="292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正面描写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16480" y="685800"/>
            <a:ext cx="2927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侧面烘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62320" y="6216480"/>
            <a:ext cx="2666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楷体_GB2312"/>
                <a:ea typeface="楷体_GB2312"/>
              </a:rPr>
              <a:t>道具简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65530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43600" y="6156360"/>
            <a:ext cx="2819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技艺高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91120" y="5867280"/>
            <a:ext cx="2057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强调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1143000"/>
            <a:ext cx="144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遥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1143000"/>
            <a:ext cx="289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远→近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1600200"/>
            <a:ext cx="144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便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1600200"/>
            <a:ext cx="289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外→内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09680" y="2133720"/>
            <a:ext cx="144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既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2133720"/>
            <a:ext cx="289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小→大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2590920"/>
            <a:ext cx="2057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是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2590920"/>
            <a:ext cx="289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少→多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3048120"/>
            <a:ext cx="13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未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3352680"/>
            <a:ext cx="289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大→小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3657600"/>
            <a:ext cx="13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微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7400" y="4114800"/>
            <a:ext cx="13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4114800"/>
            <a:ext cx="2895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小→大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57400" y="4572000"/>
            <a:ext cx="13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俄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71800" y="4572000"/>
            <a:ext cx="3200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一呼百应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57400" y="5029200"/>
            <a:ext cx="13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5257800"/>
            <a:ext cx="3200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百千齐作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57400" y="5486400"/>
            <a:ext cx="13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137160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32004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419720"/>
            <a:ext cx="152640" cy="144756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0800000">
            <a:off x="5562360" y="144756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5943240" y="434340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21586200">
            <a:off x="5790960" y="30477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57200"/>
            <a:ext cx="914400" cy="76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53280" y="3124080"/>
            <a:ext cx="762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首尾呼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839080" y="457200"/>
            <a:ext cx="0" cy="57913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>1</dc:description>
  <cp:keywords>1</cp:keywords>
  <dc:language>en-US</dc:language>
  <cp:lastModifiedBy>zxxk</cp:lastModifiedBy>
  <dcterms:modified xsi:type="dcterms:W3CDTF">2015-01-12T21:48:14Z</dcterms:modified>
  <cp:revision>1</cp:revision>
  <dc:subject>1</dc:subject>
  <dc:title>1</dc:title>
</cp:coreProperties>
</file>