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19.jpeg" ContentType="image/jpeg"/>
  <Override PartName="/ppt/media/image17.jpeg" ContentType="image/jpeg"/>
  <Override PartName="/ppt/media/click.wav" ContentType="audio/x-wav"/>
  <Override PartName="/ppt/media/image15.jpeg" ContentType="image/jpeg"/>
  <Override PartName="/ppt/media/image14.png" ContentType="image/png"/>
  <Override PartName="/ppt/media/image13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7.jpeg" ContentType="image/jpeg"/>
  <Override PartName="/ppt/media/image28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0.gif" ContentType="image/gif"/>
  <Override PartName="/ppt/media/image12.jpeg" ContentType="image/jpeg"/>
  <Override PartName="/ppt/media/image33.jpeg" ContentType="image/jpeg"/>
  <Override PartName="/ppt/media/image34.gif" ContentType="image/gif"/>
  <Override PartName="/ppt/media/image37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arrow.wav" ContentType="audio/x-wav"/>
  <Override PartName="/ppt/media/image9.jpeg" ContentType="image/jpeg"/>
  <Override PartName="/ppt/media/image1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8.jpeg" ContentType="image/jpeg"/>
  <Override PartName="/ppt/media/image7.jpeg" ContentType="image/jpeg"/>
  <Override PartName="/ppt/media/image16.png" ContentType="image/png"/>
  <Override PartName="/ppt/media/image6.jpeg" ContentType="image/jpeg"/>
  <Override PartName="/ppt/media/type.wav" ContentType="audio/x-wav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D891-9A14-4BFC-978F-BF7CBEB9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596A-8529-4802-B7C0-FD289A37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EE95-FE05-45DA-AE93-E9B9B20C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3C1E-C4A6-4591-8DE2-465C99C7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A787-F26E-41C4-B19D-31A45A43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3CAD-A1D2-4FAD-ADB5-C867C33C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075B-4FF2-4F06-B2E0-BC3CA02D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01D-4CBE-4A51-8816-58991AAD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97AD-4703-431A-8590-FBC6B123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E1F0-8D2A-4B53-8142-EFF63E2F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D696-4EEE-44F7-9619-D4F0227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453F-F505-4D80-949C-2C6C7C7E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A4F6-0352-4A4D-913C-8AF8734D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6427-6ECD-4D67-B598-D977FFC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313C-21B8-4C03-8BBC-19C1F46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28A-8E95-43BE-9F86-DF830D56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7EFA-978A-4F48-A3BD-CF07F6DE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9CB1-BB23-488B-8AF4-026360D0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2EBC-2D65-4B0C-9A86-27759715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5169-CC5D-4F6D-B4B0-E0DF0E5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3AA8-DA8F-41FB-9953-5295F895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2362-6B7E-46BE-9FC6-CD7576F6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F53A-AF11-49F7-A99F-80224C8E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426F-A9A8-4269-ABFE-B7718FBB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5672-56F1-4DBE-910C-5A1CD3B8827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672D-3659-45BD-A265-21A893EF03AE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0.xml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10.gif"/><Relationship Id="rId6" Type="http://schemas.openxmlformats.org/officeDocument/2006/relationships/audio" Target="../media/arrow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57360" y="4653000"/>
            <a:ext cx="1033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李森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6036" r="38380" b="12239"/>
          <a:stretch/>
        </p:blipFill>
        <p:spPr>
          <a:xfrm>
            <a:off x="262728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981000"/>
            <a:ext cx="20174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创艺简魏碑"/>
              </a:rPr>
              <a:t>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创艺简魏碑"/>
              <a:ea typeface="创艺简魏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创艺简魏碑"/>
              </a:rPr>
              <a:t>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创艺简魏碑"/>
              <a:ea typeface="创艺简魏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404640"/>
            <a:ext cx="4752720" cy="13129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父亲干了一辈子，劳动就是生命，在他的精神世界中，劳动是创造，劳动有收获，劳动体现了自己的价值，一旦不能干活，就失去一切，所以感觉若有所失。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284720" y="3645000"/>
            <a:ext cx="42861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148428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懂人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50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认为父亲是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？因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4878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835280" y="25653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敢想敢做、坚韧不拔、吃苦耐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4000" y="4076640"/>
            <a:ext cx="24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S Outlook"/>
                <a:ea typeface="MS Outlook"/>
              </a:rPr>
              <a:t>朴实厚道、和善谦卑、倔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5280" y="692280"/>
            <a:ext cx="67690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任凭把脊背压弯——《台阶》上的父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80360" y="1197000"/>
            <a:ext cx="2160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29163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538080" y="168120"/>
            <a:ext cx="159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f5611"/>
                </a:solidFill>
                <a:latin typeface="Times New Roman"/>
                <a:ea typeface="华文行楷"/>
              </a:rPr>
              <a:t>父亲是一个怎样的人</a:t>
            </a:r>
            <a:r>
              <a:rPr b="0" lang="zh-CN" sz="6600" spc="-1" strike="noStrike">
                <a:solidFill>
                  <a:srgbClr val="ef5611"/>
                </a:solidFill>
                <a:latin typeface="Times New Roman"/>
                <a:ea typeface="华文行楷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2193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亲是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非常要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农民，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有志气，不甘人后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要自立于受人尊重的行列，他有长远的生活目标，他有愚公移山的精神和坚忍不拔的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亲又是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老实厚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农民，他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诚实劳动兴家立业，不怕千辛万苦，同时，父亲身上有着中国传统农民所特有的谦卑，当新台阶造好后，他反而处处感到不对劲、不自在，并且不好意思坐上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请以“台阶是父亲的－－”来谈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理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心灵沉重负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催老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自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阶是父亲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7684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660033"/>
                </a:solidFill>
                <a:latin typeface="Arial"/>
                <a:ea typeface="华文行楷"/>
              </a:rPr>
              <a:t>请以“为了台阶，父亲付出了－－”为话题说一句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8040" y="2629080"/>
            <a:ext cx="7691400" cy="29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华文中宋"/>
              </a:rPr>
              <a:t>为了台阶，父亲付出了岁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华文中宋"/>
              </a:rPr>
              <a:t>为了台阶，父亲付出了青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华文中宋"/>
              </a:rPr>
              <a:t>为了台阶，父亲付出了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96000" y="5805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老体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28954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8208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840" y="533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懂作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209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在父亲身上倾注了怎样的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2744" t="0" r="0" b="15746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者对父亲寄予了怎样的思想情感？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280" y="2565000"/>
            <a:ext cx="7931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作者对父亲的优秀品质表示</a:t>
            </a:r>
            <a:r>
              <a:rPr b="1" lang="zh-CN" sz="5000" spc="-1" strike="noStrike">
                <a:solidFill>
                  <a:srgbClr val="0000ff"/>
                </a:solidFill>
                <a:latin typeface="Arial"/>
              </a:rPr>
              <a:t>敬仰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5000" spc="-1" strike="noStrike">
                <a:solidFill>
                  <a:srgbClr val="0000ff"/>
                </a:solidFill>
                <a:latin typeface="Arial"/>
              </a:rPr>
              <a:t>赞叹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；对父亲身上的中国传统农民所特有的谦卑表示</a:t>
            </a:r>
            <a:r>
              <a:rPr b="1" lang="zh-CN" sz="4500" spc="-1" strike="noStrike">
                <a:solidFill>
                  <a:srgbClr val="0000ff"/>
                </a:solidFill>
                <a:latin typeface="Arial"/>
              </a:rPr>
              <a:t>同情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；对改变农村的面貌寄予</a:t>
            </a:r>
            <a:r>
              <a:rPr b="1" lang="zh-CN" sz="4500" spc="-1" strike="noStrike">
                <a:solidFill>
                  <a:srgbClr val="0000ff"/>
                </a:solidFill>
                <a:latin typeface="Arial"/>
              </a:rPr>
              <a:t>希望</a:t>
            </a:r>
            <a:r>
              <a:rPr b="1" lang="zh-CN" sz="4500" spc="-1" strike="noStrike">
                <a:solidFill>
                  <a:srgbClr val="a674f0"/>
                </a:solidFill>
                <a:latin typeface="Arial"/>
              </a:rPr>
              <a:t>。 </a:t>
            </a:r>
            <a:br>
              <a:rPr sz="4500"/>
            </a:br>
            <a:r>
              <a:rPr b="1" lang="zh-CN" sz="4500" spc="-1" strike="noStrike">
                <a:solidFill>
                  <a:srgbClr val="a674f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205080" y="620640"/>
            <a:ext cx="5399280" cy="5761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74240" y="1054080"/>
            <a:ext cx="23738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金桥简隶书"/>
                <a:ea typeface="金桥简隶书"/>
              </a:rPr>
              <a:t>那是我小时候    常坐在父亲肩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736560" cy="69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675640" y="595008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7466" y="10800"/>
                </a:moveTo>
                <a:lnTo>
                  <a:pt x="21478" y="3794"/>
                </a:lnTo>
                <a:lnTo>
                  <a:pt x="2147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28312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2286000"/>
            <a:ext cx="6553080" cy="4005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854440" y="62532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父亲是儿那登天的梯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父亲是那拉车的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533520"/>
            <a:ext cx="72392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彩云"/>
              </a:rPr>
              <a:t>读书之境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懂人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懂作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出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出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2843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8000" y="1143000"/>
            <a:ext cx="5772240" cy="5599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348520" y="836640"/>
            <a:ext cx="26492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金桥简隶书"/>
              </a:rPr>
              <a:t>忘不了粗茶淡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金桥简隶书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金桥简隶书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金桥简隶书"/>
              </a:rPr>
              <a:t>将我养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5903640" cy="4968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642360" y="1076040"/>
            <a:ext cx="16426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忘不了一声长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	</a:t>
            </a: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半壶老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8360" y="777960"/>
            <a:ext cx="7272360" cy="3843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63480" y="4869000"/>
            <a:ext cx="772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想儿时一封家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千里写叮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rcRect l="0" t="0" r="0" b="123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23480" y="372960"/>
            <a:ext cx="200916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盼儿归一袋闷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	</a:t>
            </a:r>
            <a:r>
              <a:rPr b="1" lang="zh-CN" sz="60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满天数星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rcRect l="7771" t="1528" r="0" b="13827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361360" y="620640"/>
            <a:ext cx="458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71640" y="476280"/>
            <a:ext cx="60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金桥简隶书"/>
              </a:rPr>
              <a:t>  </a:t>
            </a: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金桥简隶书"/>
              </a:rPr>
              <a:t>都说养儿能防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金桥简隶书"/>
              </a:rPr>
              <a:t>可山高水远他乡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21672" t="12220" r="12188" b="18472"/>
          <a:stretch/>
        </p:blipFill>
        <p:spPr>
          <a:xfrm>
            <a:off x="3348000" y="765000"/>
            <a:ext cx="5040360" cy="554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92680" y="-408240"/>
            <a:ext cx="1642680" cy="75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金桥简隶书"/>
                <a:ea typeface="金桥简隶书"/>
              </a:rPr>
              <a:t>    </a:t>
            </a: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都说养儿为防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金桥简隶书"/>
                <a:ea typeface="金桥简隶书"/>
              </a:rPr>
              <a:t>可你再苦再累不张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979960"/>
            <a:ext cx="1116000" cy="878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50920" y="6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6492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出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1700280"/>
            <a:ext cx="4537080" cy="764280"/>
          </a:xfrm>
          <a:prstGeom prst="rect">
            <a:avLst/>
          </a:prstGeom>
          <a:solidFill>
            <a:srgbClr val="3366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想你的父亲，学完这篇文章，你一定有许多话想对你的父亲说，请用笔记下你最想对你父亲说的一句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427640" cy="6021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00720" y="62064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父亲，我想对您说：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427640" y="2133720"/>
            <a:ext cx="4716360" cy="4723920"/>
            <a:chOff x="4427640" y="2133720"/>
            <a:chExt cx="4716360" cy="472392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rcRect l="7911" t="76302" r="3055" b="3672"/>
            <a:stretch/>
          </p:blipFill>
          <p:spPr>
            <a:xfrm>
              <a:off x="4427640" y="6085440"/>
              <a:ext cx="4716360" cy="77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"/>
            <p:cNvGrpSpPr/>
            <p:nvPr/>
          </p:nvGrpSpPr>
          <p:grpSpPr>
            <a:xfrm>
              <a:off x="4427640" y="2133720"/>
              <a:ext cx="4716360" cy="3981960"/>
              <a:chOff x="4427640" y="2133720"/>
              <a:chExt cx="4716360" cy="3981960"/>
            </a:xfrm>
          </p:grpSpPr>
          <p:pic>
            <p:nvPicPr>
              <p:cNvPr id="234" name="" descr=""/>
              <p:cNvPicPr/>
              <p:nvPr/>
            </p:nvPicPr>
            <p:blipFill>
              <a:blip r:embed="rId3"/>
              <a:srcRect l="20506" t="27242" r="12200" b="8764"/>
              <a:stretch/>
            </p:blipFill>
            <p:spPr>
              <a:xfrm>
                <a:off x="4427640" y="2133720"/>
                <a:ext cx="4716360" cy="398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4"/>
              <a:srcRect l="20506" t="26892" r="61345" b="55131"/>
              <a:stretch/>
            </p:blipFill>
            <p:spPr>
              <a:xfrm>
                <a:off x="5414040" y="2133720"/>
                <a:ext cx="1271880" cy="111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91280" y="3968640"/>
            <a:ext cx="3852720" cy="2889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75240" y="990720"/>
            <a:ext cx="240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出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74320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发现问题比解决问题要难得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让我们都做文章的研究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300720" y="836640"/>
            <a:ext cx="20113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4653000"/>
            <a:ext cx="208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3399"/>
                </a:solidFill>
                <a:latin typeface="Arial"/>
                <a:ea typeface="华文中宋"/>
              </a:rPr>
              <a:t>马斯洛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中宋"/>
              </a:rPr>
              <a:t>的需要层次理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348000" y="1873080"/>
          <a:ext cx="517356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873080"/>
                    <a:ext cx="517356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2354040" cy="3529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851280" y="1413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59640" y="2060640"/>
            <a:ext cx="19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5219280" y="234900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21300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01080" y="3141720"/>
            <a:ext cx="19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8360" y="306864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新宋体"/>
              </a:rPr>
              <a:t>尊重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486900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12000" y="55897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生理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08720" y="57340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407664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4168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916360" y="2060640"/>
            <a:ext cx="240012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自我实现的需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2916360" y="0"/>
            <a:ext cx="7128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33080" y="3933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爱和归属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010.gif (4666 字节)"/>
          <p:cNvPicPr/>
          <p:nvPr/>
        </p:nvPicPr>
        <p:blipFill>
          <a:blip r:embed="rId5"/>
          <a:stretch/>
        </p:blipFill>
        <p:spPr>
          <a:xfrm>
            <a:off x="6083280" y="-171360"/>
            <a:ext cx="1801800" cy="180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6" name="arrow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1523880"/>
            <a:ext cx="83898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李森祥，当代作家，中国作家协会会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央电视台热播过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《天下粮仓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李森祥便是该剧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策划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为浙江电视台制作中心主任李森祥长期从事影视剧创作、拍摄、策划工作，有很强的艺术感受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代表作有小说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小学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、《抒情年代》、《传世之鼓》等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作品充满对劳动人民的深厚感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其艺术特色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文字简洁、善抓细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0880"/>
            <a:ext cx="34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Times New Roman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50920" y="1773360"/>
            <a:ext cx="8532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你是否也想获得别人的尊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为了达到这一目的，你付出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什么？是否有所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用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200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字的文字来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新魏"/>
              </a:rPr>
              <a:t>谈谈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333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997360"/>
            <a:ext cx="90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990720"/>
            <a:ext cx="878544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课外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外寻找关于“父亲”的文章、诗歌进行自主阅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推荐书目：苏童《父爱》、     梁实秋《代沟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周国平《妞妞——一个父亲的札记 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120" y="-76320"/>
            <a:ext cx="23018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注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凼    槛     痴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涎    勺    唿嗒     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嘎    筹     砌     黏     胯       尴尬     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磕    憋     晌午     硌    舀      躁      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7600" y="13748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d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4320" y="13748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13748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00680" y="173520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00680" y="1374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x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8680" y="137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h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7960" y="1374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ū  d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7560" y="137484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zh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6668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4320" y="2671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 rot="10822800">
            <a:off x="3134520" y="25984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598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n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9960" y="25988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ku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7040" y="2598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ān g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88320" y="2598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q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92320" y="40384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5960" y="40384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6680" y="40384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hǎngw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6680" y="3967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4680" y="39672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35600" y="39672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8320" y="3967200"/>
            <a:ext cx="86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260280"/>
            <a:ext cx="6624720" cy="76428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整体感知，把握故事情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773360"/>
            <a:ext cx="83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速读课文，简略概述故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提示：谁干什么？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提示思考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为什么“父亲总觉得我们家的台阶低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 父亲是如何造起一间有台阶的新屋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 新屋造好后，父亲变得怎样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17080" y="6094440"/>
            <a:ext cx="5698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石阶"/>
          <p:cNvPicPr/>
          <p:nvPr/>
        </p:nvPicPr>
        <p:blipFill>
          <a:blip r:embed="rId1"/>
          <a:srcRect l="3424" t="2759" r="4254" b="379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“父亲总觉得我们家的台阶低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33360"/>
            <a:ext cx="429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“父亲总觉得我们家的台阶低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1844640"/>
            <a:ext cx="393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因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台阶是地位的标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人家高的有几十级，自己家的台阶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级，被人家小看，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没人说过他有地位，父亲也觉得自己没有地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”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想有地位却没有地位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所以觉得自己家的台阶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2384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 flipV="1">
            <a:off x="1547280" y="5083920"/>
            <a:ext cx="1297800" cy="361080"/>
          </a:xfrm>
          <a:prstGeom prst="bentConnector3">
            <a:avLst>
              <a:gd name="adj1" fmla="val 49916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48" name=""/>
          <p:cNvCxnSpPr/>
          <p:nvPr/>
        </p:nvCxnSpPr>
        <p:spPr>
          <a:xfrm flipV="1">
            <a:off x="2195640" y="4723560"/>
            <a:ext cx="1297440" cy="361080"/>
          </a:xfrm>
          <a:prstGeom prst="bentConnector3">
            <a:avLst>
              <a:gd name="adj1" fmla="val 49930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49" name=""/>
          <p:cNvCxnSpPr/>
          <p:nvPr/>
        </p:nvCxnSpPr>
        <p:spPr>
          <a:xfrm flipV="1">
            <a:off x="2844720" y="4291920"/>
            <a:ext cx="1223280" cy="432360"/>
          </a:xfrm>
          <a:prstGeom prst="bentConnector3">
            <a:avLst>
              <a:gd name="adj1" fmla="val 49985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50" name=""/>
          <p:cNvCxnSpPr/>
          <p:nvPr/>
        </p:nvCxnSpPr>
        <p:spPr>
          <a:xfrm flipV="1">
            <a:off x="3419280" y="3860280"/>
            <a:ext cx="1224360" cy="432720"/>
          </a:xfrm>
          <a:prstGeom prst="bentConnector3">
            <a:avLst>
              <a:gd name="adj1" fmla="val 49911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51" name=""/>
          <p:cNvCxnSpPr/>
          <p:nvPr/>
        </p:nvCxnSpPr>
        <p:spPr>
          <a:xfrm flipV="1">
            <a:off x="3995280" y="3499560"/>
            <a:ext cx="1296360" cy="359640"/>
          </a:xfrm>
          <a:prstGeom prst="bentConnector3">
            <a:avLst>
              <a:gd name="adj1" fmla="val 50000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 flipV="1">
            <a:off x="4643280" y="3068280"/>
            <a:ext cx="1224720" cy="434160"/>
          </a:xfrm>
          <a:prstGeom prst="bentConnector3">
            <a:avLst>
              <a:gd name="adj1" fmla="val 49926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 flipV="1">
            <a:off x="5219640" y="2636280"/>
            <a:ext cx="1224720" cy="432360"/>
          </a:xfrm>
          <a:prstGeom prst="bentConnector3">
            <a:avLst>
              <a:gd name="adj1" fmla="val 49926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154" name=""/>
          <p:cNvCxnSpPr/>
          <p:nvPr/>
        </p:nvCxnSpPr>
        <p:spPr>
          <a:xfrm flipV="1">
            <a:off x="5797440" y="2059920"/>
            <a:ext cx="1512000" cy="577080"/>
          </a:xfrm>
          <a:prstGeom prst="bentConnector3">
            <a:avLst>
              <a:gd name="adj1" fmla="val 49988"/>
            </a:avLst>
          </a:prstGeom>
          <a:ln w="76320">
            <a:solidFill>
              <a:srgbClr val="ffff66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384200" y="4941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捡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60560" y="45086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捡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39080" y="414972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捡石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6120" y="36450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存角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27520" y="3213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种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32240" y="28526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砍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71080" y="24210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编草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3440" y="19890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Outlook"/>
                <a:ea typeface="MS Outlook"/>
              </a:rPr>
              <a:t>踏黄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51664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MS Outlook"/>
                <a:ea typeface="MS Outlook"/>
              </a:rPr>
              <a:t>台阶低　地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95480" y="25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51640" y="5229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MS Outlook"/>
                <a:ea typeface="MS Outlook"/>
              </a:rPr>
              <a:t>性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7200" y="620640"/>
            <a:ext cx="121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MS Outlook"/>
                <a:ea typeface="MS Outlook"/>
              </a:rPr>
              <a:t>台阶高：受人尊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589720"/>
            <a:ext cx="3960720" cy="144360"/>
          </a:xfrm>
          <a:prstGeom prst="rightArrow">
            <a:avLst>
              <a:gd name="adj1" fmla="val 50000"/>
              <a:gd name="adj2" fmla="val 68591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010.gif (4666 字节)"/>
          <p:cNvPicPr/>
          <p:nvPr/>
        </p:nvPicPr>
        <p:blipFill>
          <a:blip r:embed="rId1"/>
          <a:stretch/>
        </p:blipFill>
        <p:spPr>
          <a:xfrm>
            <a:off x="539640" y="765000"/>
            <a:ext cx="1801800" cy="1079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5400000">
            <a:off x="6227280" y="3500280"/>
            <a:ext cx="3744720" cy="144360"/>
          </a:xfrm>
          <a:prstGeom prst="rightArrow">
            <a:avLst>
              <a:gd name="adj1" fmla="val 50000"/>
              <a:gd name="adj2" fmla="val 64850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6370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ungsuh"/>
                <a:ea typeface="Gungsuh"/>
              </a:rPr>
              <a:t>父亲做了哪     些事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92200" y="21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4936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是如何造起一间有台阶的新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4000" y="596880"/>
            <a:ext cx="8820000" cy="588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42920" y="981000"/>
            <a:ext cx="7632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在父亲的努力下，新台阶终于砌好了，父亲感觉如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068640"/>
            <a:ext cx="69120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哪些语句表现了这种感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4365720"/>
            <a:ext cx="770580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他为什么会有这样的感觉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404640"/>
            <a:ext cx="4392720" cy="1810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台阶低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意味着经济地位低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父亲由此形成了自卑心理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这种自卑心理一下子难以消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老实厚道的父亲有中国农民传统的谦卑品质，所以当新台阶造好后，他反而处处感到不对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714920" y="907920"/>
            <a:ext cx="41418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3:02:49Z</dcterms:created>
  <dc:creator>朱哲新</dc:creator>
  <dc:description/>
  <dc:language>en-US</dc:language>
  <cp:lastModifiedBy>CommUser</cp:lastModifiedBy>
  <dcterms:modified xsi:type="dcterms:W3CDTF">2007-10-10T00:41:27Z</dcterms:modified>
  <cp:revision>41</cp:revision>
  <dc:subject/>
  <dc:title>台阶</dc:title>
</cp:coreProperties>
</file>