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DF5-9E78-4438-A36D-F64C2D79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818-B371-423C-A007-61AA408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2C0-2071-4297-A456-906EAB0D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600-90DB-439E-ABC4-66D44CB7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6F75-81E1-4452-8126-74EAE11A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6A22-33FE-478E-B8CA-FAEFB68C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2E0-6739-4F1D-B70A-59A5A8A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6A0-84E7-493E-9F7A-BD6D2715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748B-EADC-4C5D-8086-62BBA850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CA39-6F42-4BDE-9EB9-15D6C81F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AF24-7999-4A81-B88D-0D7B752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ACD-4466-4B85-9544-580458DF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A77-6C33-4001-A82C-87A16112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FD83-C024-4215-A408-23DFAC0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E3EA-A44D-4D28-916F-AAF3F5FC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B5CE-5A54-4B01-A6A8-D1D5BB33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5D0B-0C14-4837-8AA6-DCB5A32E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75D-7347-4D0F-BEFE-C726F2BA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5EC-B6F6-42F9-BFF2-BDAB9C00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009-10C6-4914-93B1-21A9AF78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3A3-5C96-4FB0-999E-9184E598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3BB-38D5-4FE5-8460-B1145B3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38F-B542-4B6B-A6A8-C568BF5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3F1-4C50-4B9E-8D33-99C3829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CBE-07AF-4471-A756-3A7CC91302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38AE-6820-4EBB-8B47-81C17403C5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blog.sina.com.cn/yidubook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 Box 1032" descr=""/>
          <p:cNvPicPr/>
          <p:nvPr/>
        </p:nvPicPr>
        <p:blipFill>
          <a:blip r:embed="rId1"/>
          <a:stretch/>
        </p:blipFill>
        <p:spPr>
          <a:xfrm>
            <a:off x="-115920" y="755640"/>
            <a:ext cx="6997680" cy="1865160"/>
          </a:xfrm>
          <a:prstGeom prst="rect">
            <a:avLst/>
          </a:prstGeom>
          <a:ln w="0">
            <a:noFill/>
          </a:ln>
        </p:spPr>
      </p:pic>
      <p:sp>
        <p:nvSpPr>
          <p:cNvPr id="82" name="直接连接符 5"/>
          <p:cNvSpPr/>
          <p:nvPr/>
        </p:nvSpPr>
        <p:spPr>
          <a:xfrm>
            <a:off x="826920" y="2349360"/>
            <a:ext cx="4105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757080" y="549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人教版小学语文第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册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826920" y="249228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6204"/>
                </a:solidFill>
                <a:latin typeface="微软雅黑"/>
                <a:ea typeface="微软雅黑"/>
              </a:rPr>
              <a:t>原执教人：</a:t>
            </a:r>
            <a:r>
              <a:rPr b="0" lang="en-US" sz="1700" spc="-1" strike="noStrike">
                <a:solidFill>
                  <a:srgbClr val="fc6204"/>
                </a:solidFill>
                <a:latin typeface="微软雅黑"/>
                <a:ea typeface="微软雅黑"/>
              </a:rPr>
              <a:t>王　玮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986520" y="580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件制作：彭芳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20061021_9158d0b56a52a92e35ccb632fd3b1f69"/>
          <p:cNvPicPr/>
          <p:nvPr/>
        </p:nvPicPr>
        <p:blipFill>
          <a:blip r:embed="rId2"/>
          <a:stretch/>
        </p:blipFill>
        <p:spPr>
          <a:xfrm>
            <a:off x="1206360" y="3005280"/>
            <a:ext cx="43531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1628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我痛哭了几天，食不下咽，寝不安席，我真想随母亲于地下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987640" y="3933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3366cc"/>
                </a:solidFill>
                <a:latin typeface="Times New Roman"/>
              </a:rPr>
              <a:t>季羡林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3366cc"/>
                </a:solidFill>
                <a:latin typeface="Times New Roman"/>
              </a:rPr>
              <a:t>怀念母亲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9640" y="1197000"/>
            <a:ext cx="79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昔年种柳，依依汉南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今看摇落，凄怆江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树犹如此，人何以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                                  ——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庾信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枯树赋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39640" y="2708280"/>
            <a:ext cx="79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        “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岸英！岸英！”主席用食指按着紧锁的眉头，情不自禁地喃喃着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24000" y="141300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彭老总来电：岸英是主席的长子，请求破格将遗体运回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朝鲜金日成首相来电：岸英同志是为朝鲜人民的解放事业牺牲的，也是朝鲜人民的儿子，要求把岸英葬在朝鲜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539640" y="476280"/>
            <a:ext cx="17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抉择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40000" y="57340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席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1197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我的儿子死了，我当然很悲痛，可是，战争嘛，总是要死人的。朝鲜战场上我们有多少优秀儿女献出了生命，他们的父母难道就不悲痛吗？他们就不想再见一见儿子的遗容吗？岸英是我的儿子，也是朝鲜人民的儿子，就尊重朝鲜人民的意愿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8360" y="549360"/>
            <a:ext cx="7972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大弟弟毛泽民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宋体"/>
              </a:rPr>
              <a:t>(1896—1943)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，经过长征后到达陕北，任财政部长，在新疆被敌人杀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小弟弟毛泽覃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宋体"/>
              </a:rPr>
              <a:t>(1905—1935)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，任红军师长、军政委，在瑞金作战时牺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妻子杨开慧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宋体"/>
              </a:rPr>
              <a:t>(1901—1930)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，在长沙做地方党的工作，被反动派逮捕，壮烈就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堂妹毛泽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宋体"/>
              </a:rPr>
              <a:t>(1906—1929)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，任游击队队长，在掩护同志们撤退时，被敌人杀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侄子毛楚雄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宋体"/>
              </a:rPr>
              <a:t>(1927—1946)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，毛泽覃之子，随部队打游击，不幸牺牲，年仅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宋体"/>
              </a:rPr>
              <a:t>19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大儿子毛岸英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宋体"/>
              </a:rPr>
              <a:t>(1922—1950)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，幼年同母亲一起坐过牢，解放后到朝鲜前线参加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宋体"/>
              </a:rPr>
              <a:t>美援朝，光荣牺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opscene12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-1042920" y="1773360"/>
            <a:ext cx="8639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宋体"/>
              </a:rPr>
              <a:t>青山处处埋忠骨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宋体"/>
              </a:rPr>
              <a:t>               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宋体"/>
              </a:rPr>
              <a:t>何须马革裹尸还</a:t>
            </a:r>
            <a:r>
              <a:rPr b="1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95280" y="11253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cc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3366cc"/>
                </a:solidFill>
                <a:latin typeface="Times New Roman"/>
              </a:rPr>
              <a:t>课文学到这，老师相信，你的内心一定也和老师一样充溢着感动，有如临其境，如见其人、如闻其声的感觉，这就是语言文字的魅力。想想，浏览课文片段，想想作者是怎样写出这使人产生共鸣的文章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7640" y="5013360"/>
            <a:ext cx="71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文中细致描写了人物的神态、动作、语言和心理活动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68360" y="119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cc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3366cc"/>
                </a:solidFill>
                <a:latin typeface="Times New Roman"/>
              </a:rPr>
              <a:t>学习了这篇课文，毛泽东的形象在我们的心中更丰盈了，他指点江山，激扬文字，是诗人；他巍然屹立，旷达无私，是伟人；他运筹帷幄，决胜千里，是军事家；他挥毫泼墨，笔走龙蛇，是书法家；他也舐犊情深，爱子心切，是慈父。如果你想进一步走进这位伟人，请课下读读有关毛泽东的书和诗词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684360" y="907920"/>
            <a:ext cx="727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cc"/>
                </a:solidFill>
                <a:latin typeface="Times New Roman"/>
              </a:rPr>
              <a:t>共同创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3366cc"/>
                </a:solidFill>
                <a:latin typeface="Times New Roman"/>
              </a:rPr>
              <a:t>《</a:t>
            </a:r>
            <a:r>
              <a:rPr b="0" lang="zh-CN" sz="5400" spc="-1" strike="noStrike">
                <a:solidFill>
                  <a:srgbClr val="3366cc"/>
                </a:solidFill>
                <a:latin typeface="Times New Roman"/>
              </a:rPr>
              <a:t>我们眼中的毛泽东</a:t>
            </a:r>
            <a:r>
              <a:rPr b="0" lang="en-US" sz="5400" spc="-1" strike="noStrike">
                <a:solidFill>
                  <a:srgbClr val="3366cc"/>
                </a:solidFill>
                <a:latin typeface="Times New Roman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184464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同学们，听着这曾经唱遍大江南北的熟悉的旋律，看着画面中这久违的亲切的面庞，我们仿佛又回到了那个激情燃烧的岁月。这节课，让我们继续走进毛泽东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东方红.mp3" descr=""/>
          <p:cNvPicPr/>
          <p:nvPr/>
        </p:nvPicPr>
        <p:blipFill>
          <a:blip r:embed="rId1"/>
          <a:stretch/>
        </p:blipFill>
        <p:spPr>
          <a:xfrm>
            <a:off x="8172360" y="6021360"/>
            <a:ext cx="513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091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84360" y="2349360"/>
            <a:ext cx="79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cc"/>
                </a:solidFill>
                <a:latin typeface="Times New Roman"/>
              </a:rPr>
              <a:t>       </a:t>
            </a:r>
            <a:r>
              <a:rPr b="0" lang="zh-CN" sz="6000" spc="-1" strike="noStrike">
                <a:solidFill>
                  <a:srgbClr val="3366cc"/>
                </a:solidFill>
                <a:latin typeface="Times New Roman"/>
              </a:rPr>
              <a:t>电文稿下是被泪水打湿的枕巾 </a:t>
            </a:r>
            <a:r>
              <a:rPr b="0" lang="en-US" sz="6000" spc="-1" strike="noStrike">
                <a:solidFill>
                  <a:srgbClr val="3366cc"/>
                </a:solidFill>
                <a:latin typeface="Times New Roman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476360" y="1628640"/>
            <a:ext cx="590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青山处处埋忠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年丧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比悲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凡人情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伟人胸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D:\Teliss_Tong\Copy\定期备份\工作备份\！PPT图片及版面资源\06-PPT精选插图\10-综合\脚印.jpg"/>
          <p:cNvPicPr/>
          <p:nvPr/>
        </p:nvPicPr>
        <p:blipFill>
          <a:blip r:embed="rId1"/>
          <a:stretch/>
        </p:blipFill>
        <p:spPr>
          <a:xfrm>
            <a:off x="0" y="0"/>
            <a:ext cx="477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标题 1" descr=""/>
          <p:cNvPicPr/>
          <p:nvPr/>
        </p:nvPicPr>
        <p:blipFill>
          <a:blip r:embed="rId2"/>
          <a:stretch/>
        </p:blipFill>
        <p:spPr>
          <a:xfrm>
            <a:off x="4591080" y="347760"/>
            <a:ext cx="4735440" cy="1212840"/>
          </a:xfrm>
          <a:prstGeom prst="rect">
            <a:avLst/>
          </a:prstGeom>
          <a:ln w="0">
            <a:noFill/>
          </a:ln>
        </p:spPr>
      </p:pic>
      <p:sp>
        <p:nvSpPr>
          <p:cNvPr id="116" name="矩形 6"/>
          <p:cNvSpPr/>
          <p:nvPr/>
        </p:nvSpPr>
        <p:spPr>
          <a:xfrm>
            <a:off x="5508720" y="1484280"/>
            <a:ext cx="312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cc"/>
                </a:solidFill>
                <a:latin typeface="微软雅黑"/>
                <a:ea typeface="微软雅黑"/>
              </a:rPr>
              <a:t>小学语文教师必备用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076720" y="2060640"/>
            <a:ext cx="37274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你能说得上名字的名师公开课，这里都有；你说不上名字的名师公开课实录，这里也有；比教参更详尽、比教案更新颖、比设计更传神；一套可以直接拿去在课堂上使用的教学宝典；让你上出像名师那么精彩的课的独家秘法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配套人教版语文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册全部课文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矩形 3" descr=""/>
          <p:cNvPicPr/>
          <p:nvPr/>
        </p:nvPicPr>
        <p:blipFill>
          <a:blip r:embed="rId3"/>
          <a:stretch/>
        </p:blipFill>
        <p:spPr>
          <a:xfrm>
            <a:off x="4925880" y="4529160"/>
            <a:ext cx="4102200" cy="628560"/>
          </a:xfrm>
          <a:prstGeom prst="rect">
            <a:avLst/>
          </a:prstGeom>
          <a:ln w="0">
            <a:noFill/>
          </a:ln>
        </p:spPr>
      </p:pic>
      <p:sp>
        <p:nvSpPr>
          <p:cNvPr id="119" name="矩形 4"/>
          <p:cNvSpPr/>
          <p:nvPr/>
        </p:nvSpPr>
        <p:spPr>
          <a:xfrm>
            <a:off x="6746400" y="5084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读工作室出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5">
            <a:hlinkClick r:id="rId4"/>
          </p:cNvPr>
          <p:cNvSpPr/>
          <p:nvPr/>
        </p:nvSpPr>
        <p:spPr>
          <a:xfrm>
            <a:off x="4727520" y="56610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blog.sina.com.cn/yidu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404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毛泽东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），字润之（原作咏芝，后改润芝），笔名子任。湖南湘潭人。中国革命家、战略家、理论家、诗人，中国共产党、中国人民解放军和中华人民共和国的主要缔造者和领袖，毛泽东思想的主要创立者。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，毛泽东是中华人民共和国的最高领导人。他对马克思列宁主义的发展、军事理论的贡献以及对共产党的理论贡献被称为毛泽东思想。毛泽东担任过的主要职务几乎全部称为「主席」，所以被尊称为毛主席。毛泽东被视为现代世界历史中最重要的人物之一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杂志将他评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世纪最具影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2400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老师的心中，毛泽东确实很了不起，他叱咤风云，统领三军，受万民拥戴，就像课前我们在歌中听到的那样，他是人民的大救星，是人们心中不落的红太阳，他是诗人，是伟人，是军事家、思想家、政治家，可他毕竟不是圣人，他也有着凡人的情怀。这节课，我们就一起学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青山处处埋忠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去了解毛泽东作为普通人的情感世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4000" y="620640"/>
            <a:ext cx="770400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勋鉴      殉职       奔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尊重      踌躇       黯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青山处处埋忠骨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何须马革裹尸还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50920" y="5589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谁能用上一两个词语，用自己的话说说文章的大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95280" y="76500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自学提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默读课文，把自己深受感动或特别喜欢的部分多读几遍，然后和同学交流读后的感受。学什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了解文章大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了解毛泽东作为普通人的情感世界，感受他的伟人胸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领悟描写人物的一些基本方法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9640" y="1052640"/>
            <a:ext cx="770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青山处处埋忠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为什么说是忠骨呢？请同学们默读课文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1—3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自然段，从中找到答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68360" y="1125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主席的爱子、我们‘志司’的好参谋岸英同志为了人民的事业光荣殉职。”电文稿上的这一行字触目惊心，这一噩耗如晴天霹雳，使整日牵挂朝鲜战事的毛泽东主席国忧中又添家痛，请同学们默读下面的课文，深入到文章的字里行间，画出自己深受感动的或特别喜欢的部分，把你通过语言文字读到的信息简单批注在旁边，待会儿和同学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6836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66cc"/>
                </a:solidFill>
                <a:latin typeface="Times New Roman"/>
              </a:rPr>
              <a:t>从收到这封电报起，毛泽东整整一天没说一句话，只是一支一支地吸着烟。桌子上的饭菜已经热了几次，还是原封不动地放在那里。岸英是他最心爱的长子。当年，地下党的同志们冒着生命危险找到了岸英，把孩子送到他身边，来岸英去苏联留学。在国外的大学毕业的后，他又亲自把爱子送到农村锻炼。那一次次的分离，岸英不都平平安安回到自己的身边来了吗？这次怎么会</a:t>
            </a: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53:26Z</dcterms:created>
  <dc:creator>干国祥</dc:creator>
  <dc:description/>
  <cp:keywords/>
  <dc:language>en-US</dc:language>
  <cp:lastModifiedBy>微软用户</cp:lastModifiedBy>
  <cp:lastPrinted>1899-12-30T00:00:00Z</cp:lastPrinted>
  <dcterms:modified xsi:type="dcterms:W3CDTF">2013-05-03T13:31:01Z</dcterms:modified>
  <cp:revision>1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