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158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158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81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8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50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19280" y="1125360"/>
            <a:ext cx="144360" cy="5732640"/>
          </a:xfrm>
          <a:prstGeom prst="rect">
            <a:avLst/>
          </a:prstGeom>
          <a:gradFill rotWithShape="0">
            <a:gsLst>
              <a:gs pos="0">
                <a:srgbClr val="674d03">
                  <a:alpha val="28235"/>
                </a:srgbClr>
              </a:gs>
              <a:gs pos="100000">
                <a:srgbClr val="1c1c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907920"/>
            <a:ext cx="822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627280" y="2905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奇妙的克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20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20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20.xml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20.xml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20.xml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20.xml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20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20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20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20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20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20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6.xml"/><Relationship Id="rId10" Type="http://schemas.openxmlformats.org/officeDocument/2006/relationships/slide" Target="slide20.xml"/><Relationship Id="rId11" Type="http://schemas.openxmlformats.org/officeDocument/2006/relationships/slide" Target="slide2.xml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20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20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00000" y="148428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99"/>
                </a:solidFill>
                <a:latin typeface="Times New Roman"/>
                <a:ea typeface="仿宋_GB2312"/>
              </a:rPr>
              <a:t>奇妙的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48000" y="2565360"/>
            <a:ext cx="554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6699"/>
                </a:solidFill>
                <a:latin typeface="Times New Roman"/>
                <a:ea typeface="隶书"/>
              </a:rPr>
              <a:t>克隆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908000" y="1341360"/>
            <a:ext cx="6912000" cy="4848480"/>
          </a:xfrm>
          <a:prstGeom prst="rect">
            <a:avLst/>
          </a:prstGeom>
          <a:solidFill>
            <a:srgbClr val="3366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79640" y="1628640"/>
            <a:ext cx="662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99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日：英国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P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医疗公司宣布，该公司克隆出一头牛犊“杰弗逊先生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99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日：日本科学家宣布，他们利用成年动物体细胞克隆的两头牛犊诞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99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日：科学家采用一种新克隆技术，用成年鼠的体细胞成功地培育出了第三代共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多只克隆鼠，这是人类第一次用克隆动物克隆出克隆动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-97560" y="4149720"/>
            <a:ext cx="1598400" cy="459720"/>
          </a:xfrm>
          <a:prstGeom prst="rect">
            <a:avLst/>
          </a:prstGeom>
          <a:solidFill>
            <a:srgbClr val="cc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克隆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-97560" y="273384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作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3" action="ppaction://hlinksldjump"/>
          </p:cNvPr>
          <p:cNvSpPr/>
          <p:nvPr/>
        </p:nvSpPr>
        <p:spPr>
          <a:xfrm>
            <a:off x="-97560" y="345456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字词识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4" action="ppaction://hlinksldjump"/>
          </p:cNvPr>
          <p:cNvSpPr/>
          <p:nvPr/>
        </p:nvSpPr>
        <p:spPr>
          <a:xfrm>
            <a:off x="-97560" y="489420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自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5" action="ppaction://hlinksldjump"/>
          </p:cNvPr>
          <p:cNvSpPr/>
          <p:nvPr/>
        </p:nvSpPr>
        <p:spPr>
          <a:xfrm>
            <a:off x="-62640" y="573264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6" action="ppaction://hlinksldjump"/>
          </p:cNvPr>
          <p:cNvSpPr/>
          <p:nvPr/>
        </p:nvSpPr>
        <p:spPr>
          <a:xfrm>
            <a:off x="-97560" y="184464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979640" y="1593720"/>
            <a:ext cx="6912000" cy="4848480"/>
          </a:xfrm>
          <a:prstGeom prst="rect">
            <a:avLst/>
          </a:prstGeom>
          <a:solidFill>
            <a:srgbClr val="3366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1773360"/>
            <a:ext cx="68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99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：美国夏威夷大学的科学家，利用成年体细胞克隆出第一只雄性老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99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：以美藉华人科学家杨向中为首的研究小组利用一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岁高龄的母牛耳朵上取出的细胞克隆出小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：美国著名华人杨向中，用体外长期培养后的公牛耳皮细胞成功克隆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头牛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：美国科学家宣布克隆猴成功，这只恒河猴被命名“泰特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：曾参与克隆小羊“多利”的英国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P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公司宣布，他们成功培育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头克隆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-97560" y="4078440"/>
            <a:ext cx="1598400" cy="459720"/>
          </a:xfrm>
          <a:prstGeom prst="rect">
            <a:avLst/>
          </a:prstGeom>
          <a:solidFill>
            <a:srgbClr val="cc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克隆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-97560" y="266220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作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-97560" y="33829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字词识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-97560" y="48229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自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5" action="ppaction://hlinksldjump"/>
          </p:cNvPr>
          <p:cNvSpPr/>
          <p:nvPr/>
        </p:nvSpPr>
        <p:spPr>
          <a:xfrm>
            <a:off x="-62640" y="566100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6" action="ppaction://hlinksldjump"/>
          </p:cNvPr>
          <p:cNvSpPr/>
          <p:nvPr/>
        </p:nvSpPr>
        <p:spPr>
          <a:xfrm>
            <a:off x="-97560" y="177336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979640" y="1593720"/>
            <a:ext cx="6912000" cy="4848480"/>
          </a:xfrm>
          <a:prstGeom prst="rect">
            <a:avLst/>
          </a:prstGeom>
          <a:solidFill>
            <a:srgbClr val="3366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24360" y="2363760"/>
            <a:ext cx="30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多莉”是世界上第一例用体细胞──乳腺上皮细胞，通过细胞核移植技术，在复杂的人工操作下，得到的一只小绵羊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050920" y="1674720"/>
            <a:ext cx="3672000" cy="463392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-97560" y="4078440"/>
            <a:ext cx="1598400" cy="459720"/>
          </a:xfrm>
          <a:prstGeom prst="rect">
            <a:avLst/>
          </a:prstGeom>
          <a:solidFill>
            <a:srgbClr val="cc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克隆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3" action="ppaction://hlinksldjump"/>
          </p:cNvPr>
          <p:cNvSpPr/>
          <p:nvPr/>
        </p:nvSpPr>
        <p:spPr>
          <a:xfrm>
            <a:off x="-97560" y="266220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作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4" action="ppaction://hlinksldjump"/>
          </p:cNvPr>
          <p:cNvSpPr/>
          <p:nvPr/>
        </p:nvSpPr>
        <p:spPr>
          <a:xfrm>
            <a:off x="-97560" y="33829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字词识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5" action="ppaction://hlinksldjump"/>
          </p:cNvPr>
          <p:cNvSpPr/>
          <p:nvPr/>
        </p:nvSpPr>
        <p:spPr>
          <a:xfrm>
            <a:off x="-97560" y="48229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自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6" action="ppaction://hlinksldjump"/>
          </p:cNvPr>
          <p:cNvSpPr/>
          <p:nvPr/>
        </p:nvSpPr>
        <p:spPr>
          <a:xfrm>
            <a:off x="-62640" y="566100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7" action="ppaction://hlinksldjump"/>
          </p:cNvPr>
          <p:cNvSpPr/>
          <p:nvPr/>
        </p:nvSpPr>
        <p:spPr>
          <a:xfrm>
            <a:off x="-97560" y="177336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7056720" cy="4681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132000" y="602136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克隆马及其“母亲兼姐姐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-97560" y="3933720"/>
            <a:ext cx="1598400" cy="459720"/>
          </a:xfrm>
          <a:prstGeom prst="rect">
            <a:avLst/>
          </a:prstGeom>
          <a:solidFill>
            <a:srgbClr val="cc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克隆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rId3" action="ppaction://hlinksldjump"/>
          </p:cNvPr>
          <p:cNvSpPr/>
          <p:nvPr/>
        </p:nvSpPr>
        <p:spPr>
          <a:xfrm>
            <a:off x="-97560" y="251784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作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rId4" action="ppaction://hlinksldjump"/>
          </p:cNvPr>
          <p:cNvSpPr/>
          <p:nvPr/>
        </p:nvSpPr>
        <p:spPr>
          <a:xfrm>
            <a:off x="-97560" y="323856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字词识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5" action="ppaction://hlinksldjump"/>
          </p:cNvPr>
          <p:cNvSpPr/>
          <p:nvPr/>
        </p:nvSpPr>
        <p:spPr>
          <a:xfrm>
            <a:off x="-97560" y="467820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自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6" action="ppaction://hlinksldjump"/>
          </p:cNvPr>
          <p:cNvSpPr/>
          <p:nvPr/>
        </p:nvSpPr>
        <p:spPr>
          <a:xfrm>
            <a:off x="-62640" y="551664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7" action="ppaction://hlinksldjump"/>
          </p:cNvPr>
          <p:cNvSpPr/>
          <p:nvPr/>
        </p:nvSpPr>
        <p:spPr>
          <a:xfrm>
            <a:off x="-97560" y="162864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7056720" cy="4464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086360" y="5805360"/>
            <a:ext cx="188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ahoma"/>
              </a:rPr>
              <a:t>第一只克隆宠物猫</a:t>
            </a:r>
            <a:r>
              <a:rPr b="1" lang="zh-CN" sz="3200" spc="-1" strike="noStrike">
                <a:solidFill>
                  <a:srgbClr val="a50021"/>
                </a:solidFill>
                <a:latin typeface="Tahoma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-97560" y="4052880"/>
            <a:ext cx="1598400" cy="459720"/>
          </a:xfrm>
          <a:prstGeom prst="rect">
            <a:avLst/>
          </a:prstGeom>
          <a:solidFill>
            <a:srgbClr val="cc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克隆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-97560" y="263700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作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4" action="ppaction://hlinksldjump"/>
          </p:cNvPr>
          <p:cNvSpPr/>
          <p:nvPr/>
        </p:nvSpPr>
        <p:spPr>
          <a:xfrm>
            <a:off x="-97560" y="33577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字词识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5" action="ppaction://hlinksldjump"/>
          </p:cNvPr>
          <p:cNvSpPr/>
          <p:nvPr/>
        </p:nvSpPr>
        <p:spPr>
          <a:xfrm>
            <a:off x="-97560" y="479736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自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6" action="ppaction://hlinksldjump"/>
          </p:cNvPr>
          <p:cNvSpPr/>
          <p:nvPr/>
        </p:nvSpPr>
        <p:spPr>
          <a:xfrm>
            <a:off x="-62640" y="563580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7" action="ppaction://hlinksldjump"/>
          </p:cNvPr>
          <p:cNvSpPr/>
          <p:nvPr/>
        </p:nvSpPr>
        <p:spPr>
          <a:xfrm>
            <a:off x="-97560" y="174780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7129440" cy="4537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66920" y="5911920"/>
            <a:ext cx="60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克隆的荧光小猪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左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和正常小猪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右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-97560" y="4076640"/>
            <a:ext cx="1598400" cy="459720"/>
          </a:xfrm>
          <a:prstGeom prst="rect">
            <a:avLst/>
          </a:prstGeom>
          <a:solidFill>
            <a:srgbClr val="cc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克隆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-97560" y="263700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作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97560" y="33577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字词识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97560" y="479736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自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62640" y="563580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97560" y="174780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6985080" cy="4680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049560" y="6021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多莉”羊的克隆过程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2" action="ppaction://hlinksldjump"/>
          </p:cNvPr>
          <p:cNvSpPr/>
          <p:nvPr/>
        </p:nvSpPr>
        <p:spPr>
          <a:xfrm>
            <a:off x="-97560" y="3981600"/>
            <a:ext cx="1598400" cy="459720"/>
          </a:xfrm>
          <a:prstGeom prst="rect">
            <a:avLst/>
          </a:prstGeom>
          <a:solidFill>
            <a:srgbClr val="cc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克隆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3" action="ppaction://hlinksldjump"/>
          </p:cNvPr>
          <p:cNvSpPr/>
          <p:nvPr/>
        </p:nvSpPr>
        <p:spPr>
          <a:xfrm>
            <a:off x="-97560" y="256536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作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4" action="ppaction://hlinksldjump"/>
          </p:cNvPr>
          <p:cNvSpPr/>
          <p:nvPr/>
        </p:nvSpPr>
        <p:spPr>
          <a:xfrm>
            <a:off x="-97560" y="328608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字词识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5" action="ppaction://hlinksldjump"/>
          </p:cNvPr>
          <p:cNvSpPr/>
          <p:nvPr/>
        </p:nvSpPr>
        <p:spPr>
          <a:xfrm>
            <a:off x="-97560" y="472608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自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6" action="ppaction://hlinksldjump"/>
          </p:cNvPr>
          <p:cNvSpPr/>
          <p:nvPr/>
        </p:nvSpPr>
        <p:spPr>
          <a:xfrm>
            <a:off x="-62640" y="556416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7" action="ppaction://hlinksldjump"/>
          </p:cNvPr>
          <p:cNvSpPr/>
          <p:nvPr/>
        </p:nvSpPr>
        <p:spPr>
          <a:xfrm>
            <a:off x="-97560" y="16765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979640" y="1341360"/>
            <a:ext cx="6912000" cy="4848480"/>
          </a:xfrm>
          <a:prstGeom prst="rect">
            <a:avLst/>
          </a:prstGeom>
          <a:solidFill>
            <a:srgbClr val="3366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835280" y="1770120"/>
            <a:ext cx="70516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美国国会通过全面禁止克隆人的法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      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新华网华盛顿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3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日专电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记者吴伟农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美国国会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3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日以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265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票对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16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票通过了一项全面禁止克隆人的法案。这一法案不仅禁止克隆人，还禁止进口胚胎干细胞等源于克隆胚胎的产品。这项法案由佛罗里达州的共和党议员戴夫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韦尔登起草，本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24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日首先在国会的一委员会中得到通过。韦尔登法案将把任何进行克隆、运输、接受或进口克隆胚胎细胞及其衍生 产品的行为和企图定为联邦罪行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-97560" y="4005360"/>
            <a:ext cx="1598400" cy="459720"/>
          </a:xfrm>
          <a:prstGeom prst="rect">
            <a:avLst/>
          </a:prstGeom>
          <a:solidFill>
            <a:srgbClr val="cc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克隆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2" action="ppaction://hlinksldjump"/>
          </p:cNvPr>
          <p:cNvSpPr/>
          <p:nvPr/>
        </p:nvSpPr>
        <p:spPr>
          <a:xfrm>
            <a:off x="-97560" y="25891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作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-97560" y="330984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字词识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4" action="ppaction://hlinksldjump"/>
          </p:cNvPr>
          <p:cNvSpPr/>
          <p:nvPr/>
        </p:nvSpPr>
        <p:spPr>
          <a:xfrm>
            <a:off x="-97560" y="474984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自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5" action="ppaction://hlinksldjump"/>
          </p:cNvPr>
          <p:cNvSpPr/>
          <p:nvPr/>
        </p:nvSpPr>
        <p:spPr>
          <a:xfrm>
            <a:off x="-62640" y="55879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6" action="ppaction://hlinksldjump"/>
          </p:cNvPr>
          <p:cNvSpPr/>
          <p:nvPr/>
        </p:nvSpPr>
        <p:spPr>
          <a:xfrm>
            <a:off x="-97560" y="170028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908000" y="1413000"/>
            <a:ext cx="6912000" cy="4848480"/>
          </a:xfrm>
          <a:prstGeom prst="rect">
            <a:avLst/>
          </a:prstGeom>
          <a:solidFill>
            <a:srgbClr val="3366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911240" y="1553760"/>
            <a:ext cx="6981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法政府批准禁止克隆人体胚胎法律草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      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新华网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2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日电 出于对人体克隆可能造成负面影响的担忧，法国政府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日批准了一项法律草案，禁止以医学研究为目的克隆人体胚胎。作为克隆人体胚胎的坚决反对者，法国总统雅克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希拉克对于政府批准这项法律草案表示欢迎。他说，他将在明年春天选举前，力促国会通过这项法律。在英国，用于医学研究目的的人体克隆已经合法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-97560" y="4005360"/>
            <a:ext cx="1598400" cy="459720"/>
          </a:xfrm>
          <a:prstGeom prst="rect">
            <a:avLst/>
          </a:prstGeom>
          <a:solidFill>
            <a:srgbClr val="cc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克隆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-97560" y="25891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作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3" action="ppaction://hlinksldjump"/>
          </p:cNvPr>
          <p:cNvSpPr/>
          <p:nvPr/>
        </p:nvSpPr>
        <p:spPr>
          <a:xfrm>
            <a:off x="-97560" y="330984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字词识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4" action="ppaction://hlinksldjump"/>
          </p:cNvPr>
          <p:cNvSpPr/>
          <p:nvPr/>
        </p:nvSpPr>
        <p:spPr>
          <a:xfrm>
            <a:off x="-97560" y="474984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自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5" action="ppaction://hlinksldjump"/>
          </p:cNvPr>
          <p:cNvSpPr/>
          <p:nvPr/>
        </p:nvSpPr>
        <p:spPr>
          <a:xfrm>
            <a:off x="-62640" y="55879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6" action="ppaction://hlinksldjump"/>
          </p:cNvPr>
          <p:cNvSpPr/>
          <p:nvPr/>
        </p:nvSpPr>
        <p:spPr>
          <a:xfrm>
            <a:off x="-97560" y="170028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979640" y="1517760"/>
            <a:ext cx="6912000" cy="4848480"/>
          </a:xfrm>
          <a:prstGeom prst="rect">
            <a:avLst/>
          </a:prstGeom>
          <a:solidFill>
            <a:srgbClr val="3366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692000" y="1483920"/>
            <a:ext cx="73040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德国民众普遍反对克隆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     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新华网柏林４月１７日电（记者潘治）德国“生命权利学会”日前公布的一项民意调查显示，尽管有部分德国民众对克隆及干细胞等相关医学研究表示赞同，但普遍对克隆人持反对意见。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　　据此间媒体报道，一家民意调查机构受德国“生命权利学会”委托对大约１０００名德国民众进行了相关调查，结果显示，有８３％的人拒绝克隆人，７１％的被调查者反对研究人类胚胎，同时有大约三分之二的被调查者表示，反对德国进口胚胎干细胞进行研究。但另有５２％的民众赞成对人工受精进行相应的医学研究。日前由德新社对１０００余德国民众进行的一项类似调查显示，尽管有大约三分之一的被调查者称，如果通过克隆方式可以拯救其他生命的话愿意接受克隆人，但是仅有４％的人愿意接受一个克隆自己的婴儿，同时仅有１０％的人表示，可以接受那些无法生育的夫妇通过克隆的方式获得后代。 相比较而言，妇女要比男性更加反对克隆人。如针对以克隆方式获取挽救一名患白血病的儿童所需骨髓的问题，有４１％的男性表示赞同，但仅有２９％女性同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-97560" y="4005360"/>
            <a:ext cx="1598400" cy="459720"/>
          </a:xfrm>
          <a:prstGeom prst="rect">
            <a:avLst/>
          </a:prstGeom>
          <a:solidFill>
            <a:srgbClr val="cc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克隆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-97560" y="25891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作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3" action="ppaction://hlinksldjump"/>
          </p:cNvPr>
          <p:cNvSpPr/>
          <p:nvPr/>
        </p:nvSpPr>
        <p:spPr>
          <a:xfrm>
            <a:off x="-97560" y="330984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字词识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4" action="ppaction://hlinksldjump"/>
          </p:cNvPr>
          <p:cNvSpPr/>
          <p:nvPr/>
        </p:nvSpPr>
        <p:spPr>
          <a:xfrm>
            <a:off x="-97560" y="474984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自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5" action="ppaction://hlinksldjump"/>
          </p:cNvPr>
          <p:cNvSpPr/>
          <p:nvPr/>
        </p:nvSpPr>
        <p:spPr>
          <a:xfrm>
            <a:off x="-62640" y="55879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6" action="ppaction://hlinksldjump"/>
          </p:cNvPr>
          <p:cNvSpPr/>
          <p:nvPr/>
        </p:nvSpPr>
        <p:spPr>
          <a:xfrm>
            <a:off x="-97560" y="170028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79640" y="1341360"/>
            <a:ext cx="6912000" cy="4848480"/>
          </a:xfrm>
          <a:prstGeom prst="rect">
            <a:avLst/>
          </a:prstGeom>
          <a:solidFill>
            <a:srgbClr val="3366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979640" y="1981080"/>
            <a:ext cx="705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理清本文说明的顺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了解说明方法和说明对象的关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学习搜集筛选事理说明文的信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(4)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感受科学家严谨、求实、锲而不舍的态度与精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-97560" y="1773360"/>
            <a:ext cx="1598400" cy="459720"/>
          </a:xfrm>
          <a:prstGeom prst="rect">
            <a:avLst/>
          </a:prstGeom>
          <a:solidFill>
            <a:srgbClr val="cc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97560" y="251784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作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97560" y="323856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字词识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97560" y="467820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自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97560" y="400536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克隆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62640" y="551664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979640" y="1341360"/>
            <a:ext cx="6912000" cy="4848480"/>
          </a:xfrm>
          <a:prstGeom prst="rect">
            <a:avLst/>
          </a:prstGeom>
          <a:solidFill>
            <a:srgbClr val="3366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4000" y="1916280"/>
            <a:ext cx="63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如果有一天，科学家克隆出了另外一个你，请你插上想像的翅膀描述一下那时的你和“你”生活的情景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-62640" y="5635800"/>
            <a:ext cx="1598400" cy="459720"/>
          </a:xfrm>
          <a:prstGeom prst="rect">
            <a:avLst/>
          </a:prstGeom>
          <a:solidFill>
            <a:srgbClr val="cc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97560" y="263700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作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-97560" y="33577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字词识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rId2" action="ppaction://hlinksldjump"/>
          </p:cNvPr>
          <p:cNvSpPr/>
          <p:nvPr/>
        </p:nvSpPr>
        <p:spPr>
          <a:xfrm>
            <a:off x="-97560" y="479736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自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-97560" y="412416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克隆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4" action="ppaction://hlinksldjump"/>
          </p:cNvPr>
          <p:cNvSpPr/>
          <p:nvPr/>
        </p:nvSpPr>
        <p:spPr>
          <a:xfrm>
            <a:off x="-97560" y="174780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7073280"/>
          </a:xfrm>
          <a:prstGeom prst="rect">
            <a:avLst/>
          </a:prstGeom>
          <a:solidFill>
            <a:srgbClr val="3366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63640" y="2421000"/>
            <a:ext cx="556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ahoma"/>
              </a:rPr>
              <a:t>谢谢大家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835280" y="1268280"/>
            <a:ext cx="7056360" cy="4848480"/>
          </a:xfrm>
          <a:prstGeom prst="rect">
            <a:avLst/>
          </a:prstGeom>
          <a:solidFill>
            <a:srgbClr val="3366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8000" y="2114640"/>
            <a:ext cx="2521080" cy="3619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427640" y="126828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谈家桢先生是国际著名遗传学家，我国现代遗传学奠基人之一，是一位杰出的科学家和教育家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谈家桢先生于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09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出生于浙江宁波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3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获苏州东吴大学理学士。谈家桢先生从事遗传学教学和研究已七十年，先后教过普通生物学、脊椎动物比较解剖学、胚胎学、遗传学、细胞学、实验进化学、细胞遗传学、达尔文主义、辐射遗传学、原生动物学等课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97560" y="2565360"/>
            <a:ext cx="1598400" cy="459720"/>
          </a:xfrm>
          <a:prstGeom prst="rect">
            <a:avLst/>
          </a:prstGeom>
          <a:solidFill>
            <a:srgbClr val="cc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作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-97560" y="182088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-97560" y="328608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字词识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-97560" y="472608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自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5" action="ppaction://hlinksldjump"/>
          </p:cNvPr>
          <p:cNvSpPr/>
          <p:nvPr/>
        </p:nvSpPr>
        <p:spPr>
          <a:xfrm>
            <a:off x="-97560" y="405288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克隆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6" action="ppaction://hlinksldjump"/>
          </p:cNvPr>
          <p:cNvSpPr/>
          <p:nvPr/>
        </p:nvSpPr>
        <p:spPr>
          <a:xfrm>
            <a:off x="-62640" y="556416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08000" y="1484280"/>
            <a:ext cx="6912000" cy="4848480"/>
          </a:xfrm>
          <a:prstGeom prst="rect">
            <a:avLst/>
          </a:prstGeom>
          <a:solidFill>
            <a:srgbClr val="3366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97560" y="3789360"/>
            <a:ext cx="1598400" cy="459720"/>
          </a:xfrm>
          <a:prstGeom prst="rect">
            <a:avLst/>
          </a:prstGeom>
          <a:solidFill>
            <a:srgbClr val="cc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字词识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-97560" y="306864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作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-97560" y="522936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自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-97560" y="455616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克隆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-62640" y="606744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5" action="ppaction://hlinksldjump"/>
          </p:cNvPr>
          <p:cNvSpPr/>
          <p:nvPr/>
        </p:nvSpPr>
        <p:spPr>
          <a:xfrm>
            <a:off x="-97560" y="217980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979280" y="1699920"/>
            <a:ext cx="6767640" cy="4538520"/>
          </a:xfrm>
          <a:prstGeom prst="rect">
            <a:avLst/>
          </a:prstGeom>
          <a:solidFill>
            <a:srgbClr val="00e4a8">
              <a:alpha val="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胚胎</a:t>
            </a: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pēitāi</a:t>
            </a: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) </a:t>
            </a: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：在母体内初期发育初期的生物体</a:t>
            </a: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由精细胞和卵细胞结合发展而成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囊胚（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nángpēi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）：胚胎的初期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两栖（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qī</a:t>
            </a: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）：有时在水中生活，有时在陆地上生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脊椎（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jǐzhuī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）：人或动物背上中间的骨头、脊骨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哺乳（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bǔrǔ</a:t>
            </a: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）动物：最高等的脊椎动物，基本特点是靠母体的乳腺分秘乳汁哺育初生婴儿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乳腺（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rǔxiàn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）细胞：人和哺乳动物乳房内分秘乳汁的细胞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促性腺素：用于诱发排卵的激素类物质。</a:t>
            </a:r>
            <a:r>
              <a:rPr b="0" lang="zh-CN" sz="2400" spc="-1" strike="noStrike">
                <a:solidFill>
                  <a:srgbClr val="ff66cc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79640" y="1593720"/>
            <a:ext cx="6912000" cy="4848480"/>
          </a:xfrm>
          <a:prstGeom prst="rect">
            <a:avLst/>
          </a:prstGeom>
          <a:solidFill>
            <a:srgbClr val="3366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95640" y="1700280"/>
          <a:ext cx="6410160" cy="4622760"/>
        </p:xfrm>
        <a:graphic>
          <a:graphicData uri="http://schemas.openxmlformats.org/drawingml/2006/table">
            <a:tbl>
              <a:tblPr/>
              <a:tblGrid>
                <a:gridCol w="3176640"/>
                <a:gridCol w="3233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通用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专业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一分为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胚  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相安无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囊  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永无止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两  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切实可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脊  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濒临绝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促性腺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悲喜交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胰蛋白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cf01"/>
                      </a:solidFill>
                    </a:lnL>
                    <a:lnR w="28080">
                      <a:solidFill>
                        <a:srgbClr val="ffcf01"/>
                      </a:solidFill>
                    </a:lnR>
                    <a:lnT w="28080">
                      <a:solidFill>
                        <a:srgbClr val="ffcf01"/>
                      </a:solidFill>
                    </a:lnT>
                    <a:lnB w="28080">
                      <a:solidFill>
                        <a:srgbClr val="ffcf0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-97560" y="3309840"/>
            <a:ext cx="1598400" cy="459720"/>
          </a:xfrm>
          <a:prstGeom prst="rect">
            <a:avLst/>
          </a:prstGeom>
          <a:solidFill>
            <a:srgbClr val="cc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字词识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-97560" y="25891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作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-97560" y="474984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自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3" action="ppaction://hlinksldjump"/>
          </p:cNvPr>
          <p:cNvSpPr/>
          <p:nvPr/>
        </p:nvSpPr>
        <p:spPr>
          <a:xfrm>
            <a:off x="-97560" y="395748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克隆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4" action="ppaction://hlinksldjump"/>
          </p:cNvPr>
          <p:cNvSpPr/>
          <p:nvPr/>
        </p:nvSpPr>
        <p:spPr>
          <a:xfrm>
            <a:off x="-62640" y="55879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5" action="ppaction://hlinksldjump"/>
          </p:cNvPr>
          <p:cNvSpPr/>
          <p:nvPr/>
        </p:nvSpPr>
        <p:spPr>
          <a:xfrm>
            <a:off x="-97560" y="170028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79640" y="1593720"/>
            <a:ext cx="6912000" cy="4848480"/>
          </a:xfrm>
          <a:prstGeom prst="rect">
            <a:avLst/>
          </a:prstGeom>
          <a:solidFill>
            <a:srgbClr val="3366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68360" y="213372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速读第一节，用一句话概括“什么是克隆”，作者主要采用了哪些说明方法来解说这一问题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97560" y="479736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自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97560" y="4797360"/>
            <a:ext cx="1598400" cy="459720"/>
          </a:xfrm>
          <a:prstGeom prst="rect">
            <a:avLst/>
          </a:prstGeom>
          <a:solidFill>
            <a:srgbClr val="cc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自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-97560" y="263700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作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-97560" y="33577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字词识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-97560" y="412416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克隆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4" action="ppaction://hlinksldjump"/>
          </p:cNvPr>
          <p:cNvSpPr/>
          <p:nvPr/>
        </p:nvSpPr>
        <p:spPr>
          <a:xfrm>
            <a:off x="-62640" y="563580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5" action="ppaction://hlinksldjump"/>
          </p:cNvPr>
          <p:cNvSpPr/>
          <p:nvPr/>
        </p:nvSpPr>
        <p:spPr>
          <a:xfrm>
            <a:off x="-97560" y="174780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08000" y="1484280"/>
            <a:ext cx="6912000" cy="4848480"/>
          </a:xfrm>
          <a:prstGeom prst="rect">
            <a:avLst/>
          </a:prstGeom>
          <a:solidFill>
            <a:srgbClr val="1c1c1c"/>
          </a:solidFill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23160" y="1658880"/>
            <a:ext cx="1887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ce688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fce688"/>
                </a:solidFill>
                <a:latin typeface="Times New Roman"/>
              </a:rPr>
              <a:t>、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克隆技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28880" y="2637000"/>
            <a:ext cx="3228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ce688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fce688"/>
                </a:solidFill>
                <a:latin typeface="Times New Roman"/>
              </a:rPr>
              <a:t>、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克隆技术的发展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3573360"/>
            <a:ext cx="2009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ce688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fce688"/>
                </a:solidFill>
                <a:latin typeface="Times New Roman"/>
              </a:rPr>
              <a:t>、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克隆产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4680" y="4508640"/>
            <a:ext cx="3233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ce688"/>
                </a:solidFill>
                <a:latin typeface="Tahoma"/>
              </a:rPr>
              <a:t>４、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克隆过程示意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28080" y="5337000"/>
            <a:ext cx="3843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ce688"/>
                </a:solidFill>
                <a:latin typeface="Tahoma"/>
              </a:rPr>
              <a:t>５、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克隆技术的相关报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6" action="ppaction://hlinksldjump"/>
          </p:cNvPr>
          <p:cNvSpPr/>
          <p:nvPr/>
        </p:nvSpPr>
        <p:spPr>
          <a:xfrm>
            <a:off x="-97560" y="4078440"/>
            <a:ext cx="1598400" cy="459720"/>
          </a:xfrm>
          <a:prstGeom prst="rect">
            <a:avLst/>
          </a:prstGeom>
          <a:solidFill>
            <a:srgbClr val="cc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克隆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7" action="ppaction://hlinksldjump"/>
          </p:cNvPr>
          <p:cNvSpPr/>
          <p:nvPr/>
        </p:nvSpPr>
        <p:spPr>
          <a:xfrm>
            <a:off x="-97560" y="266220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作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8" action="ppaction://hlinksldjump"/>
          </p:cNvPr>
          <p:cNvSpPr/>
          <p:nvPr/>
        </p:nvSpPr>
        <p:spPr>
          <a:xfrm>
            <a:off x="-97560" y="33829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字词识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9" action="ppaction://hlinksldjump"/>
          </p:cNvPr>
          <p:cNvSpPr/>
          <p:nvPr/>
        </p:nvSpPr>
        <p:spPr>
          <a:xfrm>
            <a:off x="-97560" y="48229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自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0" action="ppaction://hlinksldjump"/>
          </p:cNvPr>
          <p:cNvSpPr/>
          <p:nvPr/>
        </p:nvSpPr>
        <p:spPr>
          <a:xfrm>
            <a:off x="-62640" y="566100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11" action="ppaction://hlinksldjump"/>
          </p:cNvPr>
          <p:cNvSpPr/>
          <p:nvPr/>
        </p:nvSpPr>
        <p:spPr>
          <a:xfrm>
            <a:off x="-97560" y="177336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79640" y="1413000"/>
            <a:ext cx="6912000" cy="4848480"/>
          </a:xfrm>
          <a:prstGeom prst="rect">
            <a:avLst/>
          </a:prstGeom>
          <a:solidFill>
            <a:srgbClr val="3366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2560" y="1413000"/>
            <a:ext cx="691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fce688"/>
                </a:solidFill>
                <a:latin typeface="Times New Roman"/>
              </a:rPr>
              <a:t>克隆是英文 </a:t>
            </a:r>
            <a:r>
              <a:rPr b="1" lang="zh-CN" sz="2800" spc="-1" strike="noStrike">
                <a:solidFill>
                  <a:srgbClr val="fce688"/>
                </a:solidFill>
                <a:latin typeface="Times New Roman"/>
              </a:rPr>
              <a:t>clone</a:t>
            </a:r>
            <a:r>
              <a:rPr b="1" lang="zh-CN" sz="2800" spc="-1" strike="noStrike">
                <a:solidFill>
                  <a:srgbClr val="fce688"/>
                </a:solidFill>
                <a:latin typeface="Times New Roman"/>
              </a:rPr>
              <a:t>的音译，简单讲就是一种人工诱导的无性繁殖方式。但克隆与无性繁殖是不同的。无性繁殖是指不经过雌雄两性生殖细胞的结合、只由一个生物体产生后代的生殖方式，常见的有孢子生殖、出芽生殖和分裂生殖。由植物的根、茎、叶等经过压条或嫁接等方式产生新个体也叫无性繁殖。绵羊、猴子和牛等动物没有人工操作是不能进行无性繁殖的。科学家把人工遗传操作动物的繁殖过程叫克隆，这门生物技术叫</a:t>
            </a: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克隆技术</a:t>
            </a:r>
            <a:r>
              <a:rPr b="1" lang="zh-CN" sz="2800" spc="-1" strike="noStrike">
                <a:solidFill>
                  <a:srgbClr val="fce688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fce68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-97560" y="4005360"/>
            <a:ext cx="1598400" cy="459720"/>
          </a:xfrm>
          <a:prstGeom prst="rect">
            <a:avLst/>
          </a:prstGeom>
          <a:solidFill>
            <a:srgbClr val="cc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克隆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-97560" y="25891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作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3" action="ppaction://hlinksldjump"/>
          </p:cNvPr>
          <p:cNvSpPr/>
          <p:nvPr/>
        </p:nvSpPr>
        <p:spPr>
          <a:xfrm>
            <a:off x="-97560" y="330984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字词识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4" action="ppaction://hlinksldjump"/>
          </p:cNvPr>
          <p:cNvSpPr/>
          <p:nvPr/>
        </p:nvSpPr>
        <p:spPr>
          <a:xfrm>
            <a:off x="-97560" y="474984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自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5" action="ppaction://hlinksldjump"/>
          </p:cNvPr>
          <p:cNvSpPr/>
          <p:nvPr/>
        </p:nvSpPr>
        <p:spPr>
          <a:xfrm>
            <a:off x="-62640" y="55879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6" action="ppaction://hlinksldjump"/>
          </p:cNvPr>
          <p:cNvSpPr/>
          <p:nvPr/>
        </p:nvSpPr>
        <p:spPr>
          <a:xfrm>
            <a:off x="-97560" y="170028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79640" y="1593720"/>
            <a:ext cx="6912000" cy="4848480"/>
          </a:xfrm>
          <a:prstGeom prst="rect">
            <a:avLst/>
          </a:prstGeom>
          <a:solidFill>
            <a:srgbClr val="3366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44720" y="1663560"/>
            <a:ext cx="709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93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：德国科学家首次提出克隆设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95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：科学家开始用青蛙进行克隆实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97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：克隆青蛙实验取得突破，青蛙卵发育成了蝌蚪，但是在开始进食以后死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98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：科学家进行克隆鼠实验，据称用鼠胚胎细胞培育出了正常的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98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：第一只胚胎克隆羊诞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99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日：英国罗斯林研究所宣布克隆羊培育成功。科学家用取自一只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岁成年羊的乳腺细胞培育成功一只克隆羊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-97560" y="4005360"/>
            <a:ext cx="1598400" cy="459720"/>
          </a:xfrm>
          <a:prstGeom prst="rect">
            <a:avLst/>
          </a:prstGeom>
          <a:solidFill>
            <a:srgbClr val="cc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克隆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-97560" y="25891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作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3" action="ppaction://hlinksldjump"/>
          </p:cNvPr>
          <p:cNvSpPr/>
          <p:nvPr/>
        </p:nvSpPr>
        <p:spPr>
          <a:xfrm>
            <a:off x="-97560" y="330984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字词识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4" action="ppaction://hlinksldjump"/>
          </p:cNvPr>
          <p:cNvSpPr/>
          <p:nvPr/>
        </p:nvSpPr>
        <p:spPr>
          <a:xfrm>
            <a:off x="-97560" y="474984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自读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5" action="ppaction://hlinksldjump"/>
          </p:cNvPr>
          <p:cNvSpPr/>
          <p:nvPr/>
        </p:nvSpPr>
        <p:spPr>
          <a:xfrm>
            <a:off x="-62640" y="558792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6" action="ppaction://hlinksldjump"/>
          </p:cNvPr>
          <p:cNvSpPr/>
          <p:nvPr/>
        </p:nvSpPr>
        <p:spPr>
          <a:xfrm>
            <a:off x="-97560" y="1700280"/>
            <a:ext cx="15984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07:52:37Z</dcterms:created>
  <dc:creator>语文备课大师 www.xiexingcun.com【全免费】</dc:creator>
  <dc:description>语文备课大师 www.xiexingcun.com【全免费】</dc:description>
  <dc:language>en-US</dc:language>
  <cp:lastModifiedBy>微软用户</cp:lastModifiedBy>
  <dcterms:modified xsi:type="dcterms:W3CDTF">2015-01-10T00:05:03Z</dcterms:modified>
  <cp:revision>0</cp:revision>
  <dc:subject/>
  <dc:title>语文备课大师 www.xiexingcun.com【全免费】</dc:title>
</cp:coreProperties>
</file>