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chimes.wav" ContentType="audio/x-wav"/>
  <Override PartName="/ppt/media/image7.png" ContentType="image/png"/>
  <Override PartName="/ppt/media/type.wav" ContentType="audio/x-wav"/>
  <Override PartName="/ppt/media/camera.wav" ContentType="audio/x-wav"/>
  <Override PartName="/ppt/media/projcto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F17-C6EF-4423-A785-DD15FC2D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7100-FFFE-4A58-9541-739299F8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D50-57DE-4385-B0D7-315F4361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206-0BCF-4B37-BFA0-B4A3C40E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C013-DC22-4874-856C-94FBC47D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A627-6FC1-4C5A-8FB5-6E6D0A19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6C5B-89BF-4BB4-B940-D108D1C5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310E-BF66-4597-95C4-8575A8BA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42BC-0E45-4AEB-9108-30F4823A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CF89-8588-4526-A262-C2B6ADC4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A0F2-6776-4DB5-A328-67FA4364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0BB7-6A91-4F2D-B27E-8BCF2841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1076-D17C-40A6-B626-C7673ED3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5131-9CBB-4C06-9F48-3F83EBCB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270E-5E76-4ED5-B46C-FC1F9E3C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00E5-8141-4046-A995-DFB0CF81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398F-A6CE-423E-A299-F6BC3DB0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443-C989-493D-986B-19F921F3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3C2-5F3A-43B3-A48F-BE8AE066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75B-6829-47CD-A23B-A9E5FAD8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0A5-3B44-45F6-BC7E-BB73CDF5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610C-4129-4D26-8EE0-E5048186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7B8-A8F6-4891-B427-9353A230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AAD-64A0-4763-8C4F-E7C1B64F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6218-6178-414E-BA9A-D90960E51145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9811-F1E6-47C2-8511-FC9B82BA4DDA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projctor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projctor.wav"/><Relationship Id="rId9" Type="http://schemas.openxmlformats.org/officeDocument/2006/relationships/audio" Target="../media/camera.wav"/><Relationship Id="rId10" Type="http://schemas.openxmlformats.org/officeDocument/2006/relationships/audio" Target="../media/type.wav"/><Relationship Id="rId11" Type="http://schemas.openxmlformats.org/officeDocument/2006/relationships/audio" Target="../media/projctor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projctor.wav"/><Relationship Id="rId15" Type="http://schemas.openxmlformats.org/officeDocument/2006/relationships/audio" Target="../media/camera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&#12298;&#26691;&#33457;&#28304;&#35760;&#12299;.sw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8"/>
          <p:cNvSpPr txBox="1"/>
          <p:nvPr/>
        </p:nvSpPr>
        <p:spPr>
          <a:xfrm>
            <a:off x="1476360" y="2133720"/>
            <a:ext cx="6624720" cy="153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50760">
                  <a:solidFill>
                    <a:srgbClr val="00ff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老师、同学们，大家好！</a:t>
            </a:r>
            <a:endParaRPr b="0" lang="en-US" sz="1800" spc="1" strike="noStrike">
              <a:ln w="50760">
                <a:solidFill>
                  <a:srgbClr val="00ff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8"/>
          <p:cNvSpPr txBox="1"/>
          <p:nvPr/>
        </p:nvSpPr>
        <p:spPr>
          <a:xfrm>
            <a:off x="2521080" y="2997360"/>
            <a:ext cx="5761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再读课文，积累文言词语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611280" y="404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隶书"/>
              </a:rPr>
              <a:t>古今异义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6000" y="1916280"/>
            <a:ext cx="29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60360" y="126828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46160" y="31860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3080" y="30416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71280" y="1413000"/>
            <a:ext cx="48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缘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溪行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芳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鲜美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此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阡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交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妻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邑人来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绝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乃不知有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魏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村中闻有此人，咸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问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遂与外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间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各人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延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至其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5329080" y="69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84800" y="4046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隶书"/>
              </a:rPr>
              <a:t>一词多义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36"/>
          <p:cNvSpPr/>
          <p:nvPr/>
        </p:nvSpPr>
        <p:spPr>
          <a:xfrm>
            <a:off x="4948200" y="156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37"/>
          <p:cNvSpPr/>
          <p:nvPr/>
        </p:nvSpPr>
        <p:spPr>
          <a:xfrm>
            <a:off x="5309280" y="1268280"/>
            <a:ext cx="23436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船，从口入②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俨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处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志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寻向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寻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向所志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未果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寻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病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复前行，欲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既出，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武陵人捕鱼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不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外人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此人一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具言所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AutoShape 38"/>
          <p:cNvSpPr/>
          <p:nvPr/>
        </p:nvSpPr>
        <p:spPr>
          <a:xfrm>
            <a:off x="5137200" y="1581120"/>
            <a:ext cx="183960" cy="380880"/>
          </a:xfrm>
          <a:custGeom>
            <a:avLst/>
            <a:gdLst>
              <a:gd name="textAreaLeft" fmla="*/ 117720 w 183960"/>
              <a:gd name="textAreaRight" fmla="*/ 184320 w 1839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5092560" y="242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AutoShape 40"/>
          <p:cNvSpPr/>
          <p:nvPr/>
        </p:nvSpPr>
        <p:spPr>
          <a:xfrm>
            <a:off x="5137200" y="2444760"/>
            <a:ext cx="183960" cy="380880"/>
          </a:xfrm>
          <a:custGeom>
            <a:avLst/>
            <a:gdLst>
              <a:gd name="textAreaLeft" fmla="*/ 117720 w 183960"/>
              <a:gd name="textAreaRight" fmla="*/ 184320 w 1839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Text Box 41"/>
          <p:cNvSpPr/>
          <p:nvPr/>
        </p:nvSpPr>
        <p:spPr>
          <a:xfrm>
            <a:off x="5092560" y="3289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AutoShape 42"/>
          <p:cNvSpPr/>
          <p:nvPr/>
        </p:nvSpPr>
        <p:spPr>
          <a:xfrm>
            <a:off x="5137200" y="3308400"/>
            <a:ext cx="183960" cy="380880"/>
          </a:xfrm>
          <a:custGeom>
            <a:avLst/>
            <a:gdLst>
              <a:gd name="textAreaLeft" fmla="*/ 117720 w 183960"/>
              <a:gd name="textAreaRight" fmla="*/ 184320 w 1839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5092560" y="4081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AutoShape 44"/>
          <p:cNvSpPr/>
          <p:nvPr/>
        </p:nvSpPr>
        <p:spPr>
          <a:xfrm>
            <a:off x="5137200" y="4173480"/>
            <a:ext cx="183960" cy="380880"/>
          </a:xfrm>
          <a:custGeom>
            <a:avLst/>
            <a:gdLst>
              <a:gd name="textAreaLeft" fmla="*/ 117720 w 183960"/>
              <a:gd name="textAreaRight" fmla="*/ 184320 w 1839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AutoShape 46"/>
          <p:cNvSpPr/>
          <p:nvPr/>
        </p:nvSpPr>
        <p:spPr>
          <a:xfrm>
            <a:off x="5040360" y="5216400"/>
            <a:ext cx="287280" cy="381240"/>
          </a:xfrm>
          <a:custGeom>
            <a:avLst/>
            <a:gdLst>
              <a:gd name="textAreaLeft" fmla="*/ 183600 w 287280"/>
              <a:gd name="textAreaRight" fmla="*/ 287640 w 287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763640" y="260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隶书"/>
              </a:rPr>
              <a:t>古今异义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657440" y="2997360"/>
            <a:ext cx="29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芳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鲜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392720" y="414972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味道鲜美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32840" y="1268280"/>
            <a:ext cx="15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缘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溪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033800" y="2421000"/>
            <a:ext cx="37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缘故、缘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218320" y="4508640"/>
            <a:ext cx="14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此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4249800" y="551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这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212004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缘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808360" y="220500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2952720" y="3789360"/>
            <a:ext cx="304920" cy="719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952720" y="530064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2059200" y="386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鲜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2059200" y="530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此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3129120" y="1916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古义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3129120" y="242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今义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3489480" y="35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古义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3489480" y="407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今义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3273480" y="508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古义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3273480" y="551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今义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5024160" y="191628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沿，沿着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5311080" y="357336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鲜艳美丽。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4972320" y="510840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像这样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1438200" y="189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隶书"/>
              </a:rPr>
              <a:t>古今异义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11280" y="1197000"/>
            <a:ext cx="29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阡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交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916360" y="2205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往来通达，或各种运输的总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642320" y="2781360"/>
            <a:ext cx="29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率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妻子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邑人来此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绝境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443640" y="3862440"/>
            <a:ext cx="38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没有出路的地方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419560" y="4365720"/>
            <a:ext cx="185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乃不知有汉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无论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魏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771640" y="5518080"/>
            <a:ext cx="48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是表条件关系的关联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95076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1169280" y="2008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交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2197080" y="1773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古义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2197080" y="2205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今义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1054800" y="3286080"/>
            <a:ext cx="8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妻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1044360" y="3862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绝境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7715880" y="33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专指男子的配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2033640" y="33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古义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Text Box 24"/>
          <p:cNvSpPr/>
          <p:nvPr/>
        </p:nvSpPr>
        <p:spPr>
          <a:xfrm>
            <a:off x="6207120" y="307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5611680" y="395460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今义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3277440" y="3933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与世隔绝的地方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2055240" y="388296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古义：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5538600" y="337824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今义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Text Box 29"/>
          <p:cNvSpPr/>
          <p:nvPr/>
        </p:nvSpPr>
        <p:spPr>
          <a:xfrm>
            <a:off x="1887480" y="2211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AutoShape 30"/>
          <p:cNvSpPr/>
          <p:nvPr/>
        </p:nvSpPr>
        <p:spPr>
          <a:xfrm>
            <a:off x="1860480" y="2157480"/>
            <a:ext cx="184320" cy="380880"/>
          </a:xfrm>
          <a:custGeom>
            <a:avLst/>
            <a:gdLst>
              <a:gd name="textAreaLeft" fmla="*/ 117720 w 184320"/>
              <a:gd name="textAreaRight" fmla="*/ 184680 w 184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828000" y="5302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1981080" y="5013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古义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33"/>
          <p:cNvSpPr/>
          <p:nvPr/>
        </p:nvSpPr>
        <p:spPr>
          <a:xfrm>
            <a:off x="1981080" y="551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今义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34"/>
          <p:cNvSpPr/>
          <p:nvPr/>
        </p:nvSpPr>
        <p:spPr>
          <a:xfrm>
            <a:off x="159876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AutoShape 35"/>
          <p:cNvSpPr/>
          <p:nvPr/>
        </p:nvSpPr>
        <p:spPr>
          <a:xfrm>
            <a:off x="1643040" y="5397480"/>
            <a:ext cx="184320" cy="380880"/>
          </a:xfrm>
          <a:custGeom>
            <a:avLst/>
            <a:gdLst>
              <a:gd name="textAreaLeft" fmla="*/ 117720 w 184320"/>
              <a:gd name="textAreaRight" fmla="*/ 184680 w 184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3276720" y="3286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指妻子和儿女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3349440" y="177336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交错相通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38"/>
          <p:cNvSpPr/>
          <p:nvPr/>
        </p:nvSpPr>
        <p:spPr>
          <a:xfrm>
            <a:off x="2843280" y="501336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不用说、更不用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1835280" y="260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隶书"/>
              </a:rPr>
              <a:t>古今异义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152360" y="2781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遂与外人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间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672000" y="350028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隔断，隔开。　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463560" y="1268280"/>
            <a:ext cx="13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村中闻有此人，咸来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问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600360" y="1844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询问消息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274840" y="4437000"/>
            <a:ext cx="185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各人复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延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至其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40000" y="56610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延长，延伸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2448000" y="2060640"/>
            <a:ext cx="88920" cy="718920"/>
          </a:xfrm>
          <a:custGeom>
            <a:avLst/>
            <a:gdLst>
              <a:gd name="textAreaLeft" fmla="*/ 56880 w 88920"/>
              <a:gd name="textAreaRight" fmla="*/ 89280 w 8892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1533960" y="213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问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2738520" y="1844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古义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273852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今义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1462680" y="36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间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2717640" y="3376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古义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2665440" y="386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今义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1523520" y="5334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2502000" y="510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古义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502000" y="560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今义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2212920" y="365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AutoShape 24"/>
          <p:cNvSpPr/>
          <p:nvPr/>
        </p:nvSpPr>
        <p:spPr>
          <a:xfrm>
            <a:off x="2376360" y="3645000"/>
            <a:ext cx="88920" cy="718920"/>
          </a:xfrm>
          <a:custGeom>
            <a:avLst/>
            <a:gdLst>
              <a:gd name="textAreaLeft" fmla="*/ 56880 w 88920"/>
              <a:gd name="textAreaRight" fmla="*/ 89280 w 8892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AutoShape 25"/>
          <p:cNvSpPr/>
          <p:nvPr/>
        </p:nvSpPr>
        <p:spPr>
          <a:xfrm>
            <a:off x="2087640" y="530064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3600360" y="234936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询问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Text Box 27"/>
          <p:cNvSpPr/>
          <p:nvPr/>
        </p:nvSpPr>
        <p:spPr>
          <a:xfrm>
            <a:off x="3798360" y="3879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距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376344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邀请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973160" y="3333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隶书"/>
              </a:rPr>
              <a:t>一词多义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224000" y="1844640"/>
            <a:ext cx="29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368360" y="119700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154160" y="31147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081080" y="29703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1368360" y="1268280"/>
            <a:ext cx="76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708200" y="2282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1512720" y="1413000"/>
            <a:ext cx="3756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船，从口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俨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处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志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寻向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寻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向所志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未果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寻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病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复前行，欲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既出，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武陵人捕鱼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不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外人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此人一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具言所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204920" y="141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1512720" y="155736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1512720" y="2421000"/>
            <a:ext cx="88920" cy="718920"/>
          </a:xfrm>
          <a:custGeom>
            <a:avLst/>
            <a:gdLst>
              <a:gd name="textAreaLeft" fmla="*/ 56880 w 88920"/>
              <a:gd name="textAreaRight" fmla="*/ 89280 w 8892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1512720" y="321300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1512720" y="414972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1368360" y="5013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6765480" y="1341360"/>
            <a:ext cx="83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放弃、舍弃，动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5601240" y="184464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房屋，名词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672520" y="234936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作标记，动词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862600" y="278136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标记、记号，名词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5528520" y="321300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寻找，动词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6513840" y="364500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随即、不久，副词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585216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这、那）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681880" y="450864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他的，代渔人的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040360" y="4941720"/>
            <a:ext cx="30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作为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5400360" y="530064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对，向）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5330880" y="566100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给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WordArt 3" descr=""/>
          <p:cNvPicPr/>
          <p:nvPr/>
        </p:nvPicPr>
        <p:blipFill>
          <a:blip r:embed="rId2"/>
          <a:stretch/>
        </p:blipFill>
        <p:spPr>
          <a:xfrm>
            <a:off x="1919160" y="1407960"/>
            <a:ext cx="691380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8661240" y="4460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31960" y="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7572"/>
                </a:solidFill>
                <a:latin typeface="Times New Roman"/>
                <a:ea typeface="华文彩云"/>
              </a:rPr>
              <a:t>文章结构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031840" y="8269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690480" y="771480"/>
            <a:ext cx="3348000" cy="1643040"/>
          </a:xfrm>
          <a:prstGeom prst="smileyFace">
            <a:avLst>
              <a:gd name="adj" fmla="val 9282"/>
            </a:avLst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209600" y="2978280"/>
            <a:ext cx="3348000" cy="1643040"/>
          </a:xfrm>
          <a:prstGeom prst="smileyFace">
            <a:avLst>
              <a:gd name="adj" fmla="val 9282"/>
            </a:avLst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1438200" y="5208480"/>
            <a:ext cx="3348000" cy="1643040"/>
          </a:xfrm>
          <a:prstGeom prst="smileyFace">
            <a:avLst>
              <a:gd name="adj" fmla="val 9282"/>
            </a:avLst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6093000" y="5208480"/>
            <a:ext cx="3348000" cy="1643040"/>
          </a:xfrm>
          <a:prstGeom prst="smileyFace">
            <a:avLst>
              <a:gd name="adj" fmla="val 9282"/>
            </a:avLst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5940360" y="1682640"/>
            <a:ext cx="3497400" cy="1643040"/>
          </a:xfrm>
          <a:prstGeom prst="smileyFace">
            <a:avLst>
              <a:gd name="adj" fmla="val -4652"/>
            </a:avLst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84280" y="24271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444600" y="4645080"/>
            <a:ext cx="183960" cy="592200"/>
          </a:xfrm>
          <a:custGeom>
            <a:avLst/>
            <a:gdLst>
              <a:gd name="textAreaLeft" fmla="*/ 24480 w 183960"/>
              <a:gd name="textAreaRight" fmla="*/ 159480 w 183960"/>
              <a:gd name="textAreaTop" fmla="*/ 103680 h 592200"/>
              <a:gd name="textAreaBottom" fmla="*/ 429480 h 5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AutoShape 13"/>
          <p:cNvSpPr/>
          <p:nvPr/>
        </p:nvSpPr>
        <p:spPr>
          <a:xfrm>
            <a:off x="444600" y="2664000"/>
            <a:ext cx="183960" cy="591840"/>
          </a:xfrm>
          <a:custGeom>
            <a:avLst/>
            <a:gdLst>
              <a:gd name="textAreaLeft" fmla="*/ 24480 w 183960"/>
              <a:gd name="textAreaRight" fmla="*/ 159480 w 183960"/>
              <a:gd name="textAreaTop" fmla="*/ 103320 h 591840"/>
              <a:gd name="textAreaBottom" fmla="*/ 429120 h 59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7442280" y="578016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AutoShape 15"/>
          <p:cNvSpPr/>
          <p:nvPr/>
        </p:nvSpPr>
        <p:spPr>
          <a:xfrm>
            <a:off x="4638600" y="6004080"/>
            <a:ext cx="1752840" cy="64116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160200 h 641160"/>
              <a:gd name="textAreaBottom" fmla="*/ 480960 h 641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5765760" y="41036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Tree"/>
          <p:cNvSpPr/>
          <p:nvPr/>
        </p:nvSpPr>
        <p:spPr>
          <a:xfrm>
            <a:off x="6924600" y="3352680"/>
            <a:ext cx="1295640" cy="1828800"/>
          </a:xfrm>
          <a:custGeom>
            <a:avLst/>
            <a:gdLst>
              <a:gd name="textAreaLeft" fmla="*/ 45360 w 1295640"/>
              <a:gd name="textAreaRight" fmla="*/ 1263960 w 1295640"/>
              <a:gd name="textAreaTop" fmla="*/ 1901160 h 1828800"/>
              <a:gd name="textAreaBottom" fmla="*/ 239472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9257" y="21600"/>
                </a:lnTo>
                <a:lnTo>
                  <a:pt x="12343" y="21600"/>
                </a:lnTo>
                <a:lnTo>
                  <a:pt x="21600" y="21600"/>
                </a:lnTo>
                <a:lnTo>
                  <a:pt x="12343" y="14400"/>
                </a:lnTo>
                <a:lnTo>
                  <a:pt x="18514" y="14400"/>
                </a:lnTo>
                <a:lnTo>
                  <a:pt x="12343" y="7200"/>
                </a:lnTo>
                <a:lnTo>
                  <a:pt x="15429" y="7200"/>
                </a:lnTo>
                <a:lnTo>
                  <a:pt x="10800" y="0"/>
                </a:lnTo>
                <a:lnTo>
                  <a:pt x="6171" y="7200"/>
                </a:lnTo>
                <a:lnTo>
                  <a:pt x="9257" y="7200"/>
                </a:lnTo>
                <a:lnTo>
                  <a:pt x="3086" y="14400"/>
                </a:lnTo>
                <a:lnTo>
                  <a:pt x="9257" y="144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6070680" y="1411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AutoShape 19"/>
          <p:cNvSpPr/>
          <p:nvPr/>
        </p:nvSpPr>
        <p:spPr>
          <a:xfrm>
            <a:off x="4486320" y="0"/>
            <a:ext cx="2286000" cy="1828800"/>
          </a:xfrm>
          <a:prstGeom prst="cloudCallout">
            <a:avLst>
              <a:gd name="adj1" fmla="val 94861"/>
              <a:gd name="adj2" fmla="val 36981"/>
            </a:avLst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873680" y="38088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为什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寻不到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1844640" y="1324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隶书"/>
              </a:rPr>
              <a:t>发现桃花源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1946520" y="3557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隶书"/>
              </a:rPr>
              <a:t>进入桃花源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2102040" y="57704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隶书"/>
              </a:rPr>
              <a:t>访问桃花源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6950160" y="581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隶书"/>
              </a:rPr>
              <a:t>离开桃花源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721560" y="2238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隶书"/>
              </a:rPr>
              <a:t>再寻桃花源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7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75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75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75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75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7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7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7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7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7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7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4335480" y="29034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79280" y="2421000"/>
            <a:ext cx="8533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桃花源，本来就是子虚乌有的，它是作者追求的一种美好境界，一种对现实生活不满的精神寄托。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宋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0" y="2349360"/>
            <a:ext cx="939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渔人是怎么发现桃花源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作者怎样描写桃花林的自然景色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渔人是如何进入桃花源的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渔人入山后，看到了怎样的图景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桃花源中的人是如何对待这位不速之客的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渔人一一为具言所闻，桃源人为什么“皆叹惋”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渔人是如何离开桃花源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WordArt 9"/>
          <p:cNvSpPr txBox="1"/>
          <p:nvPr/>
        </p:nvSpPr>
        <p:spPr>
          <a:xfrm>
            <a:off x="468360" y="981000"/>
            <a:ext cx="705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感知文意，合作探究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图片"/>
          <p:cNvPicPr/>
          <p:nvPr/>
        </p:nvPicPr>
        <p:blipFill>
          <a:blip r:embed="rId2"/>
          <a:stretch/>
        </p:blipFill>
        <p:spPr>
          <a:xfrm>
            <a:off x="1042920" y="449280"/>
            <a:ext cx="8101080" cy="4886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187280" y="466560"/>
            <a:ext cx="8209080" cy="46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ff"/>
                </a:solidFill>
                <a:latin typeface="Arial"/>
                <a:ea typeface="隶书"/>
              </a:rPr>
              <a:t>桃花源记</a:t>
            </a:r>
            <a:endParaRPr b="0" lang="en-US" sz="15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         </a:t>
            </a:r>
            <a:r>
              <a:rPr b="0" lang="en-US" sz="6600" spc="-1" strike="noStrike">
                <a:solidFill>
                  <a:srgbClr val="0000ff"/>
                </a:solidFill>
                <a:latin typeface="Arial"/>
                <a:ea typeface="隶书"/>
              </a:rPr>
              <a:t>——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陶渊明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403280" y="5048280"/>
            <a:ext cx="372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 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1116000" y="69228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渔人是怎么发现桃花源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368360" y="1268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隶书"/>
              </a:rPr>
              <a:t>缘溪行，忘路之远近，忽逢桃花林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081080" y="18446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作者是如何描写桃花林中的自然景色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368360" y="24210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隶书"/>
              </a:rPr>
              <a:t>夹岸数百步，中无杂树，芳草鲜美，落英缤纷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AutoShape 10"/>
          <p:cNvSpPr/>
          <p:nvPr/>
        </p:nvSpPr>
        <p:spPr>
          <a:xfrm>
            <a:off x="1008000" y="189000"/>
            <a:ext cx="609840" cy="533160"/>
          </a:xfrm>
          <a:prstGeom prst="sun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152360" y="36450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渔人是如何进入桃花源的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1297080" y="4149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0303"/>
                </a:solidFill>
                <a:latin typeface="Verdana"/>
                <a:ea typeface="隶书"/>
              </a:rPr>
              <a:t>复前行，欲穷其林。林尽水源，便得一山。山有小口，仿佛若有光。便舍船，从口入。初极狭，才通人。复行数十步，豁然开朗</a:t>
            </a:r>
            <a:r>
              <a:rPr b="1" lang="zh-CN" sz="3600" spc="-1" strike="noStrike">
                <a:solidFill>
                  <a:srgbClr val="e50303"/>
                </a:solidFill>
                <a:latin typeface="Verdana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7223760" y="587700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（曲折、隐蔽、幽深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5596920" y="2924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（风景幽美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7"/>
          <p:cNvSpPr/>
          <p:nvPr/>
        </p:nvSpPr>
        <p:spPr>
          <a:xfrm>
            <a:off x="1224000" y="476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渔人入山后，看到了怎样的图景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440000" y="981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隶书"/>
              </a:rPr>
              <a:t>土地平旷，屋舍俨然，有良田美池桑竹之属，阡陌交通，鸡犬相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1116000" y="393372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桃花源中的人是如何对待这位不速之客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297080" y="4437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隶书"/>
              </a:rPr>
              <a:t>便要还家，设酒杀鸡作食，村中闻有此人，咸来问讯。余人各复延至其家，皆出酒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AutoShape 11"/>
          <p:cNvSpPr/>
          <p:nvPr/>
        </p:nvSpPr>
        <p:spPr>
          <a:xfrm>
            <a:off x="828720" y="0"/>
            <a:ext cx="609480" cy="53352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1440000" y="2060640"/>
            <a:ext cx="81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其中往来种作，男女衣着，悉如外人，黄发垂髫，并怡然自乐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5352120" y="32068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（环境优美宁静、生活安乐幸福）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5292360" y="5589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（民风淳朴、热情好客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1512720" y="6206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渔人一一为具言所闻，桃源人为什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皆叹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800360" y="184464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桃源外的世界如此动乱，黑暗；桃源外的人不能过上安定和平的生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3870000" y="3789360"/>
            <a:ext cx="68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渔人是如何离开桃花源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871640" y="4508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处处志之，寻向所志，遂迷，不复得路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1008000" y="260280"/>
            <a:ext cx="609840" cy="609840"/>
          </a:xfrm>
          <a:custGeom>
            <a:avLst/>
            <a:gdLst>
              <a:gd name="textAreaLeft" fmla="*/ 142200 w 609840"/>
              <a:gd name="textAreaRight" fmla="*/ 467640 w 609840"/>
              <a:gd name="textAreaTop" fmla="*/ 64080 h 609840"/>
              <a:gd name="textAreaBottom" fmla="*/ 386280 h 609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2052720" y="914400"/>
            <a:ext cx="647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824120" y="1523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Verdana"/>
                <a:ea typeface="隶书"/>
              </a:rPr>
              <a:t>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2644920" y="6206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2284560" y="2354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3371040" y="765000"/>
            <a:ext cx="4298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99"/>
                </a:solidFill>
                <a:latin typeface="华文行楷"/>
                <a:ea typeface="华文行楷"/>
              </a:rPr>
              <a:t>文中的桃花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99"/>
                </a:solidFill>
                <a:latin typeface="华文行楷"/>
                <a:ea typeface="华文行楷"/>
              </a:rPr>
              <a:t>源是个什么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99"/>
                </a:solidFill>
                <a:latin typeface="华文行楷"/>
                <a:ea typeface="华文行楷"/>
              </a:rPr>
              <a:t>样的地方 </a:t>
            </a:r>
            <a:r>
              <a:rPr b="1" lang="en-US" sz="9600" spc="-1" strike="noStrike">
                <a:solidFill>
                  <a:srgbClr val="003399"/>
                </a:solidFill>
                <a:latin typeface="华文行楷"/>
                <a:ea typeface="华文行楷"/>
              </a:rPr>
              <a:t>?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2052720" y="914400"/>
            <a:ext cx="647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824120" y="1523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Verdana"/>
                <a:ea typeface="隶书"/>
              </a:rPr>
              <a:t>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2284560" y="2354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2644920" y="242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1152360" y="907920"/>
            <a:ext cx="846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隶书"/>
              </a:rPr>
              <a:t>桃花源是个风景优美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隶书"/>
              </a:rPr>
              <a:t>民风淳朴、宁静安乐的理想社会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1297080" y="1052640"/>
            <a:ext cx="79246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全文以武陵渔人进出桃源的行踪为线索，描绘了一个幽美的世外桃源，表现了作者对黑暗社会现实的不满，向往自由美好的生活，寄托了自己的政治理想，反映了广大人民的意愿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190160" y="260280"/>
            <a:ext cx="146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小结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7"/>
          <p:cNvSpPr/>
          <p:nvPr/>
        </p:nvSpPr>
        <p:spPr>
          <a:xfrm>
            <a:off x="1081080" y="155736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生活在东晋的陶渊明描绘了这样美好的境界，却是并不存在的，而生活在今天的你们，已经拥有了美好幸福的今天，一定对明天有着更为美好的憧憬。你希望自己生活的未来社会是什么样的呢？请用美丽的语言加以描绘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WordArt 8"/>
          <p:cNvSpPr txBox="1"/>
          <p:nvPr/>
        </p:nvSpPr>
        <p:spPr>
          <a:xfrm>
            <a:off x="2305080" y="260280"/>
            <a:ext cx="475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507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宋体"/>
              </a:rPr>
              <a:t>拓展延伸</a:t>
            </a:r>
            <a:endParaRPr b="0" lang="en-US" sz="1800" spc="1" strike="noStrike">
              <a:ln w="507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6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6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250920" y="1052640"/>
            <a:ext cx="83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这节课，我们走近了陶渊明，了解了陶渊明。虽然陶渊明向往的理想社会还带有这样那样的局限性，但他对理想的追求，对黑暗现实的否定，还是值得肯定的。岁月流逝，沧海桑田。多少年过去了，于东晋时代相比，如今的中国已经发生了天翻地覆的变化。毛泽东同志有这样的诗句 ：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“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陶令不知何处去，桃花源里可耕田。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”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 原来自认为遥不可及的愿望，经过百般付出和努力是可以实现的。同学们，让我们为建设自己心目中和谐的、理想的桃花源而努力吧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3630240" y="331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隶书"/>
              </a:rPr>
              <a:t>结语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3024360" y="2349360"/>
            <a:ext cx="579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ff00ff"/>
                </a:solidFill>
                <a:latin typeface="Times New Roman"/>
                <a:ea typeface="华文琥珀"/>
              </a:rPr>
              <a:t>世外桃源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11280" y="47628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从课文题目中，你能联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想到一个什么成语？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944720" y="400536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原指与现实社会隔绝、生活安乐的理想境界。后亦指环境幽静，生活安逸的地方。亦指幻想中的美好世界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684360" y="404640"/>
            <a:ext cx="8208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隶书"/>
              </a:rPr>
              <a:t>学习目标：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正确、流利地朗读课文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积累文言词语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研读课文，整体把握文章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理解作者笔下的社会理想及作者寄托的思想感情。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4"/>
          <p:cNvGraphicFramePr/>
          <p:nvPr/>
        </p:nvGraphicFramePr>
        <p:xfrm>
          <a:off x="2232000" y="836640"/>
          <a:ext cx="6553080" cy="25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32000" y="836640"/>
                    <a:ext cx="65530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6"/>
          <p:cNvSpPr/>
          <p:nvPr/>
        </p:nvSpPr>
        <p:spPr>
          <a:xfrm>
            <a:off x="5342040" y="32004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327640" y="3213000"/>
            <a:ext cx="368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陶渊明，名潜，字元亮，东晋伟大诗人。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WordArt 10"/>
          <p:cNvSpPr txBox="1"/>
          <p:nvPr/>
        </p:nvSpPr>
        <p:spPr>
          <a:xfrm>
            <a:off x="4103640" y="1700280"/>
            <a:ext cx="28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者简介：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" name="Picture 12" descr="图片19"/>
          <p:cNvPicPr/>
          <p:nvPr/>
        </p:nvPicPr>
        <p:blipFill>
          <a:blip r:embed="rId4"/>
          <a:stretch/>
        </p:blipFill>
        <p:spPr>
          <a:xfrm>
            <a:off x="1584360" y="3357720"/>
            <a:ext cx="396252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5257800" y="228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陶渊明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少时颇有壮志，博学能文，任性不羁。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227560" y="1773360"/>
            <a:ext cx="399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但由于当时社会动荡不安，他空有才智却难以施展。他曾做过小官，但因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不为五斗米折腰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，而弃官回乡从此过起了田园式的隐居生活。后人称其为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靖节先生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或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五柳先生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Picture 5" descr="图片2"/>
          <p:cNvPicPr/>
          <p:nvPr/>
        </p:nvPicPr>
        <p:blipFill>
          <a:blip r:embed="rId2"/>
          <a:stretch/>
        </p:blipFill>
        <p:spPr>
          <a:xfrm>
            <a:off x="76320" y="0"/>
            <a:ext cx="4932360" cy="645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2317680" y="2230560"/>
            <a:ext cx="45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63640" y="198900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新宋体"/>
              </a:rPr>
              <a:t>　 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本文写作年代大约是宋永初二年（</a:t>
            </a:r>
            <a:r>
              <a:rPr b="0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421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年），其时陶渊明已经五十七岁了。他拒绝同刘裕的宋政权合作，不满黑暗的政治现实，同时由于他和农民接近，理解他们追求理想的愿望，所以写了这篇记和诗。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529280" y="9619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写作背景：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1771560" y="836640"/>
            <a:ext cx="535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初读课文，正确朗读</a:t>
            </a:r>
            <a:r>
              <a:rPr b="0" lang="zh-CN" sz="72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31640" y="2062080"/>
            <a:ext cx="77774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要求：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“须要读得字字响亮，不可误一字，不可少一字。不可多一字，不可倒一字，不可牵强暗记。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朱熹  语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2666160" y="1844640"/>
            <a:ext cx="49356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 u="sng">
                <a:solidFill>
                  <a:srgbClr val="cc0066"/>
                </a:solidFill>
                <a:uFillTx/>
                <a:latin typeface="Arial"/>
                <a:ea typeface="隶书"/>
                <a:hlinkClick r:id="rId2"/>
              </a:rPr>
              <a:t>桃花源记</a:t>
            </a:r>
            <a:endParaRPr b="0" lang="en-US" sz="15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470320" y="22212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学生朗读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语文备课大师 www.xiexingcun.com【全免费】</dc:creator>
  <dc:description>语文备课大师 www.xiexingcun.com【全免费】</dc:description>
  <dc:language>en-US</dc:language>
  <cp:lastModifiedBy>备课大师</cp:lastModifiedBy>
  <dcterms:modified xsi:type="dcterms:W3CDTF">2015-03-06T06:46:15Z</dcterms:modified>
  <cp:revision>1</cp:revision>
  <dc:subject/>
  <dc:title>语文备课大师 www.xiexingcun.com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