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>
            <a:hlinkClick r:id="" action="ppaction://hlinkshowjump?jump=previousslide"/>
          </p:cNvPr>
          <p:cNvSpPr/>
          <p:nvPr/>
        </p:nvSpPr>
        <p:spPr>
          <a:xfrm rot="10800000">
            <a:off x="8155080" y="626724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>
            <a:hlinkClick r:id="" action="ppaction://hlinkshowjump?jump=nextslide"/>
          </p:cNvPr>
          <p:cNvSpPr/>
          <p:nvPr/>
        </p:nvSpPr>
        <p:spPr>
          <a:xfrm>
            <a:off x="8640720" y="626760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>
            <a:hlinkClick r:id="" action="ppaction://hlinkshowjump?jump=firstslide"/>
          </p:cNvPr>
          <p:cNvSpPr/>
          <p:nvPr/>
        </p:nvSpPr>
        <p:spPr>
          <a:xfrm>
            <a:off x="7732800" y="6232680"/>
            <a:ext cx="172800" cy="196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01080" y="115920"/>
            <a:ext cx="720720" cy="1443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endshow"/>
          </p:cNvPr>
          <p:cNvSpPr/>
          <p:nvPr/>
        </p:nvSpPr>
        <p:spPr>
          <a:xfrm>
            <a:off x="8096760" y="57240"/>
            <a:ext cx="7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9999"/>
                </a:solidFill>
                <a:latin typeface="Arial"/>
                <a:ea typeface="宋体"/>
              </a:rPr>
              <a:t>按</a:t>
            </a:r>
            <a:r>
              <a:rPr b="0" lang="en-US" sz="1000" spc="-1" strike="noStrike">
                <a:solidFill>
                  <a:srgbClr val="009999"/>
                </a:solidFill>
                <a:latin typeface="Arial"/>
                <a:ea typeface="宋体"/>
              </a:rPr>
              <a:t>ESC</a:t>
            </a:r>
            <a:r>
              <a:rPr b="0" lang="zh-CN" sz="1000" spc="-1" strike="noStrike">
                <a:solidFill>
                  <a:srgbClr val="009999"/>
                </a:solidFill>
                <a:latin typeface="Arial"/>
                <a:ea typeface="宋体"/>
              </a:rPr>
              <a:t>退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7896240" y="6234120"/>
            <a:ext cx="173160" cy="196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706880" y="6172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首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2195640" y="6176880"/>
            <a:ext cx="1038240" cy="31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知识积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3336840" y="6176880"/>
            <a:ext cx="1038240" cy="314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综合探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previousslide"/>
          </p:cNvPr>
          <p:cNvSpPr/>
          <p:nvPr/>
        </p:nvSpPr>
        <p:spPr>
          <a:xfrm rot="10800000">
            <a:off x="8155080" y="626724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8640720" y="626760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732800" y="6232680"/>
            <a:ext cx="172800" cy="196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01080" y="115920"/>
            <a:ext cx="720720" cy="1443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endshow"/>
          </p:cNvPr>
          <p:cNvSpPr/>
          <p:nvPr/>
        </p:nvSpPr>
        <p:spPr>
          <a:xfrm>
            <a:off x="8096760" y="57240"/>
            <a:ext cx="7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9999"/>
                </a:solidFill>
                <a:latin typeface="Arial"/>
                <a:ea typeface="宋体"/>
              </a:rPr>
              <a:t>按</a:t>
            </a:r>
            <a:r>
              <a:rPr b="0" lang="en-US" sz="1000" spc="-1" strike="noStrike">
                <a:solidFill>
                  <a:srgbClr val="009999"/>
                </a:solidFill>
                <a:latin typeface="Arial"/>
                <a:ea typeface="宋体"/>
              </a:rPr>
              <a:t>ESC</a:t>
            </a:r>
            <a:r>
              <a:rPr b="0" lang="zh-CN" sz="1000" spc="-1" strike="noStrike">
                <a:solidFill>
                  <a:srgbClr val="009999"/>
                </a:solidFill>
                <a:latin typeface="Arial"/>
                <a:ea typeface="宋体"/>
              </a:rPr>
              <a:t>退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896240" y="6234120"/>
            <a:ext cx="173160" cy="196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706880" y="6172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首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6176880"/>
            <a:ext cx="1038240" cy="314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知识积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36840" y="6176880"/>
            <a:ext cx="1038240" cy="31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综合探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483080" y="6176880"/>
            <a:ext cx="1038240" cy="31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跟踪训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 rot="10800000">
            <a:off x="8155080" y="626724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640720" y="626760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732800" y="6232680"/>
            <a:ext cx="172800" cy="196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115920"/>
            <a:ext cx="720720" cy="1443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endshow"/>
          </p:cNvPr>
          <p:cNvSpPr/>
          <p:nvPr/>
        </p:nvSpPr>
        <p:spPr>
          <a:xfrm>
            <a:off x="8096760" y="57240"/>
            <a:ext cx="7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9999"/>
                </a:solidFill>
                <a:latin typeface="Arial"/>
                <a:ea typeface="宋体"/>
              </a:rPr>
              <a:t>按</a:t>
            </a:r>
            <a:r>
              <a:rPr b="0" lang="en-US" sz="1000" spc="-1" strike="noStrike">
                <a:solidFill>
                  <a:srgbClr val="009999"/>
                </a:solidFill>
                <a:latin typeface="Arial"/>
                <a:ea typeface="宋体"/>
              </a:rPr>
              <a:t>ESC</a:t>
            </a:r>
            <a:r>
              <a:rPr b="0" lang="zh-CN" sz="1000" spc="-1" strike="noStrike">
                <a:solidFill>
                  <a:srgbClr val="009999"/>
                </a:solidFill>
                <a:latin typeface="Arial"/>
                <a:ea typeface="宋体"/>
              </a:rPr>
              <a:t>退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896240" y="6234120"/>
            <a:ext cx="173160" cy="196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7706880" y="6172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首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6176880"/>
            <a:ext cx="1038240" cy="314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知识积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36840" y="6176880"/>
            <a:ext cx="1038240" cy="314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综合探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970240" y="3392640"/>
            <a:ext cx="19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宋体"/>
              </a:rPr>
              <a:t>语   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6560" y="731880"/>
            <a:ext cx="828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e0067"/>
                </a:solidFill>
                <a:latin typeface="Arial"/>
                <a:ea typeface="宋体"/>
              </a:rPr>
              <a:t>   </a:t>
            </a:r>
            <a:r>
              <a:rPr b="1" lang="en-US" sz="4800" spc="-1" strike="noStrike">
                <a:solidFill>
                  <a:srgbClr val="fe0067"/>
                </a:solidFill>
                <a:latin typeface="Arial"/>
                <a:ea typeface="宋体"/>
              </a:rPr>
              <a:t>2013</a:t>
            </a:r>
            <a:r>
              <a:rPr b="1" lang="zh-CN" sz="4800" spc="-1" strike="noStrike">
                <a:solidFill>
                  <a:srgbClr val="fe0067"/>
                </a:solidFill>
                <a:latin typeface="Arial"/>
                <a:ea typeface="宋体"/>
              </a:rPr>
              <a:t>年浙江中考第一轮复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1785960" y="2786040"/>
          <a:ext cx="5572080" cy="1285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5960" y="2786040"/>
                    <a:ext cx="55720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66560" y="1222200"/>
            <a:ext cx="83552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关键句子翻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陈胜、吴广乃谋曰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今亡亦死，举大计亦死；等死，死国可乎？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译文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陈胜、吴广于是一起商量说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现在逃跑也是死，起义也是死；同样是死，为国事而死可以吗？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今诚以吾众诈自称公子扶苏、项燕，为天下唱，宜多应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译文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现在如果把我们这些人冒充公子扶苏、项燕的队伍，向全国发出号召，应该有很多响应的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又间令吴广之次所旁丛祠中，夜篝火，狐鸣呼曰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大楚兴，陈胜王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译文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陈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又暗中派遣吴广到戍卒驻地旁边丛林里的神庙中去，在晚上用竹笼罩着火装作鬼火，像狐狸一样叫喊着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楚复兴，陈胜为王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6560" y="1379520"/>
            <a:ext cx="8355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藉第令毋斩，而戍死者固十六七。且壮士不死即已，死即举大名耳，王侯将相宁有种乎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译文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使朝廷不杀我们，但是戍边死去的人本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要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分之六七。再说大丈夫不死便罢了，要死就要取得大名声啊，王侯将相难道有天生的贵种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5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将军身被坚执锐，伐无道，诛暴秦，复立楚国之社稷，功宜为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译文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军身披着铠甲，拿着武器，讨伐无道的秦王，推翻暴虐的秦朝，重新建立楚国，论功劳应当称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66560" y="1701720"/>
            <a:ext cx="8355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文章中心概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本课以陈胜、吴广的活动为线索，生动描述了这场起义发动的经过和起义军初期发展的迅猛形势，鲜明地揭示了这场起义的实质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一场得到广大人民支持的、反对暴力统治的农民运动，表现了陈胜卓越的组织才能和领导才能，以及敢为天下先的反抗精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文本占位符 3"/>
          <p:cNvSpPr/>
          <p:nvPr/>
        </p:nvSpPr>
        <p:spPr>
          <a:xfrm>
            <a:off x="5072040" y="500040"/>
            <a:ext cx="378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0067"/>
                </a:solidFill>
                <a:latin typeface="Arial"/>
              </a:rPr>
              <a:t>Thank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50280" y="2707920"/>
            <a:ext cx="245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陈涉世家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785960" y="2786040"/>
          <a:ext cx="5572080" cy="1285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5960" y="2786040"/>
                    <a:ext cx="55720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0920" y="979560"/>
            <a:ext cx="871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1339920"/>
          <a:ext cx="9144000" cy="367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39920"/>
                    <a:ext cx="9144000" cy="36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039760" y="1673280"/>
            <a:ext cx="100836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39760" y="2033640"/>
            <a:ext cx="72108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5280" y="2421000"/>
            <a:ext cx="72072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82920" y="2781360"/>
            <a:ext cx="72072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82920" y="3174840"/>
            <a:ext cx="136836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24120" y="3540240"/>
            <a:ext cx="72072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62200" y="3838680"/>
            <a:ext cx="15127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2920" y="4294080"/>
            <a:ext cx="223344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4653000"/>
            <a:ext cx="72072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50920" y="979560"/>
            <a:ext cx="871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844640"/>
          <a:ext cx="9144000" cy="3003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44640"/>
                    <a:ext cx="91440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2698920" y="1889280"/>
            <a:ext cx="72072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30440" y="2254320"/>
            <a:ext cx="72072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90560" y="2625840"/>
            <a:ext cx="165744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22560" y="2997360"/>
            <a:ext cx="194472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06560" y="3368520"/>
            <a:ext cx="72072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03280" y="3740040"/>
            <a:ext cx="158436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7480" y="4110120"/>
            <a:ext cx="172908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2560" y="4498920"/>
            <a:ext cx="72072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50920" y="979560"/>
            <a:ext cx="871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2060640"/>
          <a:ext cx="9144000" cy="1500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60640"/>
                    <a:ext cx="914400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516040" y="2376360"/>
            <a:ext cx="28908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2387520"/>
            <a:ext cx="72072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24120" y="2708280"/>
            <a:ext cx="287280" cy="18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49360" y="2703600"/>
            <a:ext cx="18018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35080" y="2975040"/>
            <a:ext cx="28728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83000" y="2975040"/>
            <a:ext cx="208908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79640" y="3284640"/>
            <a:ext cx="35892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27280" y="3284640"/>
            <a:ext cx="180036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50920" y="979560"/>
            <a:ext cx="871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123920"/>
          <a:ext cx="9144000" cy="4195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3920"/>
                    <a:ext cx="91440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3274920" y="1495440"/>
            <a:ext cx="72072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73680" y="1878120"/>
            <a:ext cx="144144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56000" y="2249640"/>
            <a:ext cx="158436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87640" y="2637000"/>
            <a:ext cx="72072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5240" y="3057480"/>
            <a:ext cx="72072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00720" y="3822840"/>
            <a:ext cx="72072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14560" y="4221000"/>
            <a:ext cx="194652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4626000"/>
            <a:ext cx="18018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87640" y="4941720"/>
            <a:ext cx="180036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50920" y="979560"/>
            <a:ext cx="871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42920" y="1989000"/>
          <a:ext cx="8894880" cy="2046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1989000"/>
                    <a:ext cx="8894880" cy="20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3890880" y="2298600"/>
            <a:ext cx="237672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19520" y="2658960"/>
            <a:ext cx="72072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56000" y="3019320"/>
            <a:ext cx="388944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8680" y="3666960"/>
            <a:ext cx="43344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50920" y="979560"/>
            <a:ext cx="871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1628640"/>
          <a:ext cx="9144000" cy="3453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28640"/>
                    <a:ext cx="9144000" cy="34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3675240" y="1889280"/>
            <a:ext cx="158400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02040" y="2265480"/>
            <a:ext cx="158436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03640" y="2637000"/>
            <a:ext cx="158436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4920" y="2997360"/>
            <a:ext cx="223380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178160" y="3390840"/>
            <a:ext cx="158436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92480" y="3762360"/>
            <a:ext cx="158436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84480" y="4425840"/>
            <a:ext cx="158436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51600" y="4726080"/>
            <a:ext cx="43164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02:56:00Z</dcterms:created>
  <dc:creator>User</dc:creator>
  <dc:description/>
  <cp:keywords/>
  <dc:language>en-US</dc:language>
  <cp:lastModifiedBy>深度联盟http:/sdwm.org</cp:lastModifiedBy>
  <cp:lastPrinted>1899-12-30T00:00:00Z</cp:lastPrinted>
  <dcterms:modified xsi:type="dcterms:W3CDTF">2012-12-29T06:17:54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