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C2F-0C73-4B32-A3F4-B75C57BC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829-EC1E-4362-9B6B-5FA1F923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F37-6FF9-483C-93BB-1F9E138E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CEB-AE0E-4EB0-BC83-AA418290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754-1B95-464F-A738-7A8CE3FC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68E1-07C1-4A80-BAEE-B76C0FB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6767-7436-4B80-BA9D-0722D114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F84C-96E0-4726-B3D7-2B266E6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B3DD-4EE4-4C06-8040-9BE1F8DC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4685-E066-4B01-A075-4F7ECC5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3F20-121D-4F2F-8929-FA42B07C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B7B-4C8C-4B20-9EC9-DE17A9A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838-1C54-4D27-9E8D-EC50116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F693-9AD9-4AF7-9434-A3CAC88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49F-43CE-4ECA-A7E3-24C0895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0B5-3030-4444-AAC9-DCD3A934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3CE4-E274-42A8-9E93-E8AED40F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D880-30C6-4BBF-A050-2F630584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A89A-0928-4422-8E3F-578E3D7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33CF-BE6D-4BCC-9D11-0DAC56A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A5C0-C70A-4ED9-995F-A1EAFF3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9D99-C352-41B9-A1F6-7523150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D77-6094-4E4B-AF51-EF790BF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F653-970C-473E-8BE8-A587B03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C730-AA3C-4496-93DF-8491EF0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59BD-24C2-4A74-BE6E-4434D25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2586-A6D5-49D8-A698-D0605F6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4BF0-59FE-47E2-BC36-7B6FB0E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B8F5-68A8-47C0-B59F-25D2FA9F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4F56-F208-4E11-9E18-3A86FAB6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4627-DF86-45BF-A60C-FE55DCB7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B18A-F7B6-4129-A32A-FE24A004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4C17-26F4-4CB1-9707-0D02CF3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0FC-DE4C-434F-AA05-EDCB9C7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E038-5B94-4D9E-902B-2D1811C8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2B9D-9696-46BF-AAED-DB3FAC0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7070-E06B-48D5-ACC8-045D9BE6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1885-AB70-41A8-A206-1237EFC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3CFD-C24B-4221-B0A3-1865E9F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A5D4-C71E-492B-9952-33592E5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E7DE-F4EC-428F-BA09-20AB77B0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AB5A6-2427-45A3-BAFB-8803A1A2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4F49-8B2E-45F7-B383-5AB4CFAC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146-9798-427B-8DD2-C52E9C7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028-3298-415E-8337-37CEF4E3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5B1-524F-4068-B02E-1CB5A57C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FE9-E366-44B0-BFD3-42A1213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FEF-F048-4328-B45E-271128B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02EE-6C9D-47DF-B553-F5193207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681B-E147-413A-AE90-B02A4BB3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91E-B3EF-4693-B47B-65FD738D4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51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74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CE7-F265-4B56-A716-E6D6CF3E33C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8"/>
          <p:cNvSpPr/>
          <p:nvPr/>
        </p:nvSpPr>
        <p:spPr>
          <a:xfrm>
            <a:off x="1258920" y="6524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视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556000" y="6491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自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15" descr="8"/>
          <p:cNvPicPr/>
          <p:nvPr/>
        </p:nvPicPr>
        <p:blipFill>
          <a:blip r:embed="rId1"/>
          <a:stretch/>
        </p:blipFill>
        <p:spPr>
          <a:xfrm>
            <a:off x="0" y="-3240"/>
            <a:ext cx="6443640" cy="6861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7"/>
          <p:cNvSpPr/>
          <p:nvPr/>
        </p:nvSpPr>
        <p:spPr>
          <a:xfrm>
            <a:off x="6808320" y="476280"/>
            <a:ext cx="1643400" cy="68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Arial"/>
                <a:ea typeface="隶书"/>
              </a:rPr>
              <a:t>一夜的工作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824400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AutoShape 19">
            <a:hlinkClick r:id="" action="ppaction://hlinkshowjump?jump=nextslide"/>
          </p:cNvPr>
          <p:cNvSpPr/>
          <p:nvPr/>
        </p:nvSpPr>
        <p:spPr>
          <a:xfrm>
            <a:off x="8854920" y="6237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8028000" y="6491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视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8604360" y="64911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自学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6804000" y="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971440" y="63342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四川省广汉市金鱼小学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李小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0" y="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隶书"/>
              </a:rPr>
              <a:t>自学要求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981000"/>
            <a:ext cx="907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、自由朗读课文，想想课文讲了一件什么事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、课文从几方面介绍了周总理一夜的工作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、用“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  <a:ea typeface="Arial"/>
              </a:rPr>
              <a:t>——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勾出表现周总理工作劳苦的句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、用“</a:t>
            </a:r>
            <a:r>
              <a:rPr b="1" lang="en-US" sz="3600" spc="-1" strike="noStrike">
                <a:solidFill>
                  <a:srgbClr val="003300"/>
                </a:solidFill>
                <a:latin typeface="宋体"/>
              </a:rPr>
              <a:t>﹏﹏”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勾出表现周总理生活简朴的句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</p:cNvPr>
          <p:cNvSpPr/>
          <p:nvPr/>
        </p:nvSpPr>
        <p:spPr>
          <a:xfrm>
            <a:off x="630072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156360" y="6491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审稿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709308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804000" y="6491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办公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788508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7740720" y="6491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食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AutoShape 12">
            <a:hlinkClick r:id="" action="ppaction://hlinkshowjump?jump=previous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0" y="917640"/>
            <a:ext cx="91440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他一句一句地审阅，看完一句就用笔在那一句后面画一个小圆圈。他不是浏览一遍就算了，而是一边看一边思索，有时停笔想一想，有时问我一两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8" name="Picture 5" descr="gif012"/>
          <p:cNvPicPr/>
          <p:nvPr/>
        </p:nvPicPr>
        <p:blipFill>
          <a:blip r:embed="rId1"/>
          <a:stretch/>
        </p:blipFill>
        <p:spPr>
          <a:xfrm>
            <a:off x="0" y="0"/>
            <a:ext cx="2987640" cy="933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7885080" y="17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7885080" y="2492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4"/>
          <a:stretch/>
        </p:blipFill>
        <p:spPr>
          <a:xfrm>
            <a:off x="3132000" y="501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5"/>
          <a:stretch/>
        </p:blipFill>
        <p:spPr>
          <a:xfrm>
            <a:off x="7236000" y="501336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0">
            <a:hlinkClick r:id="" action="ppaction://hlinkshowjump?jump=previousslide"/>
          </p:cNvPr>
          <p:cNvSpPr/>
          <p:nvPr/>
        </p:nvSpPr>
        <p:spPr>
          <a:xfrm>
            <a:off x="8459640" y="6453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10800"/>
                </a:moveTo>
                <a:lnTo>
                  <a:pt x="25890" y="3794"/>
                </a:lnTo>
                <a:lnTo>
                  <a:pt x="25890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0" y="1268280"/>
            <a:ext cx="914400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那是一间高大的宫殿式房子，室内陈设极其简单，一张不大的写字台，两把小转椅，一盏台灯，如此而已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5" name="Picture 5" descr="gif012"/>
          <p:cNvPicPr/>
          <p:nvPr/>
        </p:nvPicPr>
        <p:blipFill>
          <a:blip r:embed="rId1"/>
          <a:stretch/>
        </p:blipFill>
        <p:spPr>
          <a:xfrm>
            <a:off x="0" y="0"/>
            <a:ext cx="2987640" cy="933480"/>
          </a:xfrm>
          <a:prstGeom prst="rect">
            <a:avLst/>
          </a:prstGeom>
          <a:ln w="0">
            <a:noFill/>
          </a:ln>
        </p:spPr>
      </p:pic>
      <p:sp>
        <p:nvSpPr>
          <p:cNvPr id="246" name="Line 10"/>
          <p:cNvSpPr/>
          <p:nvPr/>
        </p:nvSpPr>
        <p:spPr>
          <a:xfrm>
            <a:off x="6372360" y="2276640"/>
            <a:ext cx="121896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2"/>
          <a:stretch/>
        </p:blipFill>
        <p:spPr>
          <a:xfrm>
            <a:off x="7885080" y="3141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3"/>
          <a:stretch/>
        </p:blipFill>
        <p:spPr>
          <a:xfrm>
            <a:off x="8532720" y="3141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4"/>
          <a:stretch/>
        </p:blipFill>
        <p:spPr>
          <a:xfrm>
            <a:off x="507672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6"/>
          <a:stretch/>
        </p:blipFill>
        <p:spPr>
          <a:xfrm>
            <a:off x="250920" y="5013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7"/>
          <a:stretch/>
        </p:blipFill>
        <p:spPr>
          <a:xfrm>
            <a:off x="1042920" y="508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7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0" y="765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值班室的同志送来两杯热腾腾的绿茶，一小碟花生米，放在写字台上。总理让我跟他一起喝茶，吃花生米。花生米并不多，可以数得清颗数，好像并没有因为多了一个人而增加了分量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Picture 5" descr="gif012"/>
          <p:cNvPicPr/>
          <p:nvPr/>
        </p:nvPicPr>
        <p:blipFill>
          <a:blip r:embed="rId1"/>
          <a:stretch/>
        </p:blipFill>
        <p:spPr>
          <a:xfrm>
            <a:off x="0" y="0"/>
            <a:ext cx="2987640" cy="933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8604360" y="486900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8"/>
          <p:cNvSpPr/>
          <p:nvPr/>
        </p:nvSpPr>
        <p:spPr>
          <a:xfrm>
            <a:off x="8532720" y="6453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09:06:02Z</dcterms:created>
  <dc:creator>语文大师 xiexingcun.com</dc:creator>
  <dc:description/>
  <dc:language>en-US</dc:language>
  <cp:lastModifiedBy>刘芬</cp:lastModifiedBy>
  <dcterms:modified xsi:type="dcterms:W3CDTF">2014-07-24T01:10:37Z</dcterms:modified>
  <cp:revision>0</cp:revision>
  <dc:subject/>
  <dc:title>语文大师 xiexingcun.com</dc:title>
</cp:coreProperties>
</file>