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FF0-36D9-4C8B-ADBE-F6FAB3EF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378-D8FA-4BCA-8DA7-8BE1DA6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038-6C04-4111-9710-D400CDEE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41E-6BB1-4A3E-8C10-4BB0E2F9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A4B-12C1-48B8-8881-A684BFB1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C52-132A-46DE-8282-EC92C3CE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84D-6D60-40E8-82B8-EDA56553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3C72-B041-460F-B9EB-4102509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C69-ED8B-4979-830F-8DAC0CC6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E60-4679-4839-A3B7-E7326B9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18F-2EED-4AE3-BE9A-44D3DC10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AA8-3A5F-41A6-87D8-EFFE6C24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963C-C3C7-4205-AA37-D1ED99EDDC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0961;&#21345;.ppt#3. &#24187;&#28783;&#29255; 3" TargetMode="External"/><Relationship Id="rId2" Type="http://schemas.openxmlformats.org/officeDocument/2006/relationships/hyperlink" Target="file:///&#20961;&#21345;.ppt#4. &#24187;&#28783;&#29255; 4" TargetMode="Externa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7640" y="210024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楷体_GB2312"/>
              </a:rPr>
              <a:t>凡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508464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制作人：孙红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496800" y="404640"/>
            <a:ext cx="3283200" cy="576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8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634000" y="692280"/>
            <a:ext cx="1521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互相学习  敬请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83600" y="2349360"/>
            <a:ext cx="5461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二零零六年十一月十五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1403280" y="836640"/>
            <a:ext cx="3529080" cy="518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880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4797360"/>
            <a:ext cx="878544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读到时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我感到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难过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愤怒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疑惑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……）。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rcRect l="0" t="769" r="0" b="0"/>
          <a:stretch/>
        </p:blipFill>
        <p:spPr>
          <a:xfrm>
            <a:off x="2987640" y="331920"/>
            <a:ext cx="31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40360" y="11034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昨天晚上我挨了一顿打，因为我给他们的小崽子摇摇篮的时候，不知不觉睡着了。老板揪着我的头发，把我拖到院子里，拿皮带揍了我一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539640" y="83664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43280" y="29185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个礼拜，老板娘叫我收拾一条青鱼，我从尾巴上弄起，她就捞起那条青鱼，拿鱼嘴直戳我的脸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324000" y="981000"/>
            <a:ext cx="316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211640" y="148428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伙计们捉弄我，他们打发我上酒店去打酒，他们叫我偷老板的黄瓜，老板随手捞起个家伙就打我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611280" y="83664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24360" y="549360"/>
            <a:ext cx="521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亲爱的爷爷，发发慈悲吧，带我离开这儿回家，回到我们村子里去吧！我再也受不住了！……我给您跪下了，我会永远为您祷告上帝。带我离开这儿吧，要不，我就要死了！……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466560" y="692280"/>
            <a:ext cx="316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24360" y="90792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04640"/>
            <a:ext cx="586728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鞋匠的家里，他忍受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 忍受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忍受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......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他仅仅只有九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热闹的莫斯科，有那么多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_________ 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华的莫斯科，有那么多东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这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圣诞节前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听见，他伤心的叹了口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知道，他想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__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769" r="0" b="0"/>
          <a:stretch/>
        </p:blipFill>
        <p:spPr>
          <a:xfrm>
            <a:off x="466560" y="692280"/>
            <a:ext cx="2737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620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天气真好，晴朗，一丝风也没有，干冷干冷的。那是个没有月亮的夜晚，可是整个村子——白房顶啦，烟囱里冒出来的一缕缕的烟啦，披着浓霜一身银白的树木啦，雪堆啦，全看得见。天空撒满了快活地眨着眼的星星，天河显得很清楚，仿佛为了过节，有人拿雪把它擦亮了似的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536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95640" y="692280"/>
            <a:ext cx="48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过了一个钟头，他怀着甜蜜的希望睡熟了。他在梦里看见一铺暖炕，炕上坐着他的爷爷，搭拉着两条腿，正在念他的信……泥鳅在炕边走来走去，摇着尾巴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69" r="0" b="0"/>
          <a:stretch/>
        </p:blipFill>
        <p:spPr>
          <a:xfrm>
            <a:off x="466560" y="692280"/>
            <a:ext cx="316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163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1:59:57Z</dcterms:created>
  <dc:creator>语文大师 xiexingcun.com</dc:creator>
  <dc:description/>
  <dc:language>en-US</dc:language>
  <cp:lastModifiedBy>czd</cp:lastModifiedBy>
  <dcterms:modified xsi:type="dcterms:W3CDTF">2014-07-24T01:10:37Z</dcterms:modified>
  <cp:revision>0</cp:revision>
  <dc:subject/>
  <dc:title>语文大师 xiexingcun.com</dc:title>
</cp:coreProperties>
</file>