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imes.wav" ContentType="audio/x-wav"/>
  <Override PartName="/ppt/media/camera.wav" ContentType="audio/x-wav"/>
  <Override PartName="/ppt/media/projctor.wav" ContentType="audio/x-wav"/>
  <Override PartName="/ppt/media/type.wav" ContentType="audio/x-wav"/>
  <Override PartName="/ppt/media/cashreg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89B-3E64-41A6-AA50-A0675D5C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002-2C3E-4C70-9B2F-6975AAF8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15C-847A-4209-841D-C2CDBC0F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5A1-829F-4D56-867E-7934FE7F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AB2A-33C7-4C55-91DD-361F7426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18FB-F0D0-4EF9-89C2-6785B256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25CB-051D-4410-A71D-C40D4318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44FB-5EDA-4321-910A-8DDBF2B6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86D1-801B-46D5-96A5-9A509977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DE01-49FB-42F1-8FFE-EE307BFB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F14B-883B-4813-8A23-893F27B9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4BB-8ADA-4ED5-B004-284DF909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108F-7EE4-4ABB-AB3C-88BF51BA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BB40-36C2-437D-BADE-81DF930C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92A1-9B7B-4B1A-B6D1-729D9C45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65B1-CA7D-4367-8661-AB1080B1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AC2F-D372-412D-A6BB-0F048EAE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983F-89A9-4C64-A132-FD1C1F34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A99-3383-496D-B9F3-ABDD8248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B44-FDF1-4A96-8CF8-F362C3B0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E67-0B3C-4C4C-B1F7-76A2929C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4C4-ECFD-4712-A338-8FB4421B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ADB-5E0E-4356-B8C9-70A265A5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535-943C-446C-B677-F593AA26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EBD3-FFAC-4DBF-A2A2-7E5049B8D4A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8BE0-E194-4458-95CF-EE89FEFCE8D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3809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天上的云，真是姿态万千，变化无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4370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现在，让我们一起把目光投向天空，看一看这些大自然的文字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549360"/>
            <a:ext cx="79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>
                    <a:alpha val="98000"/>
                  </a:srgbClr>
                </a:solidFill>
                <a:latin typeface="楷体_GB2312"/>
              </a:rPr>
              <a:t>看云识天气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>
                  <a:alpha val="98000"/>
                </a:srgbClr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8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7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79640" y="60958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6600"/>
                </a:solidFill>
                <a:latin typeface="Verdana"/>
                <a:ea typeface="华文行楷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483840" y="2819520"/>
            <a:ext cx="1155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看云识天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60680" y="1828800"/>
            <a:ext cx="549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1200" y="2060640"/>
            <a:ext cx="522360" cy="3730680"/>
          </a:xfrm>
          <a:custGeom>
            <a:avLst/>
            <a:gdLst>
              <a:gd name="textAreaLeft" fmla="*/ 333720 w 522360"/>
              <a:gd name="textAreaRight" fmla="*/ 522720 w 522360"/>
              <a:gd name="textAreaTop" fmla="*/ 97200 h 3730680"/>
              <a:gd name="textAreaBottom" fmla="*/ 3633480 h 373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752480"/>
            <a:ext cx="63849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看云可以识天气</a:t>
            </a: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云就是天气的招牌</a:t>
            </a: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3581280"/>
            <a:ext cx="2297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怎样看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识天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29718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2565360"/>
            <a:ext cx="366480" cy="2616120"/>
          </a:xfrm>
          <a:custGeom>
            <a:avLst/>
            <a:gdLst>
              <a:gd name="textAreaLeft" fmla="*/ 234360 w 366480"/>
              <a:gd name="textAreaRight" fmla="*/ 366840 w 366480"/>
              <a:gd name="textAreaTop" fmla="*/ 68040 h 2616120"/>
              <a:gd name="textAreaBottom" fmla="*/ 2548080 h 261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32000" y="47973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光彩：晕、华、虹、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48240" y="2743200"/>
            <a:ext cx="549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24560" y="2666880"/>
            <a:ext cx="549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2421000"/>
            <a:ext cx="5639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卷云、卷积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积云、高积云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----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轻、高、薄    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卷层云、高层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雨层云、积雨云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----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低、厚、密  雨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548640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早识天气   预报天气    服务工农业生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76320" y="1773360"/>
            <a:ext cx="667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总              分           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2720" y="2492280"/>
            <a:ext cx="1800" cy="101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532360" y="4191120"/>
            <a:ext cx="1800" cy="10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5335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理清课文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63680" y="5445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学看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7391520" y="62485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65" h="21600">
                <a:moveTo>
                  <a:pt x="17676" y="10800"/>
                </a:moveTo>
                <a:lnTo>
                  <a:pt x="31689" y="3794"/>
                </a:lnTo>
                <a:lnTo>
                  <a:pt x="31689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52480" y="762120"/>
            <a:ext cx="670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ahoma"/>
              </a:rPr>
              <a:t>本文特点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0574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采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说明文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中</a:t>
            </a:r>
            <a:r>
              <a:rPr b="1" lang="zh-CN" sz="3200" spc="-1" strike="noStrike">
                <a:solidFill>
                  <a:srgbClr val="cc00cc"/>
                </a:solidFill>
                <a:latin typeface="Tahoma"/>
              </a:rPr>
              <a:t>分类说明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方法，根据云的形状、性质等方面的异同，将事物分成若干类，逐类说明，使读者</a:t>
            </a:r>
            <a:r>
              <a:rPr b="1" lang="zh-CN" sz="3200" spc="-1" strike="noStrike">
                <a:solidFill>
                  <a:srgbClr val="00e4a8"/>
                </a:solidFill>
                <a:latin typeface="Tahoma"/>
              </a:rPr>
              <a:t>更具体、更详尽、更全面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地了解事物的特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4267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运用大量</a:t>
            </a:r>
            <a:r>
              <a:rPr b="1" lang="zh-CN" sz="3200" spc="-1" strike="noStrike">
                <a:solidFill>
                  <a:srgbClr val="cc00cc"/>
                </a:solidFill>
                <a:latin typeface="Tahoma"/>
              </a:rPr>
              <a:t>比喻、拟人、引用谚语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及</a:t>
            </a:r>
            <a:r>
              <a:rPr b="1" lang="zh-CN" sz="3200" spc="-1" strike="noStrike">
                <a:solidFill>
                  <a:srgbClr val="cc00cc"/>
                </a:solidFill>
                <a:latin typeface="Tahoma"/>
              </a:rPr>
              <a:t>动态、静态的描摹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在准确的基础上把事物说明得生动、形象。给读者留下深刻的印象和学到相关的知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64320" y="52236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黑体"/>
              </a:rPr>
              <a:t>读一读，写一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1773360"/>
            <a:ext cx="7812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峰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Times New Roman"/>
              </a:rPr>
              <a:t>峦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       ）     预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Times New Roman"/>
              </a:rPr>
              <a:t>兆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轻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Times New Roman"/>
              </a:rPr>
              <a:t>盈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       ）     均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Times New Roman"/>
              </a:rPr>
              <a:t>匀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       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崩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Times New Roman"/>
              </a:rPr>
              <a:t>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       ）     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Times New Roman"/>
              </a:rPr>
              <a:t>弥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漫（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征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Times New Roman"/>
              </a:rPr>
              <a:t>兆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       ）     一</a:t>
            </a:r>
            <a:r>
              <a:rPr b="1" lang="zh-CN" sz="4000" spc="-1" strike="noStrike" u="sng">
                <a:solidFill>
                  <a:srgbClr val="ff6600"/>
                </a:solidFill>
                <a:uFillTx/>
                <a:latin typeface="Times New Roman"/>
              </a:rPr>
              <a:t>霎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间（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千姿万态            变化无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1844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ahoma"/>
              </a:rPr>
              <a:t>lu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27082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ahoma"/>
              </a:rPr>
              <a:t>yí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2362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4720" y="184464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ahoma"/>
              </a:rPr>
              <a:t>zhà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304920" y="586728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1" h="21600">
                <a:moveTo>
                  <a:pt x="14579" y="10800"/>
                </a:moveTo>
                <a:lnTo>
                  <a:pt x="28592" y="3794"/>
                </a:lnTo>
                <a:lnTo>
                  <a:pt x="28592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2708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yú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3645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m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4508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ahoma"/>
              </a:rPr>
              <a:t>sh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571500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36450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t</a:t>
            </a:r>
            <a:r>
              <a:rPr b="1" lang="en-US" sz="3600" spc="-1" strike="noStrike">
                <a:solidFill>
                  <a:srgbClr val="ff6600"/>
                </a:solidFill>
                <a:latin typeface="Tahoma"/>
              </a:rPr>
              <a:t>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4508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ahoma"/>
              </a:rPr>
              <a:t>zhà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184320" y="-9144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17760" y="765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梳理内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2997360"/>
            <a:ext cx="82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请同学们快速默读课文，然后回答下列问题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144360" y="907920"/>
            <a:ext cx="92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84040" y="865080"/>
            <a:ext cx="29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１从题目上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这是一篇说明什么的文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0920" y="17002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说明云和天气关系的文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256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２、云和天气的关系，文章是从哪两个方面说明的？请找出表示说明角度变化的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39160" y="4508640"/>
            <a:ext cx="53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文章从云的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华文楷体"/>
              </a:rPr>
              <a:t>形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和云的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华文楷体"/>
              </a:rPr>
              <a:t>光彩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两方面来介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表示说明角度变化的句子是“我们还可以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据云上的光彩，推测天气变化的情况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13320" y="10526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隶书"/>
              </a:rPr>
              <a:t>３、文中介绍了哪几种不同形态的云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4680" y="2444760"/>
            <a:ext cx="153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卷云、     卷积云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积云、     高积云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卷层云、 高层云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雨层云、 积雨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850040" y="8938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隶书"/>
              </a:rPr>
              <a:t>合作探究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2708280"/>
            <a:ext cx="671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请同学们分小组讨论交流自己所收集的不同形态的云的资料，然后派代表上台汇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0" y="1341360"/>
          <a:ext cx="8839080" cy="4389480"/>
        </p:xfrm>
        <a:graphic>
          <a:graphicData uri="http://schemas.openxmlformats.org/drawingml/2006/table">
            <a:tbl>
              <a:tblPr/>
              <a:tblGrid>
                <a:gridCol w="1187280"/>
                <a:gridCol w="3537000"/>
                <a:gridCol w="1576440"/>
                <a:gridCol w="1079640"/>
                <a:gridCol w="145872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云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872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云的形态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872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高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872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厚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872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ff"/>
                          </a:solidFill>
                          <a:latin typeface="Tahoma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8720">
                      <a:solidFill>
                        <a:srgbClr val="ffcf01"/>
                      </a:solidFill>
                    </a:lnR>
                    <a:lnT w="1872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872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872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872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872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872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872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872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872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8720">
                      <a:solidFill>
                        <a:srgbClr val="ffcf0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048120" y="6094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晴天云简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240" y="3220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卷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3139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卷积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114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积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积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最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很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4941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左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24382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象征晴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3276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雨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41148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阳光温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876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7543800" y="62485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31575" y="10800"/>
                </a:moveTo>
                <a:lnTo>
                  <a:pt x="21069" y="17806"/>
                </a:lnTo>
                <a:lnTo>
                  <a:pt x="21069" y="3794"/>
                </a:lnTo>
                <a:close/>
              </a:path>
              <a:path fill="darken" w="56152" h="21600">
                <a:moveTo>
                  <a:pt x="33420" y="3794"/>
                </a:moveTo>
                <a:lnTo>
                  <a:pt x="33420" y="17806"/>
                </a:lnTo>
                <a:lnTo>
                  <a:pt x="35082" y="17806"/>
                </a:lnTo>
                <a:lnTo>
                  <a:pt x="35082" y="3794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4724280"/>
            <a:ext cx="34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像草原上雪白的羊群，扁球状，排列整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887640"/>
            <a:ext cx="2667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像棉花团，上午出现，傍晚消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220968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像羽毛像绫纱，丝丝缕缕地漂浮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048120"/>
            <a:ext cx="403884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像水面的鳞波，是成群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的卷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73600" y="243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73600" y="3276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很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9592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较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9592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较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52280" y="1488960"/>
          <a:ext cx="8839440" cy="4284720"/>
        </p:xfrm>
        <a:graphic>
          <a:graphicData uri="http://schemas.openxmlformats.org/drawingml/2006/table">
            <a:tbl>
              <a:tblPr/>
              <a:tblGrid>
                <a:gridCol w="1067040"/>
                <a:gridCol w="2666880"/>
                <a:gridCol w="2514600"/>
                <a:gridCol w="914400"/>
                <a:gridCol w="1676520"/>
              </a:tblGrid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云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872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变化过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872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形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872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位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872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ff"/>
                          </a:solidFill>
                          <a:latin typeface="Tahoma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8720">
                      <a:solidFill>
                        <a:srgbClr val="ffcf01"/>
                      </a:solidFill>
                    </a:lnR>
                    <a:lnT w="1872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872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872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872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872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872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872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872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872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8720">
                      <a:solidFill>
                        <a:srgbClr val="ffcf0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981080" y="60948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雨雪冰雹云层变化简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320" y="2362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卷层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层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3480" y="4038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雨层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3480" y="5029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积雨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60400" y="2209680"/>
            <a:ext cx="1460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卷云聚集，向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推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45280" y="3276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卷云越变越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07920" y="4038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层云变得更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17920" y="4819680"/>
            <a:ext cx="1643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积云迅速形成高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云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2362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像白绸幕蒙住天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12080" y="3276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像毛玻璃遮着太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0960" y="3886200"/>
            <a:ext cx="1460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暗灰色云块密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36200" y="5029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乌云密布天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93480" y="236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93480" y="327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0384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03840" y="5029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33160" y="2362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晴转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43160" y="327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下雨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43160" y="4114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雨雪连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43160" y="502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雷雨冰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543800" y="62485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31575" y="10800"/>
                </a:moveTo>
                <a:lnTo>
                  <a:pt x="21069" y="17806"/>
                </a:lnTo>
                <a:lnTo>
                  <a:pt x="21069" y="3794"/>
                </a:lnTo>
                <a:close/>
              </a:path>
              <a:path fill="darken" w="56152" h="21600">
                <a:moveTo>
                  <a:pt x="33420" y="3794"/>
                </a:moveTo>
                <a:lnTo>
                  <a:pt x="33420" y="17806"/>
                </a:lnTo>
                <a:lnTo>
                  <a:pt x="35082" y="17806"/>
                </a:lnTo>
                <a:lnTo>
                  <a:pt x="35082" y="3794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52280" y="1523880"/>
          <a:ext cx="8839440" cy="464832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1752480"/>
                <a:gridCol w="31244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Tahoma"/>
                        </a:rPr>
                        <a:t>光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872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产生和分布情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872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cc"/>
                          </a:solidFill>
                          <a:latin typeface="Tahoma"/>
                        </a:rPr>
                        <a:t>色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872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9900ff"/>
                          </a:solidFill>
                          <a:latin typeface="Tahoma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8720">
                      <a:solidFill>
                        <a:srgbClr val="ffcf01"/>
                      </a:solidFill>
                    </a:lnR>
                    <a:lnT w="1872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872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872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872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440">
                      <a:solidFill>
                        <a:srgbClr val="ffcf0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872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872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44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8720">
                      <a:solidFill>
                        <a:srgbClr val="ffcf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cf01"/>
                      </a:solidFill>
                    </a:lnL>
                    <a:lnR w="18720">
                      <a:solidFill>
                        <a:srgbClr val="ffcf01"/>
                      </a:solidFill>
                    </a:lnR>
                    <a:lnT w="1440">
                      <a:solidFill>
                        <a:srgbClr val="ffcf01"/>
                      </a:solidFill>
                    </a:lnT>
                    <a:lnB w="18720">
                      <a:solidFill>
                        <a:srgbClr val="ffcf0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3048120" y="6094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云的光彩简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43828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4960" y="3505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4960" y="4572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0040" y="548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70560" y="2305080"/>
            <a:ext cx="1643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生在卷层云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布在日月周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43480" y="3295800"/>
            <a:ext cx="1643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产生在高积云边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920" y="4286160"/>
            <a:ext cx="1643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雨过天晴，在太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面的云幕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95480" y="5276880"/>
            <a:ext cx="1095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早、晚，太阳照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面的云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19080" y="243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里红外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19080" y="3505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里紫外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19080" y="4495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彩色圆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1584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云层变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0000" y="2228760"/>
            <a:ext cx="1278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晕三更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晕午时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70720" y="3295800"/>
            <a:ext cx="2009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华环由小变大，转晴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大变小，转阴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11760" y="4495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东虹轰隆西虹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50640" y="5257800"/>
            <a:ext cx="1278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朝霞不出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晚霞行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7924680" y="63244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6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6" y="20200"/>
                </a:lnTo>
                <a:lnTo>
                  <a:pt x="47946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6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46" h="21600">
                <a:moveTo>
                  <a:pt x="17667" y="10800"/>
                </a:moveTo>
                <a:lnTo>
                  <a:pt x="31680" y="3794"/>
                </a:lnTo>
                <a:lnTo>
                  <a:pt x="31680" y="17806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07:19:33Z</dcterms:created>
  <dc:creator/>
  <dc:description/>
  <dc:language>en-US</dc:language>
  <cp:lastModifiedBy/>
  <dcterms:modified xsi:type="dcterms:W3CDTF">2012-11-09T05:59:13Z</dcterms:modified>
  <cp:revision>0</cp:revision>
  <dc:subject/>
  <dc:title/>
</cp:coreProperties>
</file>