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F07-7EA4-4293-8EB0-C63B668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9D5-DF0A-42BC-81B6-FE4F92F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CAC-D344-4405-BD3C-B1A186D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BB2-590F-4A7A-B704-FFB1913F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20C-6841-40DF-A8F9-8446A1F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B0E-EADA-471C-B039-BADFB96E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BCD-7A62-4B42-869F-95A8CD7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48D-3918-4BC5-AFEF-E039292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730-42DA-4F22-9B30-B68ADAC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448-5BDF-4779-BAAA-0B7F349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07C-4A26-44DA-91CA-8666F2C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F07-5A9D-42D6-89BE-D074BF3E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F025-835A-4029-9CBA-3400CB799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62080" y="0"/>
            <a:ext cx="888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21040" y="1874880"/>
            <a:ext cx="5105160" cy="27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4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金色的脚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0" y="1755720"/>
            <a:ext cx="543708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为寻回小狐狸而失足受伤时，是老狐狸给了“我”温暖，使“我”得以苏醒，“我”更加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感动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为了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报答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救命之恩，“我”最终把小狐狸要了回来，让他们一家团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39560" y="1174680"/>
            <a:ext cx="2170440" cy="4254480"/>
            <a:chOff x="439560" y="1174680"/>
            <a:chExt cx="2170440" cy="42544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39560" y="1174680"/>
              <a:ext cx="2170440" cy="20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39560" y="3373560"/>
              <a:ext cx="2156040" cy="20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5600" y="1698120"/>
            <a:ext cx="5219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、课文为什么以</a:t>
            </a: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“金色的脚印”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为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0960" y="3400200"/>
            <a:ext cx="534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仿宋"/>
              </a:rPr>
              <a:t>重点理解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迎着耀眼的朝阳，狐狸们的脚印闪着金色的光芒，一直延伸到密林深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72200" y="1386000"/>
            <a:ext cx="2508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42760" y="2571480"/>
            <a:ext cx="756756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金色的脚印”表面意思是阳光照耀下，印在雪地上狐狸的脚印。深层次看，“金色”一般用来形容那些十分珍贵、有意义或值得纪念的东西，在这里是指狐狸一家得到人们的关心而团聚，又开始了它们美好的生活；这脚印，不仅包含着狐狸一家生死相依的浓浓亲情以及它们对人类的友善，也包含着人类对其他生命的珍重与爱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5240" y="1424160"/>
            <a:ext cx="34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华文中宋"/>
              </a:rPr>
              <a:t>金色的脚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0840" y="1171440"/>
            <a:ext cx="1726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2800" y="1098720"/>
            <a:ext cx="3529080" cy="5379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6960" y="1530360"/>
            <a:ext cx="42177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华文中宋"/>
              </a:rPr>
              <a:t>狐狸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4200" y="3109680"/>
            <a:ext cx="4738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古今中外还有许多有关狐狸的童话、寓言故事，有兴趣的同学可以找几则来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92420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这篇课文赞美了人与动物之间互相信任、互相帮助、和谐相处的美好关系，也展现了动物之间生死相依的浓浓亲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1040" y="1057320"/>
            <a:ext cx="8610840" cy="53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38560" y="3822840"/>
            <a:ext cx="30621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440" y="1558800"/>
            <a:ext cx="25970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字词积累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250992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目不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1960" y="249696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珠一动不动地盯着看。形容注意力高度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160" y="37148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48040" y="3700440"/>
            <a:ext cx="25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昏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2880" y="438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兴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9600" y="4354560"/>
            <a:ext cx="42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指兴致高昂，情绪热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1480" y="50338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19600" y="50817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无益地耗费劳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5200" y="25099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jī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09840" y="368784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81400" y="4352760"/>
            <a:ext cx="12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cǎ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06736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58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7960" y="384336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960" y="44830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93560" y="5143680"/>
            <a:ext cx="3175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6200" y="154152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35520" y="14954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可能发生的危险情况或错误倾向保持敏锐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0520" y="250992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影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06800" y="2452680"/>
            <a:ext cx="39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一点踪影也没有。形容完全消失，不知去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2160" y="3540240"/>
            <a:ext cx="10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6800" y="354168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心里老想着，放不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2160" y="418140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2400" y="417996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光线强烈，使人眼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5400" y="481824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78360" y="4862520"/>
            <a:ext cx="27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延长；伸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6200" y="1530360"/>
            <a:ext cx="10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2467080"/>
            <a:ext cx="13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zō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513240"/>
            <a:ext cx="13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di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151160"/>
            <a:ext cx="116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87480" y="4835520"/>
            <a:ext cx="11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á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79480" y="16891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794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22320" y="36622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922320" y="42577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923760" y="4940280"/>
            <a:ext cx="3175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7000" y="1254240"/>
            <a:ext cx="42480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我给大家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2268000"/>
            <a:ext cx="785988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男孩正太郎家的佣人从山里捉回一只小狐狸，两只老狐狸想尽办法要救小狐狸出去，它们冒着生命危险住在正太郎家的地板下面照顾小狐狸，并和十分同情小狐狸、并偷偷给老狐狸喂食的正太郎建立了亲密信任的关系。后来，小狐狸被送给安田先生，正太郎为要回小狐狸，不慎掉下悬崖，两只老狐狸搭救了严寒中昏迷的正太郎。最后，正太郎要回了小狐狸，和爸爸一起把它放回了山里，狐狸一家终于团聚并回到了树林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96600" y="3165480"/>
            <a:ext cx="7800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狐狸一家和正太郎的关系前后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课文为什么以“金色的脚印”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38560" y="1924200"/>
            <a:ext cx="50990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自读课文，思考问题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7720" y="1333440"/>
            <a:ext cx="143820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44760"/>
            <a:ext cx="7439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3480" y="3510000"/>
            <a:ext cx="61898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夫妻俩设“调虎离山”之计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入“虎穴”做窝，喂养、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9120" y="1563840"/>
            <a:ext cx="2823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问题探讨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64320" y="3648240"/>
            <a:ext cx="1998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6280" y="1865160"/>
            <a:ext cx="6235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、它们和“我”的关系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0960" y="3125520"/>
            <a:ext cx="63946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开始，“我”见两只老狐狸救小狐狸没成功，觉得小狐狸可怜，出于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同情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“我”想为小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解开铁链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132680" y="4076640"/>
            <a:ext cx="174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65640" y="2209680"/>
            <a:ext cx="4651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发现两只老狐狸在自己家里做了窝并开始咬那根拴铁链的木桩时，“我”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打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了放小狐狸的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念头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800" y="2363760"/>
            <a:ext cx="2251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480680"/>
            <a:ext cx="5146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“我”为了满足自己的好奇心，让老狐狸施展自己的本事，又决定给老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投送食物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渐渐地，老狐狸体会到“我”的善良，和“我”熟了，常有一些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亲昵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的举动。“我”越发感觉到狐狸是有情有义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819760" y="1593720"/>
            <a:ext cx="2776680" cy="3865680"/>
            <a:chOff x="5819760" y="1593720"/>
            <a:chExt cx="2776680" cy="38656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832360" y="3570120"/>
              <a:ext cx="2764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819760" y="1593720"/>
              <a:ext cx="274464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备课大师网——免费备课！</dc:creator>
  <dc:description>备课大师网——免费备课！</dc:description>
  <dc:language>en-US</dc:language>
  <cp:lastModifiedBy>微软用户</cp:lastModifiedBy>
  <dcterms:modified xsi:type="dcterms:W3CDTF">2014-09-06T08:05:04Z</dcterms:modified>
  <cp:revision>0</cp:revision>
  <dc:subject/>
  <dc:title>备课大师网——免费备课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