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767-AB0F-436E-8EBA-806407A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1E6-4528-4377-BF38-5B30676E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B4E-CE6F-4796-962D-C9A9C4BC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3A6-9FE5-4814-9522-2F6B949B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30C-C197-435B-9E36-7484CAB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207-FC1A-4C0D-AA81-999ABF1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F06-5078-4C92-8765-3D89B792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2A3-2FB7-4285-954E-D2013D65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869-7627-4EA3-8962-6E0519C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5E1-B243-4BCD-AD7D-BD04EB0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07B-B9B6-4B62-9E3B-3563248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9B6-2950-4F8F-A89D-26705AE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616-F324-49D0-910E-47452D33E3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13600" y="19162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植物妈妈有办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19480" y="38606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广西百色市实验小学  汤  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66720" y="1533600"/>
            <a:ext cx="6321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lǚ   pú  ji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fēn   cā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 蒲　降　娃　纷　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wā   pā   z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bè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ch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s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洼 啪  炸　蹦　察　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87480" y="1704960"/>
            <a:ext cx="566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行  已经  娃娃  蒲公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纷  苍耳  山洼  降落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炸开  观察  如果  豌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蹦着跳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436840" cy="1641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7720" y="1112760"/>
            <a:ext cx="356220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孩子如果已经长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告别妈妈，四海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牛马有脚，鸟有翅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植物要旅行靠的什么办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2840" y="4024440"/>
            <a:ext cx="367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( 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1680" y="5197320"/>
            <a:ext cx="37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1960" y="398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就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3120" y="510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以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7892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31840" y="4422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4066920" cy="3051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80000" y="113976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蒲公英妈妈准备了降落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它送给自己的娃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要有风轻轻吹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就纷纷出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26120" y="4476600"/>
            <a:ext cx="1278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风传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3821040" cy="255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17560" y="765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1440" y="5445000"/>
            <a:ext cx="75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　　　）好像（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58080" y="3867120"/>
            <a:ext cx="1278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纷纷出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09600" y="5013360"/>
            <a:ext cx="2619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动物传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245120" cy="595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994200" cy="299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28920" y="4508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弹射传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4:42:33Z</dcterms:created>
  <dc:creator>微软用户</dc:creator>
  <dc:description/>
  <dc:language>en-US</dc:language>
  <cp:lastModifiedBy>微软用户</cp:lastModifiedBy>
  <dcterms:modified xsi:type="dcterms:W3CDTF">2009-09-28T16:17:38Z</dcterms:modified>
  <cp:revision>26</cp:revision>
  <dc:subject/>
  <dc:title>幻灯片 1</dc:title>
</cp:coreProperties>
</file>