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17.jpeg" ContentType="image/jpeg"/>
  <Override PartName="/ppt/media/image8.jpeg" ContentType="image/jpeg"/>
  <Override PartName="/ppt/media/image6.jpeg" ContentType="image/jpeg"/>
  <Override PartName="/ppt/media/image25.gif" ContentType="image/gif"/>
  <Override PartName="/ppt/media/image11.gif" ContentType="image/gif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9.gif" ContentType="image/gif"/>
  <Override PartName="/ppt/media/image16.jpeg" ContentType="image/jpeg"/>
  <Override PartName="/ppt/media/image13.gif" ContentType="image/gif"/>
  <Override PartName="/ppt/media/image30.jpeg" ContentType="image/jpeg"/>
  <Override PartName="/ppt/media/image24.jpeg" ContentType="image/jpeg"/>
  <Override PartName="/ppt/media/image31.png" ContentType="image/png"/>
  <Override PartName="/ppt/media/image3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677-AEDA-4EDD-B512-093C5365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C01-47C5-440C-A345-6904CBE4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91F-BAB2-48B9-AA1E-B95BC0E6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BE2-96DC-4768-9410-B41AC0AA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98D-5302-41E7-A17F-6A88410E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C5D-2397-4F26-85AE-9CBF24C0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308-22E8-40DA-98F8-DA326AC5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27B-780B-407E-A1E0-E7F335C0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02A-427E-450E-97CB-1A9F9602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F25-8E6C-469D-BFC6-91CA7B8A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610-C336-43A5-8813-C160598C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1C4-1D0C-4BA6-97BF-89A0BF69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0332-B5D3-45B5-8692-0B257F468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52680" y="1752480"/>
            <a:ext cx="3429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19.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一面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义务教育课程标准实验教科书人教版小学语文六年级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62485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广东省东莞市虎门镇小捷滘小学　张新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）我很惊异地望着他：黄里带白的脸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得教人担心；头上直竖着寸把长的头发；牙黄羽纱的长衫；隶体“一”字似的胡须；左手里捏着一枝黄色烟嘴，安烟的一头已经熏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2819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666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这三处外貌描写有哪些相同和不同之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中宋"/>
              </a:rPr>
              <a:t>相同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中宋"/>
              </a:rPr>
              <a:t>都突出了一个字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“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14600" y="175248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华文中宋"/>
              </a:rPr>
              <a:t>思考问题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华文中宋"/>
              </a:rPr>
              <a:t>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华文中宋"/>
              <a:ea typeface="华文中宋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17528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8120" y="1219320"/>
            <a:ext cx="2590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中宋"/>
              </a:rPr>
              <a:t>不同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一次是在远处，在暗中，从整体上勾勒出人物的身材、年龄，因而人物形象比较“模糊”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二次是在近处观察，刻画得比较具体、细致，形神兼备地写出了人物的气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第三次更近了，观察更细致，鲁迅的形象也更加完整清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4648320" cy="48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14600" y="1143000"/>
            <a:ext cx="1295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1447920"/>
            <a:ext cx="5562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文章还有哪些地方写到了鲁迅先生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瘦”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90920" y="3200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他用竹枝似的手指递给我，小袖管紧包在腕子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我又仔细地看他的脸——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他的手多瘦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22160" y="3048120"/>
            <a:ext cx="16592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文中这些外貌描写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这些外貌描写抓住人物的特征来写，能给读者留下深刻的印象。同时从这些外貌描写中我们更可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感受到鲁迅先生崇高的精神和伟大的人格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3276720"/>
            <a:ext cx="1752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18284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交流收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680" y="3352680"/>
            <a:ext cx="5105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Arial"/>
              </a:rPr>
              <a:t>欣赏了课文中的外貌描写，你在描写人物方面有了什么收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858000" y="4648320"/>
            <a:ext cx="18288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对鲁迅先生的外貌描写突出了他的几个明显特征可用三个字来概括——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一是全身的“瘦”，二是头发的“竖”，三是胡须的“一”；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说说看这三个字突出表现了他怎样的思想性格？</a:t>
            </a:r>
            <a:r>
              <a:rPr b="0" lang="zh-CN" sz="5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3960" y="5320440"/>
            <a:ext cx="24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刚毅坚强的性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我结结巴巴的，欢喜得快要跳起来了。一定是！不会错，一定是！那个名字在我的心里乱蹦，我向四周望了望，可没有蹦出来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358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结结巴巴”，显示出“我”突然发现自己崇敬、热爱的鲁迅先生就站在身边，激动的神态和幸福的心情，难以用言语来表达。“我向四周望了望”，表现出当时社会环境的黑暗和险恶，怕有密探之流在旁边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者阿累当时是“左翼剧联”成员、中共地下党员，养成了高度警惕的习惯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。“没有蹦出”鲁迅先生的名字，一是当时环境的险恶，不能暴露鲁迅；二是作者有意强压自己的感情，竭力保护鲁迅。这表现了作者对鲁迅先生的由衷敬爱之情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685800"/>
            <a:ext cx="853452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当作者认出是鲁迅时，他有怎样的心理活动和神态？从文中找出来，认真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320" y="45716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朗读课文最后两个自然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小组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我”为什么能在历尽艰苦、受尽虐待的情况下咬紧牙、昂起头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9880" y="12193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ff"/>
                </a:solidFill>
                <a:latin typeface="Arial"/>
                <a:ea typeface="黑体"/>
              </a:rPr>
              <a:t>重点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3657600"/>
            <a:ext cx="76197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66ffff"/>
                </a:solidFill>
                <a:latin typeface="Arial"/>
              </a:rPr>
              <a:t>一面”给了“我”极大鼓舞，使“我”获得了生命的支柱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鲁迅先生对我的关心、鼓励，鲁迅先生的人格力量和精神品质，这些都是“我”在种种艰苦和险恶面前坚强不屈的力量源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21337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鲁迅先生是同我们一起的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200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3504960" cy="5253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24280" y="304920"/>
            <a:ext cx="2819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ff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914400"/>
            <a:ext cx="5257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阿累，真名朱凡，原名朱一苇，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1909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月生，江苏涟水人。他毕业于上海艺术大学。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1932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年参加“左翼剧联”，同年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月考进上海英商公共汽车公司当售票员，不久加入中国共产党。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1933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年因参加工人罢工被捕判刑，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1935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年经人保释出狱，后赴马来西亚，参加马来西亚共产党活动，被官方侦悉，迫令出境。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1936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年返回上海，从事写作和翻译。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1937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年抗战开始，他参加了新四军。此后一直在部队和地方做文教和行政工作。《一面》是作者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1936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为纪念鲁迅逝世而作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76360" y="1980720"/>
            <a:ext cx="5638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谈一谈：学习了《一面》后，你对鲁迅先生又有了哪些新的认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520" y="3962160"/>
            <a:ext cx="5943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i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鲁迅有着热爱劳动人民和关怀进步青年的高尚品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16765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朗读课文，理清课文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全文可以分为两个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第一部分：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按时间顺序，记叙了作者与鲁迅见面的全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第二部分：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写这“一面”对作者的巨大鼓舞和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91520" y="3809880"/>
            <a:ext cx="14475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理清结构：全文共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43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个自然段，该怎样分？有没有明显的区隔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、会面的经过（以记叙为主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--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4864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二、“一面”对我的影响（以议论为主）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39--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49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1-2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会面的时间、地点、作者的身份和事情的起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638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3—17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内山老板的热情接待和作者的困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8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18—38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详细描写与鲁迅先生的一次会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259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中宋"/>
              </a:rPr>
              <a:t>词语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209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地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2209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储藏薯类、蔬菜等的地洞或地下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352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赫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352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形容令人惊讶或引人注目的事物突然出现，在课文中有鲜明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懊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50292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做错了事或说错了话，心里自恨不该这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371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莽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13716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鲁莽。言语、行动粗率而不审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133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踌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21337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犹豫，拿不定主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819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摩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2819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用手抚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505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颓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精神不振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4191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打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引人注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憎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4876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憎恨，厌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562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虐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55627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用残暴狠毒的手段待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733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速读课文，归纳：</a:t>
            </a:r>
            <a:br>
              <a:rPr sz="4000"/>
            </a:b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这“一面”的具体过程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162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提示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找出表示时间、地点的词句。按时间顺序复述，讲清楚事情的起因、经过和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我”到内山书店去避雨，在书店时“我”想买《毁灭》但钱不够。在这种情况下，鲁迅先生向我推荐《铁流》一书，并把《毁灭》这本书送给了“我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跳读课文，找出描写鲁迅外貌的语句，仔细阅读，细心体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5486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）我向里面望了一下──阴天，暗得很，只能模糊辨出坐在南首的是一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瘦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、五十上下的中国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248520" y="274320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723920" y="1295280"/>
            <a:ext cx="4419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）他的面孔黄里带白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得教人担心，好像大病新愈的人，但是精神很好，没有一点颓唐的样子。头发约莫一寸长，显然好久没剪了，却一根一根精神抖擞地直竖着。胡须很打眼，好像浓墨写的隶体“一”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2743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12T02:12:14Z</dcterms:modified>
  <cp:revision>3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