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5E9-DEC3-4349-9AFC-84BD6BD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B5E-ABCD-4CFC-9073-39D408B1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172-32CD-4F18-AB1C-C0C65E44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D5D-112D-44FE-844B-C079B862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903-F13D-4431-9A23-E98D4697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176-97D1-4A1F-900E-04392BE5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FA5-A7A4-4209-A860-DF9A4D72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02B-F16A-43B6-8BE5-3028875C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E59F-DBCB-4984-B592-CF5FBD5F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709-F763-4B6A-B443-6B85937B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D8B-9361-410C-9C7D-50DE396C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1CD-CEFB-4B5C-9781-87883EA2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6D5C-C3A7-4076-944D-DA06A76F8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ic0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76438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教版课程标准实验教材小学语文一年级下册第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28440" y="2643120"/>
            <a:ext cx="777708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隶书"/>
                <a:ea typeface="隶书"/>
              </a:rPr>
              <a:t>《</a:t>
            </a:r>
            <a:r>
              <a:rPr b="0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两只鸟蛋</a:t>
            </a:r>
            <a:r>
              <a:rPr b="0" lang="en-US" sz="4400" spc="-1" strike="noStrike">
                <a:solidFill>
                  <a:srgbClr val="ff3399"/>
                </a:solidFill>
                <a:latin typeface="隶书"/>
                <a:ea typeface="隶书"/>
              </a:rPr>
              <a:t>》</a:t>
            </a:r>
            <a:r>
              <a:rPr b="0" lang="zh-CN" sz="4400" spc="-1" strike="noStrike">
                <a:solidFill>
                  <a:srgbClr val="ff3399"/>
                </a:solidFill>
                <a:latin typeface="隶书"/>
                <a:ea typeface="隶书"/>
              </a:rPr>
              <a:t>第二课时课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 rot="10800000">
            <a:off x="7884360" y="6125400"/>
            <a:ext cx="801720" cy="1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t3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t4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t5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目睹鹭鸟新生命的诞生过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6220440" y="189000"/>
            <a:ext cx="29235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ff"/>
                </a:solidFill>
                <a:latin typeface="Arial"/>
              </a:rPr>
              <a:t>白鹭鸟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6444360" y="189000"/>
            <a:ext cx="29235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000000"/>
                </a:solidFill>
                <a:latin typeface="Arial"/>
              </a:rPr>
              <a:t>白鹭鸟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目睹鹭鸟新生命的诞生过程2"/>
          <p:cNvPicPr/>
          <p:nvPr/>
        </p:nvPicPr>
        <p:blipFill>
          <a:blip r:embed="rId1"/>
          <a:stretch/>
        </p:blipFill>
        <p:spPr>
          <a:xfrm>
            <a:off x="1403280" y="0"/>
            <a:ext cx="65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66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1700280"/>
            <a:ext cx="810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3300"/>
                </a:solidFill>
                <a:latin typeface="黑体"/>
                <a:ea typeface="黑体"/>
              </a:rPr>
              <a:t>焦急不安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鸟声1.wav" descr=""/>
          <p:cNvPicPr/>
          <p:nvPr/>
        </p:nvPicPr>
        <p:blipFill>
          <a:blip r:embed="rId2"/>
          <a:stretch/>
        </p:blipFill>
        <p:spPr>
          <a:xfrm>
            <a:off x="6084720" y="6021360"/>
            <a:ext cx="1195560" cy="692280"/>
          </a:xfrm>
          <a:prstGeom prst="rect">
            <a:avLst/>
          </a:prstGeom>
          <a:ln w="0">
            <a:noFill/>
          </a:ln>
        </p:spPr>
      </p:pic>
      <p:pic>
        <p:nvPicPr>
          <p:cNvPr id="73" name="01.mp3" descr=""/>
          <p:cNvPicPr/>
          <p:nvPr/>
        </p:nvPicPr>
        <p:blipFill>
          <a:blip r:embed="rId3"/>
          <a:stretch/>
        </p:blipFill>
        <p:spPr>
          <a:xfrm>
            <a:off x="7407360" y="6021360"/>
            <a:ext cx="173664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1"/>
          <p:cNvSpPr/>
          <p:nvPr/>
        </p:nvSpPr>
        <p:spPr>
          <a:xfrm>
            <a:off x="2484360" y="2152800"/>
            <a:ext cx="55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9900"/>
                </a:solidFill>
                <a:latin typeface="Arial"/>
                <a:ea typeface="隶书"/>
              </a:rPr>
              <a:t>说说你仿佛听到了什么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122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7030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11280" y="202896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68360" y="18900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637080" y="18900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凉凉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68360" y="234936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637080" y="234936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小小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5280" y="4724280"/>
            <a:ext cx="806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564000" y="472428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圆圆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7dcb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8"/>
          <p:cNvSpPr/>
          <p:nvPr/>
        </p:nvSpPr>
        <p:spPr>
          <a:xfrm>
            <a:off x="3276720" y="1268280"/>
            <a:ext cx="504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1280" y="1268280"/>
            <a:ext cx="2881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780000" y="126828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凉凉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5434E-006 L -0.35035 0.30196 E">
                                      <p:cBhvr>
                                        <p:cTn id="3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5434E-006 L 0.40173 0.31237 E">
                                      <p:cBhvr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900000" y="1452600"/>
            <a:ext cx="273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635280" y="1413000"/>
            <a:ext cx="424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小小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828720" y="4260960"/>
            <a:ext cx="2735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鸟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564000" y="4221000"/>
            <a:ext cx="424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黑体"/>
                <a:ea typeface="黑体"/>
              </a:rPr>
              <a:t>圆圆的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9827E-006 C 0.00434 0.01041 0.00695 0.02012 0.0132 0.02867 C 0.01511 0.03607 0.02274 0.04809 0.02274 0.04856 C 0.02188 0.04994 0.02014 0.05017 0.02014 0.05202 C 0.02014 0.0578 0.03021 0.07029 0.03368 0.07376 C 0.0382 0.08278 0.04566 0.09503 0.05399 0.0985 C 0.06389 0.10752 0.07379 0.11861 0.08524 0.12347 C 0.09358 0.13526 0.1066 0.13526 0.11788 0.13804 C 0.12639 0.14012 0.13125 0.14243 0.1408 0.14428 C 0.19254 0.14312 0.2441 0.14312 0.29583 0.14174 C 0.30747 0.14174 0.31945 0.1311 0.3309 0.12902 C 0.33611 0.12694 0.34097 0.12555 0.34601 0.12208 C 0.35139 0.11792 0.35452 0.1133 0.36094 0.11121 C 0.36597 0.10405 0.37066 0.09919 0.37448 0.09179 C 0.37761 0.07838 0.37309 0.09387 0.38004 0.08069 C 0.38073 0.07931 0.38073 0.07723 0.38108 0.07561 C 0.3842 0.06752 0.38438 0.06752 0.38802 0.06312 C 0.39115 0.04439 0.38837 0.05133 0.39375 0.04162 C 0.39306 0.02728 0.39323 0.01249 0.39202 -0.00208 C 0.39184 -0.00555 0.38924 -0.00879 0.38924 -0.01248 C 0.38924 -0.01318 0.38924 -0.01341 0.38924 -0.01318 E">
                                      <p:cBhvr>
                                        <p:cTn id="4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3064E-006 C -0.00087 -0.00971 -0.00087 -0.01943 -0.00156 -0.02821 C -0.0026 -0.0363 -0.00451 -0.04417 -0.00659 -0.05064 C -0.01232 -0.06844 -0.02048 -0.09041 -0.02847 -0.10382 C -0.03264 -0.11076 -0.03333 -0.11607 -0.03837 -0.12139 C -0.04479 -0.14012 -0.03628 -0.11769 -0.04583 -0.13434 C -0.04687 -0.13596 -0.04687 -0.13966 -0.04843 -0.14151 C -0.04982 -0.14498 -0.05677 -0.15029 -0.0592 -0.15168 C -0.06718 -0.16902 -0.05833 -0.15307 -0.06666 -0.16162 C -0.07239 -0.16856 -0.07621 -0.1755 -0.08246 -0.17943 C -0.0901 -0.18983 -0.09948 -0.19445 -0.10833 -0.19977 C -0.12951 -0.21318 -0.15121 -0.21943 -0.17326 -0.22405 C -0.19531 -0.22405 -0.21788 -0.22382 -0.24045 -0.22243 C -0.25087 -0.22174 -0.26076 -0.21064 -0.27118 -0.20694 C -0.27222 -0.20625 -0.27361 -0.20555 -0.275 -0.20463 C -0.27587 -0.20278 -0.27708 -0.20116 -0.27864 -0.19977 C -0.2809 -0.19769 -0.28576 -0.19492 -0.28576 -0.19469 C -0.29149 -0.18266 -0.2842 -0.1963 -0.29305 -0.18706 C -0.296 -0.18428 -0.30052 -0.17734 -0.30052 -0.17711 C -0.30573 -0.16047 -0.31232 -0.15561 -0.31753 -0.14151 C -0.32048 -0.13457 -0.32187 -0.12602 -0.325 -0.11885 C -0.32691 -0.09781 -0.33194 -0.07584 -0.33958 -0.06104 C -0.34184 -0.04486 -0.34184 -0.02752 -0.34184 -0.01064 E">
                                      <p:cBhvr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9827E-006 C 0.00434 0.01041 0.00695 0.02012 0.0132 0.02867 C 0.01511 0.03607 0.02274 0.04809 0.02274 0.04856 C 0.02188 0.04994 0.02014 0.05017 0.02014 0.05202 C 0.02014 0.0578 0.03021 0.07029 0.03368 0.07376 C 0.0382 0.08278 0.04566 0.09503 0.05399 0.0985 C 0.06389 0.10752 0.07379 0.11861 0.08524 0.12347 C 0.09358 0.13526 0.1066 0.13526 0.11788 0.13804 C 0.12639 0.14012 0.13125 0.14243 0.1408 0.14428 C 0.19254 0.14312 0.2441 0.14312 0.29583 0.14174 C 0.30747 0.14174 0.31945 0.1311 0.3309 0.12902 C 0.33611 0.12694 0.34097 0.12555 0.34601 0.12208 C 0.35139 0.11792 0.35452 0.1133 0.36094 0.11121 C 0.36597 0.10405 0.37066 0.09919 0.37448 0.09179 C 0.37761 0.07838 0.37309 0.09387 0.38004 0.08069 C 0.38073 0.07931 0.38073 0.07723 0.38108 0.07561 C 0.3842 0.06752 0.38438 0.06752 0.38802 0.06312 C 0.39115 0.04439 0.38837 0.05133 0.39375 0.04162 C 0.39306 0.02728 0.39323 0.01249 0.39202 -0.00208 C 0.39184 -0.00555 0.38924 -0.00879 0.38924 -0.01248 C 0.38924 -0.01318 0.38924 -0.01341 0.38924 -0.01318 E"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93064E-006 C -0.00087 -0.00971 -0.00087 -0.01943 -0.00156 -0.02821 C -0.0026 -0.0363 -0.00451 -0.04417 -0.00659 -0.05064 C -0.01232 -0.06844 -0.02048 -0.09041 -0.02847 -0.10382 C -0.03264 -0.11076 -0.03333 -0.11607 -0.03837 -0.12139 C -0.04479 -0.14012 -0.03628 -0.11769 -0.04583 -0.13434 C -0.04687 -0.13596 -0.04687 -0.13966 -0.04843 -0.14151 C -0.04982 -0.14498 -0.05677 -0.15029 -0.0592 -0.15168 C -0.06718 -0.16902 -0.05833 -0.15307 -0.06666 -0.16162 C -0.07239 -0.16856 -0.07621 -0.1755 -0.08246 -0.17943 C -0.0901 -0.18983 -0.09948 -0.19445 -0.10833 -0.19977 C -0.12951 -0.21318 -0.15121 -0.21943 -0.17326 -0.22405 C -0.19531 -0.22405 -0.21788 -0.22382 -0.24045 -0.22243 C -0.25087 -0.22174 -0.26076 -0.21064 -0.27118 -0.20694 C -0.27222 -0.20625 -0.27361 -0.20555 -0.275 -0.20463 C -0.27587 -0.20278 -0.27708 -0.20116 -0.27864 -0.19977 C -0.2809 -0.19769 -0.28576 -0.19492 -0.28576 -0.19469 C -0.29149 -0.18266 -0.2842 -0.1963 -0.29305 -0.18706 C -0.296 -0.18428 -0.30052 -0.17734 -0.30052 -0.17711 C -0.30573 -0.16047 -0.31232 -0.15561 -0.31753 -0.14151 C -0.32048 -0.13457 -0.32187 -0.12602 -0.325 -0.11885 C -0.32691 -0.09781 -0.33194 -0.07584 -0.33958 -0.06104 C -0.34184 -0.04486 -0.34184 -0.02752 -0.34184 -0.01064 E">
                                      <p:cBhvr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50920" y="1557360"/>
            <a:ext cx="864216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小路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的小路</a:t>
            </a:r>
            <a:r>
              <a:rPr b="1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1341360"/>
            <a:ext cx="864216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杨树</a:t>
            </a: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的杨树</a:t>
            </a:r>
            <a:r>
              <a:rPr b="1" sz="10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c9fc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85880" y="92880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鸟蛋就是两只小鸟，鸟妈妈这会儿一定焦急不安</a:t>
            </a:r>
            <a:r>
              <a:rPr b="1" lang="en-US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03:43:54Z</dcterms:created>
  <dc:creator>ruzi</dc:creator>
  <dc:description/>
  <dc:language>en-US</dc:language>
  <cp:lastModifiedBy>Michael</cp:lastModifiedBy>
  <dcterms:modified xsi:type="dcterms:W3CDTF">2008-02-10T12:56:25Z</dcterms:modified>
  <cp:revision>29</cp:revision>
  <dc:subject/>
  <dc:title>幻灯片 1</dc:title>
</cp:coreProperties>
</file>