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764-DBB1-47D5-AC7F-93A96891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5BC-7688-45E3-96E6-086555AD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A53-353F-44C7-A977-81118C82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487-01C0-400B-9EBB-4B9AB3DA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AFE0-3114-4EFC-A747-80338CE8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D3A-A3D9-4198-9181-87DC221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41E5-F21C-42A0-8072-7EE0E31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F54A-7EC3-4A12-9485-3D51AD5B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7BA5-54BA-4F15-A7F8-A911E7A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6A5-5E15-4E6C-B2A4-AB06262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0A3-7DDA-4C96-84C2-6014DA6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B22-9526-4C80-9F36-42EF13A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8BC-1391-4574-9ED6-9331C24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E492-6DB6-437E-B48B-B91C6E7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2B29-B316-424F-958E-AB1980E0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450A-BD04-4163-AA4D-BAAF38E3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C9D-BD7D-49EB-B372-98FCF4A5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5475-FAF0-4D4A-95FE-727E0D8D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B9CE-49CB-4C65-8A85-17F1D32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70D3-ACB4-41A0-A24D-57CDD20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FBAC-9A52-4F58-B867-C080D342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AB96-458B-4458-AFA7-928946C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587-6094-4749-8DC5-101D4D7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4614-04F1-4F3C-A5E2-E2CD761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C825-FA3C-4DCB-A3EB-C3DB05A9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A4FC-CB9F-470C-9ED9-6D02C99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AF65-79E2-4A7A-A94E-FEC1C6C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71F9-2BD6-437D-8F72-4380571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E56E-2FBC-48BD-9700-D97B490C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5715-B9C8-4E98-800A-15E064D2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8D34-EC19-48B8-BAE8-4B8D30B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70B6-5FE0-46F8-BA02-0C6ABEC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C62C-1EB6-4F48-9181-16E7E8D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691-4D81-4172-99D6-315800BC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6C2E-94A0-4732-8F79-6271C6B0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EA5F-9E09-49E8-8466-0D5F0D87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A810-0616-46B5-92B7-5B4D8B7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2DC2-82EC-42CC-BE0D-BDE78D69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9970-8974-4FA4-84CB-EDF4C63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9926-ECA0-4E61-A816-C42BADB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294D-67C1-492C-B02F-C6B4B68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56B7-D96B-4509-9C00-DF429560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7281-1281-4889-AE06-DF13A5BD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990-820D-4C9E-B084-8A945ABA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B92-3FC7-4D27-B38A-3D87ED4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90A-49CF-4282-8EB1-5C2745B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DBD-5378-4891-87C7-A1EEA35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63D-4E00-426B-BA19-277313E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365A-0EFC-4E59-A964-6590A756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B2BF-BE6A-473D-92DF-4A031D7A89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4F72-0BFA-4E4E-9E88-29F56684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F8AA-0F09-4CB0-968F-914582CCE7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WordArt 4" descr=""/>
          <p:cNvPicPr/>
          <p:nvPr/>
        </p:nvPicPr>
        <p:blipFill>
          <a:blip r:embed="rId1"/>
          <a:stretch/>
        </p:blipFill>
        <p:spPr>
          <a:xfrm>
            <a:off x="2614680" y="2408400"/>
            <a:ext cx="4346640" cy="1261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3641400" y="53578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江西省九江市长虹小学  刘　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668680" y="42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教版一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67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69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Text Box 7"/>
          <p:cNvSpPr/>
          <p:nvPr/>
        </p:nvSpPr>
        <p:spPr>
          <a:xfrm>
            <a:off x="3086280" y="2602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明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73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75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7"/>
          <p:cNvSpPr/>
          <p:nvPr/>
        </p:nvSpPr>
        <p:spPr>
          <a:xfrm>
            <a:off x="3713040" y="40464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净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68360" y="404640"/>
            <a:ext cx="8316720" cy="74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xiān   lù     màn     j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先      鹿       慢       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bí     nǎo    dài    ɡuà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鼻       脑       袋       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tuī    liànɡ   ɡǎn     jiǔ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推       辆       赶       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ɡān    jì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干       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042920" y="698400"/>
            <a:ext cx="741672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先   鹿   慢   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鼻   脑   袋   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推   辆   赶   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干   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1619280" y="1197000"/>
            <a:ext cx="62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  卵石  喜欢 散步   堆积  忽然  扫帚 清扫  认真  帮忙  浇水 一直干干净净     五颜六色 慢慢地 轻轻地  嗡嗡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adf1"/>
            </a:gs>
            <a:gs pos="100000">
              <a:srgbClr val="f5c4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3005640" y="11970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不见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539720" y="23893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怎么不见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287280" y="361332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一定要把美丽的小路找回来！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43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Text Box 7"/>
          <p:cNvSpPr/>
          <p:nvPr/>
        </p:nvSpPr>
        <p:spPr>
          <a:xfrm>
            <a:off x="3210120" y="45072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先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49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51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7"/>
          <p:cNvSpPr/>
          <p:nvPr/>
        </p:nvSpPr>
        <p:spPr>
          <a:xfrm>
            <a:off x="3230640" y="73980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干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55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 Box 7"/>
          <p:cNvSpPr/>
          <p:nvPr/>
        </p:nvSpPr>
        <p:spPr>
          <a:xfrm>
            <a:off x="3301920" y="47628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赶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1403280" y="298080"/>
            <a:ext cx="6281640" cy="6272640"/>
            <a:chOff x="1403280" y="298080"/>
            <a:chExt cx="6281640" cy="6272640"/>
          </a:xfrm>
        </p:grpSpPr>
        <p:sp>
          <p:nvSpPr>
            <p:cNvPr id="261" name="Rectangle 3"/>
            <p:cNvSpPr/>
            <p:nvPr/>
          </p:nvSpPr>
          <p:spPr>
            <a:xfrm>
              <a:off x="1419120" y="304920"/>
              <a:ext cx="6265800" cy="626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"/>
            <p:cNvGrpSpPr/>
            <p:nvPr/>
          </p:nvGrpSpPr>
          <p:grpSpPr>
            <a:xfrm>
              <a:off x="1403280" y="298080"/>
              <a:ext cx="6264360" cy="6264360"/>
              <a:chOff x="1403280" y="298080"/>
              <a:chExt cx="6264360" cy="6264360"/>
            </a:xfrm>
          </p:grpSpPr>
          <p:sp>
            <p:nvSpPr>
              <p:cNvPr id="263" name="Line 5"/>
              <p:cNvSpPr/>
              <p:nvPr/>
            </p:nvSpPr>
            <p:spPr>
              <a:xfrm>
                <a:off x="1403280" y="3429000"/>
                <a:ext cx="6264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 flipV="1">
                <a:off x="4557600" y="298080"/>
                <a:ext cx="0" cy="626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Text Box 7"/>
          <p:cNvSpPr/>
          <p:nvPr/>
        </p:nvSpPr>
        <p:spPr>
          <a:xfrm>
            <a:off x="2941560" y="595440"/>
            <a:ext cx="28476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0066"/>
                </a:solidFill>
                <a:latin typeface="Arial"/>
                <a:ea typeface="楷体_GB2312"/>
              </a:rPr>
              <a:t>起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8:02:28Z</dcterms:created>
  <dc:creator>Microsoft.com</dc:creator>
  <dc:description/>
  <dc:language>en-US</dc:language>
  <cp:lastModifiedBy>刘芬</cp:lastModifiedBy>
  <dcterms:modified xsi:type="dcterms:W3CDTF">2010-03-23T03:40:23Z</dcterms:modified>
  <cp:revision>5</cp:revision>
  <dc:subject/>
  <dc:title>幻灯片 1</dc:title>
</cp:coreProperties>
</file>