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4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2E6-6DFB-4AF9-88C5-7D606711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6C5-47F6-4524-8E6C-1C685975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6B4-DAE5-425B-8EC7-B6A1CE03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717-9DA3-4D11-B328-007C0B20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F08-A84D-41C4-B0D1-E6F82B6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B2B-F3B2-48E4-B3F1-6994905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31-83BF-46C5-AB6D-45942C93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5EF-5A77-4E8F-BA29-FE7E3F4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699-20CB-4BB0-A7A9-A9272255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635-EDED-4D85-B632-5AFF8B5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98B-A41A-4084-8A9D-5064780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F28-ADCA-485F-AE2F-634057F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8A0C-A7D0-4DF6-93D9-C9AAA00D3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W00089%5B1%5D" descr=""/>
          <p:cNvPicPr/>
          <p:nvPr/>
        </p:nvPicPr>
        <p:blipFill>
          <a:blip r:embed="rId1"/>
          <a:stretch/>
        </p:blipFill>
        <p:spPr>
          <a:xfrm>
            <a:off x="182880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458720" y="838080"/>
            <a:ext cx="3106440" cy="56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晏子使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70028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分角色把故事的内容演一演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春秋是我国历史上的一个时代。这期间，各国经常争战。其中齐楚两国国力强大，争夺霸业很激烈。这篇课文讲的是发生在齐、楚两国外交中的一个故事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3808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57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49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晏子  名婴，字仲平，山东高密人，是春秋时期齐国的大夫，他身材矮小，其貌不扬，但能言善辩，很有才干，齐威王派他出访楚国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楚国春秋战国时的一个国家，西周时立国，大约在今湖北荆山一带后来楚国不断扩大势力，占据了长江中游，后又  灭越国，在公元前</a:t>
            </a: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223</a:t>
            </a: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年被秦国消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286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柑橘     柑，一种果树，属常绿灌木，开白色小花，果实扁圆形，成熟后为黄色。其果肉味甜多汁。橘，亦属同一类果木，柑橘指柑、橘、橙、柚等，属同一类的水果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5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水彩山水15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花草7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14479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9907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枳   是一种落叶灌木或小乔木。开白色小花，结黄绿色小球形浆果 ，味道酸苦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 ，可入药，用以消积、化痰。枳也叫枸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m_050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3920" y="14479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楚王几次侮辱晏子？是怎样侮辱他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0"/>
            <a:ext cx="3048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0492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黑体"/>
              </a:rPr>
              <a:t>阅读提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j_040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27432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晏子为了维护自己的人格和国家的尊严，是怎样反驳的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762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阅读提示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90920" y="380880"/>
            <a:ext cx="594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620640"/>
            <a:ext cx="747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这篇课文主要讲了什么内容？是怎样有条理地记叙这一内容的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1:14:06Z</dcterms:created>
  <dc:creator>jsh</dc:creator>
  <dc:description/>
  <dc:language>en-US</dc:language>
  <cp:lastModifiedBy>aaapeng</cp:lastModifiedBy>
  <dcterms:modified xsi:type="dcterms:W3CDTF">2010-02-06T14:06:41Z</dcterms:modified>
  <cp:revision>12</cp:revision>
  <dc:subject/>
  <dc:title>PowerPoint 演示文稿</dc:title>
</cp:coreProperties>
</file>