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89FA-B3CE-41AA-A409-229FAED0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87F4-51EA-447F-9EBE-91838995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B26D-8618-4F31-9620-399D9386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AAF-271B-4E1D-BDD7-BC249E0C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231-EB31-48A7-B322-E6721C58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C9F7-B3D1-4E33-AD17-DD999688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7F09-7E40-4671-A2B9-7B94CF9A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19F-851D-444D-9FBB-17123D93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837-F4B2-4079-8161-D5769524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722-4D5F-4DDA-97AD-23ECACF4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98D-A87D-497F-82C8-6835E11E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C484-26BC-4BE9-99F1-8681899A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0722-840B-4510-8D46-79B372968D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20961;&#21345;.ppt#3. &#24187;&#28783;&#29255; 3" TargetMode="External"/><Relationship Id="rId2" Type="http://schemas.openxmlformats.org/officeDocument/2006/relationships/hyperlink" Target="file:///&#20961;&#21345;.ppt#4. &#24187;&#28783;&#29255; 4" TargetMode="Externa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27640" y="2100240"/>
            <a:ext cx="37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楷体_GB2312"/>
              </a:rPr>
              <a:t>凡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84720" y="5084640"/>
            <a:ext cx="43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制作人：孙红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769" r="0" b="0"/>
          <a:stretch/>
        </p:blipFill>
        <p:spPr>
          <a:xfrm>
            <a:off x="496800" y="404640"/>
            <a:ext cx="3283200" cy="576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30492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80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634000" y="692280"/>
            <a:ext cx="15210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互相学习  敬请指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83600" y="2349360"/>
            <a:ext cx="5461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二零零六年十一月十五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769" r="0" b="0"/>
          <a:stretch/>
        </p:blipFill>
        <p:spPr>
          <a:xfrm>
            <a:off x="1403280" y="836640"/>
            <a:ext cx="3529080" cy="5184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880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4797360"/>
            <a:ext cx="878544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读到时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，我感到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__________________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/>
              </a:rPr>
              <a:t>难过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愤怒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疑惑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……）。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rcRect l="0" t="769" r="0" b="0"/>
          <a:stretch/>
        </p:blipFill>
        <p:spPr>
          <a:xfrm>
            <a:off x="2987640" y="331920"/>
            <a:ext cx="316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140360" y="110340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昨天晚上我挨了一顿打，因为我给他们的小崽子摇摇篮的时候，不知不觉睡着了。老板揪着我的头发，把我拖到院子里，拿皮带揍了我一顿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0" t="769" r="0" b="0"/>
          <a:stretch/>
        </p:blipFill>
        <p:spPr>
          <a:xfrm>
            <a:off x="539640" y="836640"/>
            <a:ext cx="3168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43280" y="291852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这个礼拜，老板娘叫我收拾一条青鱼，我从尾巴上弄起，她就捞起那条青鱼，拿鱼嘴直戳我的脸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11056"/>
                </a:moveTo>
                <a:lnTo>
                  <a:pt x="17806" y="4049"/>
                </a:lnTo>
                <a:lnTo>
                  <a:pt x="17806" y="1806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0" t="769" r="0" b="0"/>
          <a:stretch/>
        </p:blipFill>
        <p:spPr>
          <a:xfrm>
            <a:off x="324000" y="981000"/>
            <a:ext cx="3168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211640" y="148428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伙计们捉弄我，他们打发我上酒店去打酒，他们叫我偷老板的黄瓜，老板随手捞起个家伙就打我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0" t="769" r="0" b="0"/>
          <a:stretch/>
        </p:blipFill>
        <p:spPr>
          <a:xfrm>
            <a:off x="611280" y="836640"/>
            <a:ext cx="3168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24360" y="549360"/>
            <a:ext cx="521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亲爱的爷爷，发发慈悲吧，带我离开这儿回家，回到我们村子里去吧！我再也受不住了！……我给您跪下了，我会永远为您祷告上帝。带我离开这儿吧，要不，我就要死了！……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769" r="0" b="0"/>
          <a:stretch/>
        </p:blipFill>
        <p:spPr>
          <a:xfrm>
            <a:off x="466560" y="692280"/>
            <a:ext cx="3168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24360" y="907920"/>
            <a:ext cx="46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404640"/>
            <a:ext cx="5867280" cy="59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在鞋匠的家里，他忍受着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_________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， 忍受着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_________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，忍受着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_________......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但他仅仅只有九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热闹的莫斯科，有那么多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但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__________________ 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繁华的莫斯科，有那么多东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但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__________________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在这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_________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的圣诞节前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听见，他伤心的叹了口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知道，他想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_________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769" r="0" b="0"/>
          <a:stretch/>
        </p:blipFill>
        <p:spPr>
          <a:xfrm>
            <a:off x="466560" y="692280"/>
            <a:ext cx="2737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62064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天气真好，晴朗，一丝风也没有，干冷干冷的。那是个没有月亮的夜晚，可是整个村子——白房顶啦，烟囱里冒出来的一缕缕的烟啦，披着浓霜一身银白的树木啦，雪堆啦，全看得见。天空撒满了快活地眨着眼的星星，天河显得很清楚，仿佛为了过节，有人拿雪把它擦亮了似的…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5369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95640" y="692280"/>
            <a:ext cx="4859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过了一个钟头，他怀着甜蜜的希望睡熟了。他在梦里看见一铺暖炕，炕上坐着他的爷爷，搭拉着两条腿，正在念他的信……泥鳅在炕边走来走去，摇着尾巴…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769" r="0" b="0"/>
          <a:stretch/>
        </p:blipFill>
        <p:spPr>
          <a:xfrm>
            <a:off x="466560" y="692280"/>
            <a:ext cx="3168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163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1:59:57Z</dcterms:created>
  <dc:creator>USER</dc:creator>
  <dc:description/>
  <dc:language>en-US</dc:language>
  <cp:lastModifiedBy>czd</cp:lastModifiedBy>
  <dcterms:modified xsi:type="dcterms:W3CDTF">2006-12-04T09:09:55Z</dcterms:modified>
  <cp:revision>35</cp:revision>
  <dc:subject/>
  <dc:title>幻灯片 1</dc:title>
</cp:coreProperties>
</file>