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D96-4367-42AB-BD1B-E47CBB57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44C-0899-451C-A683-5CE72C6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5F4-D241-42E1-BC39-0EFC054B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27D-838E-4BF2-B756-F78E7F64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2B8-1DD0-4A6C-9505-146653C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DC2-CD0C-43B3-BD5B-EDCC940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550-D4A4-4FF9-8379-0DAE888E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C34-C700-417B-8771-B24E1BB2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1DB-DA0D-446F-93EE-89F91B5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D9A-6BD1-4096-B38D-BD3404F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22F-3E8E-4F8A-9DDE-36D22E2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FC3-1999-4381-A748-CB5FD28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76B-DF9A-4815-BE3E-DE48CEF87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067;&#32622;&#20316;&#19994;.p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hyperlink" Target="file:///&#22797;&#20064;&#23548;&#20837;.ppt" TargetMode="External"/><Relationship Id="rId9" Type="http://schemas.openxmlformats.org/officeDocument/2006/relationships/hyperlink" Target="file:///&#21697;&#35835;&#35838;&#25991;.ppt" TargetMode="External"/><Relationship Id="rId10" Type="http://schemas.openxmlformats.org/officeDocument/2006/relationships/hyperlink" Target="file:///&#24863;&#24735;&#29983;&#21629;.ppt" TargetMode="External"/><Relationship Id="rId11" Type="http://schemas.openxmlformats.org/officeDocument/2006/relationships/hyperlink" Target="file:///&#29983;&#21629;&#22270;&#29255;&#27427;&#36175;.ppt" TargetMode="External"/><Relationship Id="rId12" Type="http://schemas.openxmlformats.org/officeDocument/2006/relationships/hyperlink" Target="file:///&#24067;&#32622;&#20316;&#19994;.ppt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40464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19  </a:t>
            </a: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生命 生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5877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安徽省宣城市第二小学      祝君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粒貌不惊人的种子，往往隐藏着一个花季的灿烂；一条丑陋的毛虫，可能蜕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(tuì)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变为一只五色斑斓的彩蝶。因为，生命本身就是一桩奇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75360" y="4005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（杏林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89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虽然生命短暂，但是，我们却可以让有限的生命体现出无限的价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人的一生可以腐朽，也可以燃烧，我要让他燃烧起来。—— 列夫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337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珍爱生命，要珍惜时间，我们要把有限的时间花在有意义的事情上。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虽然生命短暂，但是，我们却可以让有限的生命体现出无限的价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77336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我们不但要善待自己，还要学会敬重别人，怀有一颗慈悲之心去帮助别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3933720"/>
            <a:ext cx="648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716280"/>
            <a:ext cx="8280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一个人的价值，应当看他贡献什么，而不应看他取得什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爱因斯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0"/>
            <a:ext cx="8569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虽然生命短暂，但是，我们却可以让有限的生命体现出无限的价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面对不幸和苦难，我们要勇敢无畏地去面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076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要扼住命运的咽喉，它休想使我屈服。——贝多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4824360" cy="1099440"/>
          </a:xfrm>
          <a:prstGeom prst="rect">
            <a:avLst/>
          </a:prstGeom>
          <a:solidFill>
            <a:srgbClr val="ff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生命是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336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生命是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推荐几本好书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59640" y="1268280"/>
            <a:ext cx="1550880" cy="2362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19520" y="3962520"/>
            <a:ext cx="3276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天蓝色的彼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—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Arial"/>
              </a:rPr>
              <a:t>艾利克斯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Arial"/>
              </a:rPr>
              <a:t>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Arial"/>
              </a:rPr>
              <a:t>希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3933720"/>
            <a:ext cx="2568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橙色女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Arial"/>
              </a:rPr>
              <a:t>乔斯坦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Arial"/>
              </a:rPr>
              <a:t>·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Arial"/>
              </a:rPr>
              <a:t>贾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155736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168768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005360"/>
            <a:ext cx="2484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绝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海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6732720" y="5734080"/>
            <a:ext cx="1224000" cy="863640"/>
          </a:xfrm>
          <a:custGeom>
            <a:avLst/>
            <a:gdLst>
              <a:gd name="textAreaLeft" fmla="*/ 55800 w 1224000"/>
              <a:gd name="textAreaRight" fmla="*/ 1168200 w 122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0609" h="21600">
                <a:moveTo>
                  <a:pt x="0" y="0"/>
                </a:moveTo>
                <a:lnTo>
                  <a:pt x="30609" y="0"/>
                </a:lnTo>
                <a:lnTo>
                  <a:pt x="30609" y="21600"/>
                </a:lnTo>
                <a:lnTo>
                  <a:pt x="0" y="21600"/>
                </a:lnTo>
                <a:close/>
              </a:path>
              <a:path fill="lightenLess" w="30609" h="21600">
                <a:moveTo>
                  <a:pt x="0" y="0"/>
                </a:moveTo>
                <a:lnTo>
                  <a:pt x="30609" y="0"/>
                </a:lnTo>
                <a:lnTo>
                  <a:pt x="29209" y="1400"/>
                </a:lnTo>
                <a:lnTo>
                  <a:pt x="1400" y="1400"/>
                </a:lnTo>
                <a:close/>
              </a:path>
              <a:path fill="darken" w="30609" h="21600">
                <a:moveTo>
                  <a:pt x="30609" y="0"/>
                </a:moveTo>
                <a:lnTo>
                  <a:pt x="30609" y="21600"/>
                </a:lnTo>
                <a:lnTo>
                  <a:pt x="29209" y="20200"/>
                </a:lnTo>
                <a:lnTo>
                  <a:pt x="29209" y="1400"/>
                </a:lnTo>
                <a:close/>
              </a:path>
              <a:path fill="darkenLess" w="30609" h="21600">
                <a:moveTo>
                  <a:pt x="30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9" y="20200"/>
                </a:lnTo>
                <a:close/>
              </a:path>
              <a:path fill="lighten" w="30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9" h="21600">
                <a:moveTo>
                  <a:pt x="8298" y="3794"/>
                </a:moveTo>
                <a:lnTo>
                  <a:pt x="22311" y="10800"/>
                </a:lnTo>
                <a:lnTo>
                  <a:pt x="8298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0"/>
            <a:ext cx="38671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体验反思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068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阅读本文后，你自已的感受是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什么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？在日常生活和学习中你对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琥珀"/>
              </a:rPr>
              <a:t>生命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有哪些认识？请将自己的感受写下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19640" y="4797360"/>
            <a:ext cx="37450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32000" y="404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5661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安徽省宣城市第二小学      祝君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278136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再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596360" y="5992920"/>
            <a:ext cx="1368360" cy="865080"/>
            <a:chOff x="7596360" y="5992920"/>
            <a:chExt cx="1368360" cy="865080"/>
          </a:xfrm>
        </p:grpSpPr>
        <p:sp>
          <p:nvSpPr>
            <p:cNvPr id="136" name="">
              <a:hlinkClick r:id="" action="ppaction://hlinkshowjump?jump=firstslide"/>
            </p:cNvPr>
            <p:cNvSpPr/>
            <p:nvPr/>
          </p:nvSpPr>
          <p:spPr>
            <a:xfrm>
              <a:off x="7596360" y="5992920"/>
              <a:ext cx="1368360" cy="865080"/>
            </a:xfrm>
            <a:custGeom>
              <a:avLst/>
              <a:gdLst>
                <a:gd name="textAreaLeft" fmla="*/ 55800 w 1368360"/>
                <a:gd name="textAreaRight" fmla="*/ 1312560 w 1368360"/>
                <a:gd name="textAreaTop" fmla="*/ 55800 h 865080"/>
                <a:gd name="textAreaBottom" fmla="*/ 809280 h 865080"/>
              </a:gdLst>
              <a:ahLst/>
              <a:rect l="textAreaLeft" t="textAreaTop" r="textAreaRight" b="textAreaBottom"/>
              <a:pathLst>
                <a:path w="34161" h="21600">
                  <a:moveTo>
                    <a:pt x="0" y="0"/>
                  </a:moveTo>
                  <a:lnTo>
                    <a:pt x="34161" y="0"/>
                  </a:lnTo>
                  <a:lnTo>
                    <a:pt x="34161" y="21600"/>
                  </a:lnTo>
                  <a:lnTo>
                    <a:pt x="0" y="21600"/>
                  </a:lnTo>
                  <a:close/>
                </a:path>
                <a:path fill="lightenLess" w="34161" h="21600">
                  <a:moveTo>
                    <a:pt x="0" y="0"/>
                  </a:moveTo>
                  <a:lnTo>
                    <a:pt x="34161" y="0"/>
                  </a:lnTo>
                  <a:lnTo>
                    <a:pt x="32761" y="1400"/>
                  </a:lnTo>
                  <a:lnTo>
                    <a:pt x="1400" y="1400"/>
                  </a:lnTo>
                  <a:close/>
                </a:path>
                <a:path fill="darken" w="34161" h="21600">
                  <a:moveTo>
                    <a:pt x="34161" y="0"/>
                  </a:moveTo>
                  <a:lnTo>
                    <a:pt x="34161" y="21600"/>
                  </a:lnTo>
                  <a:lnTo>
                    <a:pt x="32761" y="20200"/>
                  </a:lnTo>
                  <a:lnTo>
                    <a:pt x="32761" y="1400"/>
                  </a:lnTo>
                  <a:close/>
                </a:path>
                <a:path fill="darkenLess" w="34161" h="21600">
                  <a:moveTo>
                    <a:pt x="341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761" y="20200"/>
                  </a:lnTo>
                  <a:close/>
                </a:path>
                <a:path fill="lighten" w="341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161" h="21600">
                  <a:moveTo>
                    <a:pt x="17081" y="3837"/>
                  </a:moveTo>
                  <a:lnTo>
                    <a:pt x="19657" y="6448"/>
                  </a:lnTo>
                  <a:lnTo>
                    <a:pt x="19657" y="4707"/>
                  </a:lnTo>
                  <a:lnTo>
                    <a:pt x="21432" y="4707"/>
                  </a:lnTo>
                  <a:lnTo>
                    <a:pt x="21432" y="8224"/>
                  </a:lnTo>
                  <a:lnTo>
                    <a:pt x="24043" y="10800"/>
                  </a:lnTo>
                  <a:lnTo>
                    <a:pt x="22390" y="10800"/>
                  </a:lnTo>
                  <a:lnTo>
                    <a:pt x="22390" y="17989"/>
                  </a:lnTo>
                  <a:lnTo>
                    <a:pt x="11771" y="17989"/>
                  </a:lnTo>
                  <a:lnTo>
                    <a:pt x="11771" y="10800"/>
                  </a:lnTo>
                  <a:lnTo>
                    <a:pt x="10118" y="10800"/>
                  </a:lnTo>
                  <a:close/>
                </a:path>
                <a:path fill="darkenLess" w="34161" h="21600">
                  <a:moveTo>
                    <a:pt x="19657" y="6448"/>
                  </a:moveTo>
                  <a:lnTo>
                    <a:pt x="19657" y="4707"/>
                  </a:lnTo>
                  <a:lnTo>
                    <a:pt x="21432" y="4707"/>
                  </a:lnTo>
                  <a:lnTo>
                    <a:pt x="21432" y="8224"/>
                  </a:lnTo>
                  <a:close/>
                </a:path>
                <a:path fill="darkenLess" w="34161" h="21600">
                  <a:moveTo>
                    <a:pt x="16158" y="14299"/>
                  </a:moveTo>
                  <a:lnTo>
                    <a:pt x="18003" y="14299"/>
                  </a:lnTo>
                  <a:lnTo>
                    <a:pt x="18003" y="17989"/>
                  </a:lnTo>
                  <a:lnTo>
                    <a:pt x="22390" y="17989"/>
                  </a:lnTo>
                  <a:lnTo>
                    <a:pt x="22390" y="10800"/>
                  </a:lnTo>
                  <a:lnTo>
                    <a:pt x="11771" y="10800"/>
                  </a:lnTo>
                  <a:lnTo>
                    <a:pt x="11771" y="17989"/>
                  </a:lnTo>
                  <a:lnTo>
                    <a:pt x="16158" y="17989"/>
                  </a:lnTo>
                  <a:close/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" action="ppaction://hlinkshowjump?jump=firstslide"/>
            </p:cNvPr>
            <p:cNvSpPr/>
            <p:nvPr/>
          </p:nvSpPr>
          <p:spPr>
            <a:xfrm>
              <a:off x="7885080" y="615636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返回首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0" t="109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2612" t="18346" r="236" b="18635"/>
          <a:stretch/>
        </p:blipFill>
        <p:spPr>
          <a:xfrm>
            <a:off x="2411280" y="1844640"/>
            <a:ext cx="165600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6681" t="1444" r="6681" b="1444"/>
          <a:stretch/>
        </p:blipFill>
        <p:spPr>
          <a:xfrm>
            <a:off x="0" y="5661000"/>
            <a:ext cx="1187280" cy="119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6681" t="1444" r="6681" b="1444"/>
          <a:stretch/>
        </p:blipFill>
        <p:spPr>
          <a:xfrm>
            <a:off x="2987640" y="5445000"/>
            <a:ext cx="1008000" cy="112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6681" r="832" b="0"/>
          <a:stretch/>
        </p:blipFill>
        <p:spPr>
          <a:xfrm>
            <a:off x="7885080" y="4508640"/>
            <a:ext cx="66852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rcRect l="2612" t="18346" r="236" b="18635"/>
          <a:stretch/>
        </p:blipFill>
        <p:spPr>
          <a:xfrm>
            <a:off x="395280" y="2924280"/>
            <a:ext cx="1655640" cy="10191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8"/>
          </p:cNvPr>
          <p:cNvSpPr/>
          <p:nvPr/>
        </p:nvSpPr>
        <p:spPr>
          <a:xfrm>
            <a:off x="179280" y="58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复习导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/>
          </p:cNvPr>
          <p:cNvSpPr/>
          <p:nvPr/>
        </p:nvSpPr>
        <p:spPr>
          <a:xfrm>
            <a:off x="3132000" y="5589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/>
          </p:cNvPr>
          <p:cNvSpPr/>
          <p:nvPr/>
        </p:nvSpPr>
        <p:spPr>
          <a:xfrm>
            <a:off x="684360" y="30686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感悟生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/>
          </p:cNvPr>
          <p:cNvSpPr/>
          <p:nvPr/>
        </p:nvSpPr>
        <p:spPr>
          <a:xfrm>
            <a:off x="2700360" y="198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图片欣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/>
          </p:cNvPr>
          <p:cNvSpPr/>
          <p:nvPr/>
        </p:nvSpPr>
        <p:spPr>
          <a:xfrm>
            <a:off x="7583760" y="479736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Times New Roman"/>
              </a:rPr>
              <a:t>布置作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d4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依据课文填写词语，检查巩固上节课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   ）的力量            （                 ）的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           ）的外壳            （                 ）的震撼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           ）的生命            （             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1"/>
          <a:srcRect l="15676" t="9768" r="1276" b="894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4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98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坚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98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极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4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14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20640"/>
            <a:ext cx="77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90792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夜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我在灯下写稿，一只飞蛾不停地在我头顶上飞来飞去，骚扰着我。趁它停下的时候，我一伸手捉住了它。只要我的手指稍一用力，它就不能动弹了。但它挣扎着，极力鼓动双翅，我感到一股生命的力量在我手中跃动，那样强烈！那样鲜明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飞蛾 那种求生的欲望令我震惊，我忍不住放了它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56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但它挣   扎着，极力鼓动双翅，我感到一股生命的力量在我手中跃动，那样强烈！那样鲜明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5589720"/>
            <a:ext cx="2743200" cy="108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119700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墙角的砖缝中掉进一粒香瓜子，过了几天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竟然冒出一截小瓜苗。那小小的种子里，包含着一种多么强的生命力啊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!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竟使它可以冲破坚硬的外壳，在没有阳光、没有泥土的砖缝中，不屈向上，茁壮生长，即使它仅仅只活了几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4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竟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那小小的种子里，包含着一种多么强的生命力啊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1268280"/>
            <a:ext cx="51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60280"/>
            <a:ext cx="85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有一次，我用医生的听诊器，静听自己的心跳，那一声声沉稳而有规律的跳动，给我极大的震撼，这就是我的生命，单单属于我的。我可以好好使用它，也可以白白地糟蹋它。一切全由自己决定，我必须对自己负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916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我可以好好使用它，也可以白白地糟蹋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90792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本名刘侠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十二岁时患了“类风湿性关节炎”，全身关节大部分遭到损坏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致使她腿不能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肩不能举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手不能抬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头不能转。小学毕业因病缀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4076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8956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杏林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但她从不肯向命运低头，忍着病痛的折磨，写下了剧本、散文、小说、传记等共计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多万字的文学作品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成为了风靡台港和东南亚的著名作家，她的文章被收录在中学的课本中，她的散文《杏林小记》、《生之歌》、《生之颂》，几十年来都是台湾中学生假期指定读物。在当代的华人作家中，除了她，没有人可以顶着一个毁坏的身体以文字见证生命的强韧、热情和美丽，历经二三十年而不辍。同时她还创办了台湾最大、最有影响的残疾人组织——伊甸园。她自己在遭受不幸，她却总在想法帮助别人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3fe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349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虽然生命短暂，但是，我们却可以让有限的生命体现出无限的价值。于是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我下定决心，一定要珍惜生命，决不让它白白流失，使自己活得更加光彩有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8560" y="2349360"/>
            <a:ext cx="8785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虽然生命短暂，但是，我们却可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让有限的生命体现出无限的价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3457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04:40:40Z</dcterms:created>
  <dc:creator>a</dc:creator>
  <dc:description/>
  <dc:language>en-US</dc:language>
  <cp:lastModifiedBy>雨林木风</cp:lastModifiedBy>
  <dcterms:modified xsi:type="dcterms:W3CDTF">2010-03-11T10:45:19Z</dcterms:modified>
  <cp:revision>40</cp:revision>
  <dc:subject/>
  <dc:title>没有幻灯片标题</dc:title>
</cp:coreProperties>
</file>