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25A4-6F59-4B71-BDA2-0BE98624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199-0E00-4E82-8958-555E5C11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D72-2094-4EEE-8F5C-2AAAE66A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0E0-EDAB-4955-AA80-DE84A61D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B02B-3321-4296-B0F5-16E3DB8A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0A44-7497-40AD-93A0-C0B2B400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EF61-CF1E-489C-BF88-77D52A64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141B-EB19-464E-B2DA-D65BAA0E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14D5-B355-4723-AABC-28759DCF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FF9E-7810-4F4B-86BD-3F642CA9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28D4-F573-4745-A507-D8C71091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C326-E5B0-4A0E-8E4D-E80B644A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B1C1-FAC8-40CD-886E-C7AEDFA4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45EB-8056-491D-AFE7-14DF1813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72BC-2AE9-4542-8D30-10630A89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4AE8-CB09-4889-87DE-01301A28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6B25-02B3-4974-A06F-51F0AFB0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A66-D6CB-4458-B8F8-533EC65B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A92-67DD-407B-9DA0-62D80302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83B-81A0-487B-9C35-0B8619DD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57E-1BBB-4354-B585-4E78196D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E58-E5AC-438D-8EBF-2AA07C24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B924-208D-4F5C-8246-51CC3FE7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1B2-4EBB-4329-AA92-6DF0528B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20CA-B4D9-47C9-83E3-73D18228D1D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DF34-F02B-4121-8F7D-F1A1BAFDC44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%FA%C6%F7%C8&#753;%A6%B1%A6&amp;in=31370&amp;cl=2&amp;cm=1&amp;sc=0&amp;lm=-1&amp;pn=8&amp;rn=1&amp;di=6588652800&amp;ln=2000&amp;fr=&amp;ic=0&amp;s=0&amp;se=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.baidu.com/i?ct=503316480&amp;z=0&amp;tn=baiduimagedetail&amp;word=%BB%FA%C6%F7%C8&#753;%A6%B1%A6&amp;in=28570&amp;cl=2&amp;cm=1&amp;sc=0&amp;lm=-1&amp;pn=23&amp;rn=1&amp;di=9466741035&amp;ln=2000&amp;fr=&amp;ic=0&amp;s=0&amp;se=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.baidu.com/i?ct=503316480&amp;z=0&amp;tn=baiduimagedetail&amp;word=%BB%FA%C6%F7%C8&#753;%A6%B1%A6&amp;in=13360&amp;cl=2&amp;cm=1&amp;sc=0&amp;lm=-1&amp;pn=34&amp;rn=1&amp;di=3159882195&amp;ln=2000&amp;fr=&amp;ic=0&amp;s=0&amp;se=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.baidu.com/i?ct=503316480&amp;z=0&amp;tn=baiduimagedetail&amp;word=%BB%FA%C6%F7%C8&#753;%A6%B1%A6&amp;in=31883&amp;cl=2&amp;cm=1&amp;sc=0&amp;lm=-1&amp;pn=38&amp;rn=1&amp;di=7995517995&amp;ln=2000&amp;fr=&amp;ic=0&amp;s=0&amp;se=1" TargetMode="External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&#1393;%BE+%C3%C0&#366;%BB%FA%C6%F7%C8%CB&amp;in=2385&amp;cl=2&amp;cm=1&amp;sc=0&amp;lm=-1&amp;pn=27&amp;rn=1&amp;di=10422986580&amp;ln=380&amp;fr=&amp;ic=0&amp;s=0&amp;se=1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92000" y="260280"/>
            <a:ext cx="6119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我想发明的机器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82560" y="5229000"/>
            <a:ext cx="576108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华文中宋"/>
              </a:rPr>
              <a:t>广东省佛山市南海区狮山镇桃园小学　朱瑞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046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华文中宋"/>
              </a:rPr>
              <a:t>义务教育课程标准实验教科书人教版小学语文三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1579680"/>
            <a:ext cx="64087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668160"/>
            <a:ext cx="7129440" cy="55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62136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2204640"/>
            <a:ext cx="84042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口语交际：我想发明的机器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机器人越来越聪明能干了。它们可以进入险区，排除险情；可以潜入深海，寻找宝藏；还可以进入人体，查病治病……让我们展开想象，说一说自己想发明什么样的机器人，它有哪些本领。然后评一评，看谁的想象既奇特又合理，谁说得清楚明白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口语交际：我想发明的机器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说什么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说一说自己想发明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什么样的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机器人，它有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哪些本领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怎样说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评一评，看谁的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想象既奇特又合理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谁说得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清楚明白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口语交际：我想发明的机器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274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说一说自己想发明</a:t>
            </a:r>
            <a:r>
              <a:rPr b="0" lang="zh-CN" sz="2800" spc="-1" strike="noStrike">
                <a:solidFill>
                  <a:srgbClr val="3333cc"/>
                </a:solidFill>
                <a:latin typeface="Tahoma"/>
              </a:rPr>
              <a:t>什么样的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机器人，它有</a:t>
            </a:r>
            <a:r>
              <a:rPr b="0" lang="zh-CN" sz="2800" spc="-1" strike="noStrike">
                <a:solidFill>
                  <a:srgbClr val="3333cc"/>
                </a:solidFill>
                <a:latin typeface="Tahoma"/>
              </a:rPr>
              <a:t>哪些本领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例子：大家看，这是我设计的（       ）机器人，它的样子十分可爱。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我的这个（      ）机器人，本领可大啦！下面我就一一告诉你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首先……    然后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不但……    还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第（     ）……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总之，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7788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各种各样的机器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76640"/>
            <a:ext cx="1778040" cy="1965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4149720"/>
            <a:ext cx="2808360" cy="1965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27280" y="4437000"/>
            <a:ext cx="3024360" cy="2008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5280" y="155736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6156360" y="981000"/>
            <a:ext cx="2227320" cy="2475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2268360" y="836640"/>
            <a:ext cx="31672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日本的美女机器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700280"/>
            <a:ext cx="3672000" cy="460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788000" y="1700280"/>
            <a:ext cx="3409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309920" cy="5689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4176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7640" y="433440"/>
            <a:ext cx="619308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716360" y="1125360"/>
            <a:ext cx="4178520" cy="5445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716000" y="213840"/>
            <a:ext cx="4427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各种功能的机器人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0400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5320" cy="6769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41115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04:13:05Z</dcterms:created>
  <dc:creator>MS USER</dc:creator>
  <dc:description/>
  <dc:language>en-US</dc:language>
  <cp:lastModifiedBy>user</cp:lastModifiedBy>
  <dcterms:modified xsi:type="dcterms:W3CDTF">2010-07-12T06:05:41Z</dcterms:modified>
  <cp:revision>7</cp:revision>
  <dc:subject/>
  <dc:title>幻灯片 1</dc:title>
</cp:coreProperties>
</file>