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E0D1-79A6-4A7E-B1E1-30FD9210D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AE23-4208-4C73-B033-9D67B8A8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DA1B-2783-41BC-A9C8-689A2AEB9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3C08-65B1-4885-83D1-0FC717054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95CE-0ED0-49CF-8FE2-06DA4B7B8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755A-FC31-4732-8265-3912CADF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437D-E6A3-4755-B8D8-65E18088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E159-2135-4BFA-9AF0-31C303C0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6093-EBC2-4BAD-AB9C-74141F3D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A25E-2E04-4AB8-8369-237BD465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6184-4911-44A7-81C6-85136DA7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BD6A-3FDC-4E2C-AFF7-8CF42797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15BC-C26F-4186-8A11-6F82C193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D085-4FD8-4D2F-8BC0-DEF307E7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333A-475C-41CD-9DBB-124E6872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0807-D982-4023-BA57-F2657C017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1513-79EB-4CB4-B1F7-BB9D9C1D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61A5-E8A7-4FB9-92CE-3B9B8029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5146-55FA-4FF0-B750-16C4D93E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0A9E-1EDF-4B1D-8571-5200775D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B7D5-C761-4764-A2FD-67558408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3EFB-19BA-46C2-B35D-6FAFBAAC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E053-CEC9-4C0D-B404-CC4BF679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6239-2164-4657-A012-0521F2B3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4451-FF74-4D5F-B08D-E54D3C3A4C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E306-13E1-42BB-B47A-3778EE26F0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4.xml"/><Relationship Id="rId7" Type="http://schemas.openxmlformats.org/officeDocument/2006/relationships/slide" Target="slide15.xml"/><Relationship Id="rId8" Type="http://schemas.openxmlformats.org/officeDocument/2006/relationships/slide" Target="slide16.xml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221.2.163.143:8000/oblog4/u/tcxx_zouyuanjie/archives/2007/2174.html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zhjkw.cn/life/tourism/tourism_48725.s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djs.gov.cn/assembly/action/browsePage.do?channelID=1084760542378&amp;contentID=1102554400585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lwl.czyz.com.cn/jingguan/ziran/hehu/Index/pubu0.htm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nfo.datang.net/M/M1338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ravel.qcgd.com/t2/snapshot/2005-5-13/snapshot_17985.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oogoo.net.cn/product.asp?id=113953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egou.cn/product.asp?id=113950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cnweblog.com/zhanglarry/gallery/image/31272.html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onfri.com/mudiao.htm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.baidu.com/i?ct=503316480&amp;z=0&amp;tn=baiduimagedetail&amp;word=%B7%C7%D6%DE&#318;%B5%F1&amp;in=33&amp;cl=2&amp;cm=1&amp;sc=0&amp;lm=-1&amp;pn=32&amp;rn=1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2826360" y="695160"/>
            <a:ext cx="4287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ff00"/>
                </a:solidFill>
                <a:latin typeface="Times New Roman"/>
                <a:ea typeface="华文细黑"/>
              </a:rPr>
              <a:t>卖 木 雕 的 少 年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465000" y="4221000"/>
            <a:ext cx="324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e4a8"/>
                </a:solidFill>
                <a:latin typeface="Times New Roman"/>
                <a:ea typeface="华文细黑"/>
              </a:rPr>
              <a:t>三 年 四 班    唐德喜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AutoShape 6">
            <a:hlinkClick r:id="rId2" action="ppaction://hlinksldjump"/>
          </p:cNvPr>
          <p:cNvSpPr/>
          <p:nvPr/>
        </p:nvSpPr>
        <p:spPr>
          <a:xfrm>
            <a:off x="395280" y="609300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瀑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AutoShape 7">
            <a:hlinkClick r:id="rId3" action="ppaction://hlinksldjump"/>
          </p:cNvPr>
          <p:cNvSpPr/>
          <p:nvPr/>
        </p:nvSpPr>
        <p:spPr>
          <a:xfrm>
            <a:off x="1403280" y="6093000"/>
            <a:ext cx="792360" cy="431640"/>
          </a:xfrm>
          <a:custGeom>
            <a:avLst/>
            <a:gdLst>
              <a:gd name="textAreaLeft" fmla="*/ 27720 w 792360"/>
              <a:gd name="textAreaRight" fmla="*/ 764640 w 792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36" h="21600">
                <a:moveTo>
                  <a:pt x="0" y="0"/>
                </a:moveTo>
                <a:lnTo>
                  <a:pt x="39636" y="0"/>
                </a:lnTo>
                <a:lnTo>
                  <a:pt x="39636" y="21600"/>
                </a:lnTo>
                <a:lnTo>
                  <a:pt x="0" y="21600"/>
                </a:lnTo>
                <a:close/>
              </a:path>
              <a:path fill="lightenLess" w="39636" h="21600">
                <a:moveTo>
                  <a:pt x="0" y="0"/>
                </a:moveTo>
                <a:lnTo>
                  <a:pt x="39636" y="0"/>
                </a:lnTo>
                <a:lnTo>
                  <a:pt x="38236" y="1400"/>
                </a:lnTo>
                <a:lnTo>
                  <a:pt x="1400" y="1400"/>
                </a:lnTo>
                <a:close/>
              </a:path>
              <a:path fill="darken" w="39636" h="21600">
                <a:moveTo>
                  <a:pt x="39636" y="0"/>
                </a:moveTo>
                <a:lnTo>
                  <a:pt x="39636" y="21600"/>
                </a:lnTo>
                <a:lnTo>
                  <a:pt x="38236" y="20200"/>
                </a:lnTo>
                <a:lnTo>
                  <a:pt x="38236" y="1400"/>
                </a:lnTo>
                <a:close/>
              </a:path>
              <a:path fill="darkenLess" w="39636" h="21600">
                <a:moveTo>
                  <a:pt x="39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36" y="20200"/>
                </a:lnTo>
                <a:close/>
              </a:path>
              <a:path fill="lighten" w="39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木雕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AutoShape 8">
            <a:hlinkClick r:id="rId4" action="ppaction://hlinksldjump"/>
          </p:cNvPr>
          <p:cNvSpPr/>
          <p:nvPr/>
        </p:nvSpPr>
        <p:spPr>
          <a:xfrm>
            <a:off x="2411280" y="6093000"/>
            <a:ext cx="792360" cy="431640"/>
          </a:xfrm>
          <a:custGeom>
            <a:avLst/>
            <a:gdLst>
              <a:gd name="textAreaLeft" fmla="*/ 27720 w 792360"/>
              <a:gd name="textAreaRight" fmla="*/ 764640 w 792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36" h="21600">
                <a:moveTo>
                  <a:pt x="0" y="0"/>
                </a:moveTo>
                <a:lnTo>
                  <a:pt x="39636" y="0"/>
                </a:lnTo>
                <a:lnTo>
                  <a:pt x="39636" y="21600"/>
                </a:lnTo>
                <a:lnTo>
                  <a:pt x="0" y="21600"/>
                </a:lnTo>
                <a:close/>
              </a:path>
              <a:path fill="lightenLess" w="39636" h="21600">
                <a:moveTo>
                  <a:pt x="0" y="0"/>
                </a:moveTo>
                <a:lnTo>
                  <a:pt x="39636" y="0"/>
                </a:lnTo>
                <a:lnTo>
                  <a:pt x="38236" y="1400"/>
                </a:lnTo>
                <a:lnTo>
                  <a:pt x="1400" y="1400"/>
                </a:lnTo>
                <a:close/>
              </a:path>
              <a:path fill="darken" w="39636" h="21600">
                <a:moveTo>
                  <a:pt x="39636" y="0"/>
                </a:moveTo>
                <a:lnTo>
                  <a:pt x="39636" y="21600"/>
                </a:lnTo>
                <a:lnTo>
                  <a:pt x="38236" y="20200"/>
                </a:lnTo>
                <a:lnTo>
                  <a:pt x="38236" y="1400"/>
                </a:lnTo>
                <a:close/>
              </a:path>
              <a:path fill="darkenLess" w="39636" h="21600">
                <a:moveTo>
                  <a:pt x="39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36" y="20200"/>
                </a:lnTo>
                <a:close/>
              </a:path>
              <a:path fill="lighten" w="39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词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AutoShape 9">
            <a:hlinkClick r:id="rId5" action="ppaction://hlinksldjump"/>
          </p:cNvPr>
          <p:cNvSpPr/>
          <p:nvPr/>
        </p:nvSpPr>
        <p:spPr>
          <a:xfrm>
            <a:off x="3419640" y="6093000"/>
            <a:ext cx="865080" cy="431640"/>
          </a:xfrm>
          <a:custGeom>
            <a:avLst/>
            <a:gdLst>
              <a:gd name="textAreaLeft" fmla="*/ 27720 w 865080"/>
              <a:gd name="textAreaRight" fmla="*/ 837360 w 86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72" h="21600">
                <a:moveTo>
                  <a:pt x="0" y="0"/>
                </a:moveTo>
                <a:lnTo>
                  <a:pt x="43272" y="0"/>
                </a:lnTo>
                <a:lnTo>
                  <a:pt x="43272" y="21600"/>
                </a:lnTo>
                <a:lnTo>
                  <a:pt x="0" y="21600"/>
                </a:lnTo>
                <a:close/>
              </a:path>
              <a:path fill="lightenLess" w="43272" h="21600">
                <a:moveTo>
                  <a:pt x="0" y="0"/>
                </a:moveTo>
                <a:lnTo>
                  <a:pt x="43272" y="0"/>
                </a:lnTo>
                <a:lnTo>
                  <a:pt x="41872" y="1400"/>
                </a:lnTo>
                <a:lnTo>
                  <a:pt x="1400" y="1400"/>
                </a:lnTo>
                <a:close/>
              </a:path>
              <a:path fill="darken" w="43272" h="21600">
                <a:moveTo>
                  <a:pt x="43272" y="0"/>
                </a:moveTo>
                <a:lnTo>
                  <a:pt x="43272" y="21600"/>
                </a:lnTo>
                <a:lnTo>
                  <a:pt x="41872" y="20200"/>
                </a:lnTo>
                <a:lnTo>
                  <a:pt x="41872" y="1400"/>
                </a:lnTo>
                <a:close/>
              </a:path>
              <a:path fill="darkenLess" w="43272" h="21600">
                <a:moveTo>
                  <a:pt x="43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72" y="20200"/>
                </a:lnTo>
                <a:close/>
              </a:path>
              <a:path fill="lighten" w="43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眼神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AutoShape 10">
            <a:hlinkClick r:id="rId6" action="ppaction://hlinksldjump"/>
          </p:cNvPr>
          <p:cNvSpPr/>
          <p:nvPr/>
        </p:nvSpPr>
        <p:spPr>
          <a:xfrm>
            <a:off x="4572000" y="6093000"/>
            <a:ext cx="863640" cy="43164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对话１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AutoShape 11">
            <a:hlinkClick r:id="rId7" action="ppaction://hlinksldjump"/>
          </p:cNvPr>
          <p:cNvSpPr/>
          <p:nvPr/>
        </p:nvSpPr>
        <p:spPr>
          <a:xfrm>
            <a:off x="5724360" y="6093000"/>
            <a:ext cx="863640" cy="43164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对话２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AutoShape 12">
            <a:hlinkClick r:id="rId8" action="ppaction://hlinksldjump"/>
          </p:cNvPr>
          <p:cNvSpPr/>
          <p:nvPr/>
        </p:nvSpPr>
        <p:spPr>
          <a:xfrm>
            <a:off x="6877080" y="6093000"/>
            <a:ext cx="790560" cy="43164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546" h="21600">
                <a:moveTo>
                  <a:pt x="0" y="0"/>
                </a:moveTo>
                <a:lnTo>
                  <a:pt x="39546" y="0"/>
                </a:lnTo>
                <a:lnTo>
                  <a:pt x="39546" y="21600"/>
                </a:lnTo>
                <a:lnTo>
                  <a:pt x="0" y="21600"/>
                </a:lnTo>
                <a:close/>
              </a:path>
              <a:path fill="lightenLess" w="39546" h="21600">
                <a:moveTo>
                  <a:pt x="0" y="0"/>
                </a:moveTo>
                <a:lnTo>
                  <a:pt x="39546" y="0"/>
                </a:lnTo>
                <a:lnTo>
                  <a:pt x="38146" y="1400"/>
                </a:lnTo>
                <a:lnTo>
                  <a:pt x="1400" y="1400"/>
                </a:lnTo>
                <a:close/>
              </a:path>
              <a:path fill="darken" w="39546" h="21600">
                <a:moveTo>
                  <a:pt x="39546" y="0"/>
                </a:moveTo>
                <a:lnTo>
                  <a:pt x="39546" y="21600"/>
                </a:lnTo>
                <a:lnTo>
                  <a:pt x="38146" y="20200"/>
                </a:lnTo>
                <a:lnTo>
                  <a:pt x="38146" y="1400"/>
                </a:lnTo>
                <a:close/>
              </a:path>
              <a:path fill="darkenLess" w="39546" h="21600">
                <a:moveTo>
                  <a:pt x="39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46" y="20200"/>
                </a:lnTo>
                <a:close/>
              </a:path>
              <a:path fill="lighten" w="39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资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2474280" y="907920"/>
            <a:ext cx="390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华文细黑"/>
              </a:rPr>
              <a:t>各式各样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华文细黑"/>
              </a:rPr>
              <a:t>,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华文细黑"/>
              </a:rPr>
              <a:t>琳琅满目的木雕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6" descr="416438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276640"/>
            <a:ext cx="7489800" cy="37321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2474280" y="907920"/>
            <a:ext cx="390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华文细黑"/>
              </a:rPr>
              <a:t>各式各样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华文细黑"/>
              </a:rPr>
              <a:t>,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华文细黑"/>
              </a:rPr>
              <a:t>琳琅满目的木雕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6" descr="41594985"/>
          <p:cNvPicPr/>
          <p:nvPr/>
        </p:nvPicPr>
        <p:blipFill>
          <a:blip r:embed="rId1"/>
          <a:stretch/>
        </p:blipFill>
        <p:spPr>
          <a:xfrm>
            <a:off x="1619280" y="2276640"/>
            <a:ext cx="5792760" cy="389556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7">
            <a:hlinkClick r:id="" action="ppaction://hlinkshowjump?jump=firstslide"/>
          </p:cNvPr>
          <p:cNvSpPr/>
          <p:nvPr/>
        </p:nvSpPr>
        <p:spPr>
          <a:xfrm>
            <a:off x="8172360" y="6237360"/>
            <a:ext cx="792360" cy="404640"/>
          </a:xfrm>
          <a:custGeom>
            <a:avLst/>
            <a:gdLst>
              <a:gd name="textAreaLeft" fmla="*/ 25920 w 792360"/>
              <a:gd name="textAreaRight" fmla="*/ 766440 w 792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2278" h="21600">
                <a:moveTo>
                  <a:pt x="0" y="0"/>
                </a:moveTo>
                <a:lnTo>
                  <a:pt x="42278" y="0"/>
                </a:lnTo>
                <a:lnTo>
                  <a:pt x="42278" y="21600"/>
                </a:lnTo>
                <a:lnTo>
                  <a:pt x="0" y="21600"/>
                </a:lnTo>
                <a:close/>
              </a:path>
              <a:path fill="lightenLess" w="42278" h="21600">
                <a:moveTo>
                  <a:pt x="0" y="0"/>
                </a:moveTo>
                <a:lnTo>
                  <a:pt x="42278" y="0"/>
                </a:lnTo>
                <a:lnTo>
                  <a:pt x="40878" y="1400"/>
                </a:lnTo>
                <a:lnTo>
                  <a:pt x="1400" y="1400"/>
                </a:lnTo>
                <a:close/>
              </a:path>
              <a:path fill="darken" w="42278" h="21600">
                <a:moveTo>
                  <a:pt x="42278" y="0"/>
                </a:moveTo>
                <a:lnTo>
                  <a:pt x="42278" y="21600"/>
                </a:lnTo>
                <a:lnTo>
                  <a:pt x="40878" y="20200"/>
                </a:lnTo>
                <a:lnTo>
                  <a:pt x="40878" y="1400"/>
                </a:lnTo>
                <a:close/>
              </a:path>
              <a:path fill="darkenLess" w="42278" h="21600">
                <a:moveTo>
                  <a:pt x="42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878" y="20200"/>
                </a:lnTo>
                <a:close/>
              </a:path>
              <a:path fill="lighten" w="42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1619280" y="260280"/>
            <a:ext cx="64087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华文细黑"/>
                <a:ea typeface="华文细黑"/>
              </a:rPr>
              <a:t>（大瀑布）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华文细黑"/>
                <a:ea typeface="华文细黑"/>
              </a:rPr>
              <a:t>名不虚传    游人如织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华文细黑"/>
                <a:ea typeface="华文细黑"/>
              </a:rPr>
              <a:t>十分壮观   清晰可辨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华文细黑"/>
                <a:ea typeface="华文细黑"/>
              </a:rPr>
              <a:t>（木 雕）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华文细黑"/>
                <a:ea typeface="华文细黑"/>
              </a:rPr>
              <a:t>琳琅满目    各式各样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华文细黑"/>
                <a:ea typeface="华文细黑"/>
              </a:rPr>
              <a:t>构思新奇   栩栩如生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华文细黑"/>
                <a:ea typeface="华文细黑"/>
              </a:rPr>
              <a:t>（人 物）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华文细黑"/>
                <a:ea typeface="华文细黑"/>
              </a:rPr>
              <a:t>仔细观赏   爱不释手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华文细黑"/>
                <a:ea typeface="华文细黑"/>
              </a:rPr>
              <a:t>五官端正   语无伦次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AutoShape 5">
            <a:hlinkClick r:id="" action="ppaction://hlinkshowjump?jump=firstslide"/>
          </p:cNvPr>
          <p:cNvSpPr/>
          <p:nvPr/>
        </p:nvSpPr>
        <p:spPr>
          <a:xfrm>
            <a:off x="8172360" y="6237360"/>
            <a:ext cx="792360" cy="404640"/>
          </a:xfrm>
          <a:custGeom>
            <a:avLst/>
            <a:gdLst>
              <a:gd name="textAreaLeft" fmla="*/ 25920 w 792360"/>
              <a:gd name="textAreaRight" fmla="*/ 766440 w 792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2278" h="21600">
                <a:moveTo>
                  <a:pt x="0" y="0"/>
                </a:moveTo>
                <a:lnTo>
                  <a:pt x="42278" y="0"/>
                </a:lnTo>
                <a:lnTo>
                  <a:pt x="42278" y="21600"/>
                </a:lnTo>
                <a:lnTo>
                  <a:pt x="0" y="21600"/>
                </a:lnTo>
                <a:close/>
              </a:path>
              <a:path fill="lightenLess" w="42278" h="21600">
                <a:moveTo>
                  <a:pt x="0" y="0"/>
                </a:moveTo>
                <a:lnTo>
                  <a:pt x="42278" y="0"/>
                </a:lnTo>
                <a:lnTo>
                  <a:pt x="40878" y="1400"/>
                </a:lnTo>
                <a:lnTo>
                  <a:pt x="1400" y="1400"/>
                </a:lnTo>
                <a:close/>
              </a:path>
              <a:path fill="darken" w="42278" h="21600">
                <a:moveTo>
                  <a:pt x="42278" y="0"/>
                </a:moveTo>
                <a:lnTo>
                  <a:pt x="42278" y="21600"/>
                </a:lnTo>
                <a:lnTo>
                  <a:pt x="40878" y="20200"/>
                </a:lnTo>
                <a:lnTo>
                  <a:pt x="40878" y="1400"/>
                </a:lnTo>
                <a:close/>
              </a:path>
              <a:path fill="darkenLess" w="42278" h="21600">
                <a:moveTo>
                  <a:pt x="42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878" y="20200"/>
                </a:lnTo>
                <a:close/>
              </a:path>
              <a:path fill="lighten" w="42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3530520" y="2593800"/>
            <a:ext cx="2228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ff00"/>
                </a:solidFill>
                <a:latin typeface="Tahoma"/>
                <a:ea typeface="华文细黑"/>
              </a:rPr>
              <a:t>　</a:t>
            </a:r>
            <a:r>
              <a:rPr b="0" lang="zh-CN" sz="4800" spc="-1" strike="noStrike">
                <a:solidFill>
                  <a:srgbClr val="3333cc"/>
                </a:solidFill>
                <a:latin typeface="Tahoma"/>
                <a:ea typeface="华文细黑"/>
              </a:rPr>
              <a:t>　“</a:t>
            </a:r>
            <a:r>
              <a:rPr b="1" lang="zh-CN" sz="4800" spc="-1" strike="noStrike">
                <a:solidFill>
                  <a:srgbClr val="3333cc"/>
                </a:solidFill>
                <a:latin typeface="Tahoma"/>
                <a:ea typeface="华文细黑"/>
              </a:rPr>
              <a:t>少年的眼睛里流露出一丝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ahoma"/>
                <a:ea typeface="华文细黑"/>
              </a:rPr>
              <a:t>遗憾的神情。</a:t>
            </a:r>
            <a:r>
              <a:rPr b="0" lang="zh-CN" sz="4800" spc="-1" strike="noStrike">
                <a:solidFill>
                  <a:srgbClr val="3333cc"/>
                </a:solidFill>
                <a:latin typeface="Tahoma"/>
                <a:ea typeface="华文细黑"/>
              </a:rPr>
              <a:t>”</a:t>
            </a:r>
            <a:r>
              <a:rPr b="0" lang="zh-CN" sz="1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AutoShape 5">
            <a:hlinkClick r:id="" action="ppaction://hlinkshowjump?jump=firstslide"/>
          </p:cNvPr>
          <p:cNvSpPr/>
          <p:nvPr/>
        </p:nvSpPr>
        <p:spPr>
          <a:xfrm>
            <a:off x="8172360" y="6237360"/>
            <a:ext cx="792360" cy="404640"/>
          </a:xfrm>
          <a:custGeom>
            <a:avLst/>
            <a:gdLst>
              <a:gd name="textAreaLeft" fmla="*/ 25920 w 792360"/>
              <a:gd name="textAreaRight" fmla="*/ 766440 w 792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2278" h="21600">
                <a:moveTo>
                  <a:pt x="0" y="0"/>
                </a:moveTo>
                <a:lnTo>
                  <a:pt x="42278" y="0"/>
                </a:lnTo>
                <a:lnTo>
                  <a:pt x="42278" y="21600"/>
                </a:lnTo>
                <a:lnTo>
                  <a:pt x="0" y="21600"/>
                </a:lnTo>
                <a:close/>
              </a:path>
              <a:path fill="lightenLess" w="42278" h="21600">
                <a:moveTo>
                  <a:pt x="0" y="0"/>
                </a:moveTo>
                <a:lnTo>
                  <a:pt x="42278" y="0"/>
                </a:lnTo>
                <a:lnTo>
                  <a:pt x="40878" y="1400"/>
                </a:lnTo>
                <a:lnTo>
                  <a:pt x="1400" y="1400"/>
                </a:lnTo>
                <a:close/>
              </a:path>
              <a:path fill="darken" w="42278" h="21600">
                <a:moveTo>
                  <a:pt x="42278" y="0"/>
                </a:moveTo>
                <a:lnTo>
                  <a:pt x="42278" y="21600"/>
                </a:lnTo>
                <a:lnTo>
                  <a:pt x="40878" y="20200"/>
                </a:lnTo>
                <a:lnTo>
                  <a:pt x="40878" y="1400"/>
                </a:lnTo>
                <a:close/>
              </a:path>
              <a:path fill="darkenLess" w="42278" h="21600">
                <a:moveTo>
                  <a:pt x="42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878" y="20200"/>
                </a:lnTo>
                <a:close/>
              </a:path>
              <a:path fill="lighten" w="42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1956240" y="1052640"/>
            <a:ext cx="5571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ahoma"/>
                <a:ea typeface="黑体"/>
              </a:rPr>
              <a:t>　　</a:t>
            </a:r>
            <a:r>
              <a:rPr b="1" lang="zh-CN" sz="4400" spc="-1" strike="noStrike">
                <a:solidFill>
                  <a:srgbClr val="3333cc"/>
                </a:solidFill>
                <a:latin typeface="Tahoma"/>
                <a:ea typeface="黑体"/>
              </a:rPr>
              <a:t>那少年走到我跟前，诚恳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ahoma"/>
                <a:ea typeface="黑体"/>
              </a:rPr>
              <a:t>说：“夫人，您买一个吧！”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ahoma"/>
                <a:ea typeface="黑体"/>
              </a:rPr>
              <a:t>　　“啊，不，路太远，这个太重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  <a:ea typeface="黑体"/>
              </a:rPr>
              <a:t>……”</a:t>
            </a:r>
            <a:r>
              <a:rPr b="1" lang="zh-CN" sz="4400" spc="-1" strike="noStrike">
                <a:solidFill>
                  <a:srgbClr val="3333cc"/>
                </a:solidFill>
                <a:latin typeface="Tahoma"/>
                <a:ea typeface="黑体"/>
              </a:rPr>
              <a:t>我有些语无伦次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ahoma"/>
                <a:ea typeface="黑体"/>
              </a:rPr>
              <a:t>　　“您是中国人吧？”那少年望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ahoma"/>
                <a:ea typeface="黑体"/>
              </a:rPr>
              <a:t>着我，猜测道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ahoma"/>
                <a:ea typeface="黑体"/>
              </a:rPr>
              <a:t>　　我点了点头。少年的眼睛里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ahoma"/>
                <a:ea typeface="黑体"/>
              </a:rPr>
              <a:t>流露出一丝遗憾的神情。”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AutoShape 5">
            <a:hlinkClick r:id="" action="ppaction://hlinkshowjump?jump=firstslide"/>
          </p:cNvPr>
          <p:cNvSpPr/>
          <p:nvPr/>
        </p:nvSpPr>
        <p:spPr>
          <a:xfrm>
            <a:off x="8172360" y="6237360"/>
            <a:ext cx="792360" cy="404640"/>
          </a:xfrm>
          <a:custGeom>
            <a:avLst/>
            <a:gdLst>
              <a:gd name="textAreaLeft" fmla="*/ 25920 w 792360"/>
              <a:gd name="textAreaRight" fmla="*/ 766440 w 792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2278" h="21600">
                <a:moveTo>
                  <a:pt x="0" y="0"/>
                </a:moveTo>
                <a:lnTo>
                  <a:pt x="42278" y="0"/>
                </a:lnTo>
                <a:lnTo>
                  <a:pt x="42278" y="21600"/>
                </a:lnTo>
                <a:lnTo>
                  <a:pt x="0" y="21600"/>
                </a:lnTo>
                <a:close/>
              </a:path>
              <a:path fill="lightenLess" w="42278" h="21600">
                <a:moveTo>
                  <a:pt x="0" y="0"/>
                </a:moveTo>
                <a:lnTo>
                  <a:pt x="42278" y="0"/>
                </a:lnTo>
                <a:lnTo>
                  <a:pt x="40878" y="1400"/>
                </a:lnTo>
                <a:lnTo>
                  <a:pt x="1400" y="1400"/>
                </a:lnTo>
                <a:close/>
              </a:path>
              <a:path fill="darken" w="42278" h="21600">
                <a:moveTo>
                  <a:pt x="42278" y="0"/>
                </a:moveTo>
                <a:lnTo>
                  <a:pt x="42278" y="21600"/>
                </a:lnTo>
                <a:lnTo>
                  <a:pt x="40878" y="20200"/>
                </a:lnTo>
                <a:lnTo>
                  <a:pt x="40878" y="1400"/>
                </a:lnTo>
                <a:close/>
              </a:path>
              <a:path fill="darkenLess" w="42278" h="21600">
                <a:moveTo>
                  <a:pt x="42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878" y="20200"/>
                </a:lnTo>
                <a:close/>
              </a:path>
              <a:path fill="lighten" w="42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2417040" y="692280"/>
            <a:ext cx="5014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ahoma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  <a:ea typeface="黑体"/>
              </a:rPr>
              <a:t>“这个小，可以带上飞机。”少年将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  <a:ea typeface="黑体"/>
              </a:rPr>
              <a:t>件沉甸甸的东西送到我手里．啊！原来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  <a:ea typeface="黑体"/>
              </a:rPr>
              <a:t>一个木雕小象墩，和白天见到的一模一样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  <a:ea typeface="黑体"/>
              </a:rPr>
              <a:t>却只有拳头大小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  <a:ea typeface="黑体"/>
              </a:rPr>
              <a:t>　　“太好了！”我高兴地喊起来，掏出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  <a:ea typeface="黑体"/>
              </a:rPr>
              <a:t>包就要付钱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  <a:ea typeface="黑体"/>
              </a:rPr>
              <a:t>　　少年连连摆手，用不太标准的中国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  <a:ea typeface="黑体"/>
              </a:rPr>
              <a:t>说：“不，不要钱。中国人是我们的朋友。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  <a:ea typeface="黑体"/>
              </a:rPr>
              <a:t>　　“我们是朋友！”我感动了，连声说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  <a:ea typeface="黑体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  <a:ea typeface="黑体"/>
              </a:rPr>
              <a:t>我们是朋友！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  <a:ea typeface="黑体"/>
              </a:rPr>
              <a:t>　　他笑了，露出两排洁白的牙齿。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AutoShape 5">
            <a:hlinkClick r:id="" action="ppaction://hlinkshowjump?jump=firstslide"/>
          </p:cNvPr>
          <p:cNvSpPr/>
          <p:nvPr/>
        </p:nvSpPr>
        <p:spPr>
          <a:xfrm>
            <a:off x="8172360" y="6237360"/>
            <a:ext cx="792360" cy="404640"/>
          </a:xfrm>
          <a:custGeom>
            <a:avLst/>
            <a:gdLst>
              <a:gd name="textAreaLeft" fmla="*/ 25920 w 792360"/>
              <a:gd name="textAreaRight" fmla="*/ 766440 w 792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2278" h="21600">
                <a:moveTo>
                  <a:pt x="0" y="0"/>
                </a:moveTo>
                <a:lnTo>
                  <a:pt x="42278" y="0"/>
                </a:lnTo>
                <a:lnTo>
                  <a:pt x="42278" y="21600"/>
                </a:lnTo>
                <a:lnTo>
                  <a:pt x="0" y="21600"/>
                </a:lnTo>
                <a:close/>
              </a:path>
              <a:path fill="lightenLess" w="42278" h="21600">
                <a:moveTo>
                  <a:pt x="0" y="0"/>
                </a:moveTo>
                <a:lnTo>
                  <a:pt x="42278" y="0"/>
                </a:lnTo>
                <a:lnTo>
                  <a:pt x="40878" y="1400"/>
                </a:lnTo>
                <a:lnTo>
                  <a:pt x="1400" y="1400"/>
                </a:lnTo>
                <a:close/>
              </a:path>
              <a:path fill="darken" w="42278" h="21600">
                <a:moveTo>
                  <a:pt x="42278" y="0"/>
                </a:moveTo>
                <a:lnTo>
                  <a:pt x="42278" y="21600"/>
                </a:lnTo>
                <a:lnTo>
                  <a:pt x="40878" y="20200"/>
                </a:lnTo>
                <a:lnTo>
                  <a:pt x="40878" y="1400"/>
                </a:lnTo>
                <a:close/>
              </a:path>
              <a:path fill="darkenLess" w="42278" h="21600">
                <a:moveTo>
                  <a:pt x="42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878" y="20200"/>
                </a:lnTo>
                <a:close/>
              </a:path>
              <a:path fill="lighten" w="42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2392560" y="90648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华文细黑"/>
              </a:rPr>
              <a:t>中国援建的坦赞铁路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Picture 6" descr="2006116145044"/>
          <p:cNvPicPr/>
          <p:nvPr/>
        </p:nvPicPr>
        <p:blipFill>
          <a:blip r:embed="rId1"/>
          <a:stretch/>
        </p:blipFill>
        <p:spPr>
          <a:xfrm>
            <a:off x="1116000" y="2205000"/>
            <a:ext cx="7056360" cy="4052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1327320" y="1116000"/>
            <a:ext cx="6949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ahoma"/>
                <a:ea typeface="黑体"/>
              </a:rPr>
              <a:t>　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黑体"/>
              </a:rPr>
              <a:t>　</a:t>
            </a:r>
            <a:r>
              <a:rPr b="0" lang="zh-CN" sz="4400" spc="-1" strike="noStrike">
                <a:solidFill>
                  <a:srgbClr val="3333cc"/>
                </a:solidFill>
                <a:latin typeface="Tahoma"/>
                <a:ea typeface="黑体"/>
              </a:rPr>
              <a:t>全线建桥梁</a:t>
            </a:r>
            <a:r>
              <a:rPr b="0" lang="en-US" sz="4400" spc="-1" strike="noStrike">
                <a:solidFill>
                  <a:srgbClr val="3333cc"/>
                </a:solidFill>
                <a:latin typeface="Tahoma"/>
                <a:ea typeface="黑体"/>
              </a:rPr>
              <a:t>320</a:t>
            </a:r>
            <a:r>
              <a:rPr b="0" lang="zh-CN" sz="4400" spc="-1" strike="noStrike">
                <a:solidFill>
                  <a:srgbClr val="3333cc"/>
                </a:solidFill>
                <a:latin typeface="Tahoma"/>
                <a:ea typeface="黑体"/>
              </a:rPr>
              <a:t>座，总延长米为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  <a:ea typeface="黑体"/>
              </a:rPr>
              <a:t>16520</a:t>
            </a:r>
            <a:r>
              <a:rPr b="0" lang="zh-CN" sz="4400" spc="-1" strike="noStrike">
                <a:solidFill>
                  <a:srgbClr val="3333cc"/>
                </a:solidFill>
                <a:latin typeface="Tahoma"/>
                <a:ea typeface="黑体"/>
              </a:rPr>
              <a:t>米；遂道</a:t>
            </a:r>
            <a:r>
              <a:rPr b="0" lang="en-US" sz="4400" spc="-1" strike="noStrike">
                <a:solidFill>
                  <a:srgbClr val="3333cc"/>
                </a:solidFill>
                <a:latin typeface="Tahoma"/>
                <a:ea typeface="黑体"/>
              </a:rPr>
              <a:t>22</a:t>
            </a:r>
            <a:r>
              <a:rPr b="0" lang="zh-CN" sz="4400" spc="-1" strike="noStrike">
                <a:solidFill>
                  <a:srgbClr val="3333cc"/>
                </a:solidFill>
                <a:latin typeface="Tahoma"/>
                <a:ea typeface="黑体"/>
              </a:rPr>
              <a:t>座，总延长米</a:t>
            </a:r>
            <a:r>
              <a:rPr b="0" lang="en-US" sz="4400" spc="-1" strike="noStrike">
                <a:solidFill>
                  <a:srgbClr val="3333cc"/>
                </a:solidFill>
                <a:latin typeface="Tahoma"/>
                <a:ea typeface="黑体"/>
              </a:rPr>
              <a:t>88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  <a:ea typeface="黑体"/>
              </a:rPr>
              <a:t>98</a:t>
            </a:r>
            <a:r>
              <a:rPr b="0" lang="zh-CN" sz="4400" spc="-1" strike="noStrike">
                <a:solidFill>
                  <a:srgbClr val="3333cc"/>
                </a:solidFill>
                <a:latin typeface="Tahoma"/>
                <a:ea typeface="黑体"/>
              </a:rPr>
              <a:t>米；兴建车站</a:t>
            </a:r>
            <a:r>
              <a:rPr b="0" lang="en-US" sz="4400" spc="-1" strike="noStrike">
                <a:solidFill>
                  <a:srgbClr val="3333cc"/>
                </a:solidFill>
                <a:latin typeface="Tahoma"/>
                <a:ea typeface="黑体"/>
              </a:rPr>
              <a:t>93</a:t>
            </a:r>
            <a:r>
              <a:rPr b="0" lang="zh-CN" sz="4400" spc="-1" strike="noStrike">
                <a:solidFill>
                  <a:srgbClr val="3333cc"/>
                </a:solidFill>
                <a:latin typeface="Tahoma"/>
                <a:ea typeface="黑体"/>
              </a:rPr>
              <a:t>个；建设房屋总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ahoma"/>
                <a:ea typeface="黑体"/>
              </a:rPr>
              <a:t>面积</a:t>
            </a:r>
            <a:r>
              <a:rPr b="0" lang="en-US" sz="4400" spc="-1" strike="noStrike">
                <a:solidFill>
                  <a:srgbClr val="3333cc"/>
                </a:solidFill>
                <a:latin typeface="Tahoma"/>
                <a:ea typeface="黑体"/>
              </a:rPr>
              <a:t>37.6</a:t>
            </a:r>
            <a:r>
              <a:rPr b="0" lang="zh-CN" sz="4400" spc="-1" strike="noStrike">
                <a:solidFill>
                  <a:srgbClr val="3333cc"/>
                </a:solidFill>
                <a:latin typeface="Tahoma"/>
                <a:ea typeface="黑体"/>
              </a:rPr>
              <a:t>万平方米。该项目于</a:t>
            </a:r>
            <a:r>
              <a:rPr b="0" lang="en-US" sz="4400" spc="-1" strike="noStrike">
                <a:solidFill>
                  <a:srgbClr val="3333cc"/>
                </a:solidFill>
                <a:latin typeface="Tahoma"/>
                <a:ea typeface="黑体"/>
              </a:rPr>
              <a:t>1968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ahoma"/>
                <a:ea typeface="黑体"/>
              </a:rPr>
              <a:t>年</a:t>
            </a:r>
            <a:r>
              <a:rPr b="0" lang="en-US" sz="4400" spc="-1" strike="noStrike">
                <a:solidFill>
                  <a:srgbClr val="3333cc"/>
                </a:solidFill>
                <a:latin typeface="Tahoma"/>
                <a:ea typeface="黑体"/>
              </a:rPr>
              <a:t>5</a:t>
            </a:r>
            <a:r>
              <a:rPr b="0" lang="zh-CN" sz="4400" spc="-1" strike="noStrike">
                <a:solidFill>
                  <a:srgbClr val="3333cc"/>
                </a:solidFill>
                <a:latin typeface="Tahoma"/>
                <a:ea typeface="黑体"/>
              </a:rPr>
              <a:t>月开始进行勘测设计，</a:t>
            </a:r>
            <a:r>
              <a:rPr b="0" lang="en-US" sz="4400" spc="-1" strike="noStrike">
                <a:solidFill>
                  <a:srgbClr val="3333cc"/>
                </a:solidFill>
                <a:latin typeface="Tahoma"/>
                <a:ea typeface="黑体"/>
              </a:rPr>
              <a:t>1970</a:t>
            </a:r>
            <a:r>
              <a:rPr b="0" lang="zh-CN" sz="4400" spc="-1" strike="noStrike">
                <a:solidFill>
                  <a:srgbClr val="3333cc"/>
                </a:solidFill>
                <a:latin typeface="Tahoma"/>
                <a:ea typeface="黑体"/>
              </a:rPr>
              <a:t>年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  <a:ea typeface="黑体"/>
              </a:rPr>
              <a:t>10</a:t>
            </a:r>
            <a:r>
              <a:rPr b="0" lang="zh-CN" sz="4400" spc="-1" strike="noStrike">
                <a:solidFill>
                  <a:srgbClr val="3333cc"/>
                </a:solidFill>
                <a:latin typeface="Tahoma"/>
                <a:ea typeface="黑体"/>
              </a:rPr>
              <a:t>月正式开工，</a:t>
            </a:r>
            <a:r>
              <a:rPr b="0" lang="en-US" sz="4400" spc="-1" strike="noStrike">
                <a:solidFill>
                  <a:srgbClr val="3333cc"/>
                </a:solidFill>
                <a:latin typeface="Tahoma"/>
                <a:ea typeface="黑体"/>
              </a:rPr>
              <a:t>1976</a:t>
            </a:r>
            <a:r>
              <a:rPr b="0" lang="zh-CN" sz="4400" spc="-1" strike="noStrike">
                <a:solidFill>
                  <a:srgbClr val="3333cc"/>
                </a:solidFill>
                <a:latin typeface="Tahoma"/>
                <a:ea typeface="黑体"/>
              </a:rPr>
              <a:t>年</a:t>
            </a:r>
            <a:r>
              <a:rPr b="0" lang="en-US" sz="4400" spc="-1" strike="noStrike">
                <a:solidFill>
                  <a:srgbClr val="3333cc"/>
                </a:solidFill>
                <a:latin typeface="Tahoma"/>
                <a:ea typeface="黑体"/>
              </a:rPr>
              <a:t>7</a:t>
            </a:r>
            <a:r>
              <a:rPr b="0" lang="zh-CN" sz="4400" spc="-1" strike="noStrike">
                <a:solidFill>
                  <a:srgbClr val="3333cc"/>
                </a:solidFill>
                <a:latin typeface="Tahoma"/>
                <a:ea typeface="黑体"/>
              </a:rPr>
              <a:t>月全部建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ahoma"/>
                <a:ea typeface="黑体"/>
              </a:rPr>
              <a:t>成移交。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1508760" y="1052640"/>
            <a:ext cx="6590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　　从勘探到竣工整整花了</a:t>
            </a:r>
            <a:r>
              <a:rPr b="0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10</a:t>
            </a:r>
            <a:r>
              <a:rPr b="0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个年头里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中国政府提供无息贷款</a:t>
            </a:r>
            <a:r>
              <a:rPr b="0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9.88</a:t>
            </a:r>
            <a:r>
              <a:rPr b="0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亿元人民币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共发运各种设备材料近</a:t>
            </a:r>
            <a:r>
              <a:rPr b="0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100</a:t>
            </a:r>
            <a:r>
              <a:rPr b="0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万吨，先后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派遣工程技术人员近</a:t>
            </a:r>
            <a:r>
              <a:rPr b="0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5</a:t>
            </a:r>
            <a:r>
              <a:rPr b="0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万人次，高峰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期在现场施工的中国员工队伍多达</a:t>
            </a:r>
            <a:r>
              <a:rPr b="0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1.6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万人，坦桑尼亚和赞比亚地形复杂，给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施工造成许多困难，中方有</a:t>
            </a:r>
            <a:r>
              <a:rPr b="0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65</a:t>
            </a:r>
            <a:r>
              <a:rPr b="0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人为之献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出宝贵生命。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1341720" y="1052640"/>
            <a:ext cx="64411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　　墓碑前还留着花圈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  <a:ea typeface="黑体"/>
              </a:rPr>
              <a:t>——</a:t>
            </a:r>
            <a:r>
              <a:rPr b="0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虽然已被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阳光和风雨夺去了光彩，却依然流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着远方亲人的思念。不知是谁在一块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墓碑前留下了一枝玫瑰，花瓣已经褪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色，在风中微微抖动着，把忧伤撒满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墓园的同时，也似乎要将我们带回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黑体"/>
                <a:ea typeface="黑体"/>
              </a:rPr>
              <a:t>30</a:t>
            </a:r>
            <a:r>
              <a:rPr b="0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多年前，那个充满着光荣与梦想的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时代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AutoShape 5">
            <a:hlinkClick r:id="" action="ppaction://hlinkshowjump?jump=firstslide"/>
          </p:cNvPr>
          <p:cNvSpPr/>
          <p:nvPr/>
        </p:nvSpPr>
        <p:spPr>
          <a:xfrm>
            <a:off x="8172360" y="6237360"/>
            <a:ext cx="792360" cy="404640"/>
          </a:xfrm>
          <a:custGeom>
            <a:avLst/>
            <a:gdLst>
              <a:gd name="textAreaLeft" fmla="*/ 25920 w 792360"/>
              <a:gd name="textAreaRight" fmla="*/ 766440 w 792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2278" h="21600">
                <a:moveTo>
                  <a:pt x="0" y="0"/>
                </a:moveTo>
                <a:lnTo>
                  <a:pt x="42278" y="0"/>
                </a:lnTo>
                <a:lnTo>
                  <a:pt x="42278" y="21600"/>
                </a:lnTo>
                <a:lnTo>
                  <a:pt x="0" y="21600"/>
                </a:lnTo>
                <a:close/>
              </a:path>
              <a:path fill="lightenLess" w="42278" h="21600">
                <a:moveTo>
                  <a:pt x="0" y="0"/>
                </a:moveTo>
                <a:lnTo>
                  <a:pt x="42278" y="0"/>
                </a:lnTo>
                <a:lnTo>
                  <a:pt x="40878" y="1400"/>
                </a:lnTo>
                <a:lnTo>
                  <a:pt x="1400" y="1400"/>
                </a:lnTo>
                <a:close/>
              </a:path>
              <a:path fill="darken" w="42278" h="21600">
                <a:moveTo>
                  <a:pt x="42278" y="0"/>
                </a:moveTo>
                <a:lnTo>
                  <a:pt x="42278" y="21600"/>
                </a:lnTo>
                <a:lnTo>
                  <a:pt x="40878" y="20200"/>
                </a:lnTo>
                <a:lnTo>
                  <a:pt x="40878" y="1400"/>
                </a:lnTo>
                <a:close/>
              </a:path>
              <a:path fill="darkenLess" w="42278" h="21600">
                <a:moveTo>
                  <a:pt x="42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878" y="20200"/>
                </a:lnTo>
                <a:close/>
              </a:path>
              <a:path fill="lighten" w="42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5"/>
          <p:cNvSpPr/>
          <p:nvPr/>
        </p:nvSpPr>
        <p:spPr>
          <a:xfrm>
            <a:off x="2683080" y="907920"/>
            <a:ext cx="450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华文细黑"/>
              </a:rPr>
              <a:t>莫西奥图尼亚瀑布  名不虚传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7" descr="2006629234515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916280"/>
            <a:ext cx="7561440" cy="4491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2290680" y="9064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华文细黑"/>
              </a:rPr>
              <a:t>莫西奥图尼亚瀑布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6" descr="101402_senqin10920344785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133720"/>
            <a:ext cx="820728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2290680" y="9064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华文细黑"/>
              </a:rPr>
              <a:t>莫西奥图尼亚瀑布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6" descr="niyajial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060640"/>
            <a:ext cx="7920000" cy="4375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290680" y="9064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华文细黑"/>
              </a:rPr>
              <a:t>莫西奥图尼亚瀑布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6" descr="3451-t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060640"/>
            <a:ext cx="7704360" cy="3889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2290680" y="9064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华文细黑"/>
              </a:rPr>
              <a:t>莫西奥图尼亚瀑布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6" descr="127620850180468750_742336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989000"/>
            <a:ext cx="7201080" cy="43372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7">
            <a:hlinkClick r:id="" action="ppaction://hlinkshowjump?jump=firstslide"/>
          </p:cNvPr>
          <p:cNvSpPr/>
          <p:nvPr/>
        </p:nvSpPr>
        <p:spPr>
          <a:xfrm>
            <a:off x="8172360" y="6237360"/>
            <a:ext cx="792360" cy="404640"/>
          </a:xfrm>
          <a:custGeom>
            <a:avLst/>
            <a:gdLst>
              <a:gd name="textAreaLeft" fmla="*/ 25920 w 792360"/>
              <a:gd name="textAreaRight" fmla="*/ 766440 w 792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2278" h="21600">
                <a:moveTo>
                  <a:pt x="0" y="0"/>
                </a:moveTo>
                <a:lnTo>
                  <a:pt x="42278" y="0"/>
                </a:lnTo>
                <a:lnTo>
                  <a:pt x="42278" y="21600"/>
                </a:lnTo>
                <a:lnTo>
                  <a:pt x="0" y="21600"/>
                </a:lnTo>
                <a:close/>
              </a:path>
              <a:path fill="lightenLess" w="42278" h="21600">
                <a:moveTo>
                  <a:pt x="0" y="0"/>
                </a:moveTo>
                <a:lnTo>
                  <a:pt x="42278" y="0"/>
                </a:lnTo>
                <a:lnTo>
                  <a:pt x="40878" y="1400"/>
                </a:lnTo>
                <a:lnTo>
                  <a:pt x="1400" y="1400"/>
                </a:lnTo>
                <a:close/>
              </a:path>
              <a:path fill="darken" w="42278" h="21600">
                <a:moveTo>
                  <a:pt x="42278" y="0"/>
                </a:moveTo>
                <a:lnTo>
                  <a:pt x="42278" y="21600"/>
                </a:lnTo>
                <a:lnTo>
                  <a:pt x="40878" y="20200"/>
                </a:lnTo>
                <a:lnTo>
                  <a:pt x="40878" y="1400"/>
                </a:lnTo>
                <a:close/>
              </a:path>
              <a:path fill="darkenLess" w="42278" h="21600">
                <a:moveTo>
                  <a:pt x="42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878" y="20200"/>
                </a:lnTo>
                <a:close/>
              </a:path>
              <a:path fill="lighten" w="42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2474280" y="907920"/>
            <a:ext cx="390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华文细黑"/>
              </a:rPr>
              <a:t>各式各样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华文细黑"/>
              </a:rPr>
              <a:t>,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华文细黑"/>
              </a:rPr>
              <a:t>琳琅满目的木雕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6" descr="2006613334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2060640"/>
            <a:ext cx="6303960" cy="4057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2474280" y="907920"/>
            <a:ext cx="390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华文细黑"/>
              </a:rPr>
              <a:t>各式各样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华文细黑"/>
              </a:rPr>
              <a:t>,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华文细黑"/>
              </a:rPr>
              <a:t>琳琅满目的木雕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6" descr="2006613490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205000"/>
            <a:ext cx="3600360" cy="3660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r_DSC0015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276640"/>
            <a:ext cx="3552840" cy="3852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2474280" y="907920"/>
            <a:ext cx="390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华文细黑"/>
              </a:rPr>
              <a:t>各式各样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华文细黑"/>
              </a:rPr>
              <a:t>,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华文细黑"/>
              </a:rPr>
              <a:t>琳琅满目的木雕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6" descr="DSCF00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2133720"/>
            <a:ext cx="3095640" cy="4127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u=834903419,993699940&amp;gp=-1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2205000"/>
            <a:ext cx="4554720" cy="34164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9-23T06:31:37Z</dcterms:modified>
  <cp:revision>13</cp:revision>
  <dc:subject/>
  <dc:title>PowerPoint Presentation</dc:title>
</cp:coreProperties>
</file>