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32A-E2D7-4778-8E8E-93D3F07E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81B-23AA-4247-B9C3-05AA478A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489-C05F-4834-823E-3EEE0855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281-A136-4F51-BE35-555A7BE1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58D4-0772-4F45-94C5-074E2923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DBC1-D6A1-47FC-A46B-D996BE14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3B86-6941-4F58-BDDD-D16282CF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B52E-713F-4DB2-85E4-C81AB3C1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D67D-AE9D-4560-890B-93735D41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26CE-539F-4265-94B1-E453D5CD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5D1A-60DD-48A3-90AC-3BBE027B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754-A4B5-458D-A98B-89A64373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F82A-4D24-43A3-BF17-FCC789EA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23C9-80A5-4E4E-AD3B-B2B46664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7638-2144-4E88-BE69-ACD3DA97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D255-C55A-48E7-A9E8-FDB1E17D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E744-C853-4358-8795-277C7045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798-E289-473B-94B5-2250C45F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904-DE7C-41ED-BED1-5A2CF58F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3FC-8113-4FED-8D37-D02941A8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F73-E9AC-4E42-9288-47CF0A5C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FF8-F8A7-4CA9-8A60-904DBBF4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4DD-ACB4-4BB3-92EF-21E44536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834-44C6-4D97-A0FC-D8984E89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DD61-0578-4221-89C8-DE2865FB1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74CC-A647-4374-923D-6A63AD7D01BD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6628680" y="692280"/>
            <a:ext cx="1399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个铁球同时着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5472000" cy="5759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51280" y="6237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中宋"/>
              </a:rPr>
              <a:t>安徽省芜湖市三园小学　开圣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中宋"/>
              </a:rPr>
              <a:t>义务教育课程标准实验教科书人教版小学语文四年级下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5280" y="26964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那时候，研究科学的人都信奉亚里士多德，把这位两千多年前的希腊哲学家的话当作不容更改的真理。谁要是怀疑亚里士多德，人们就会责备他：“你是什么意思？难道要违背人类的真理吗？”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724280" y="6094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亚里士多德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6002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1523880"/>
            <a:ext cx="40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古希腊哲学家、科学家。他在生物学、生理学、医学、美学等方面都有杰出的贡献，被马克思、恩格斯称为古希腊哲学家中“最博学的人物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3571920" cy="4876920"/>
          </a:xfrm>
          <a:prstGeom prst="rect">
            <a:avLst/>
          </a:prstGeom>
          <a:ln w="88920">
            <a:solidFill>
              <a:srgbClr val="9933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2147760"/>
            <a:ext cx="84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那时候，研究科学的人都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信奉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亚里士多德，把这位两千多年前的希腊哲学家的话当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容更改的真理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谁要是怀疑亚里士多德，人们就会责备他：“你是什么意思？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难道要违背人类的真理吗？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773360"/>
            <a:ext cx="842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有的说：“这个青年真是胆大妄为，竟想找亚里士多德的错处！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有的说：“等会儿他就固执不了啦，事实是无情的，会让他丢尽了脸！”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9280" y="151704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话训练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作为伽利略的亲人，朋友，身边的人，你会怎么跟他说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身份有：亲人　同事　朋友　学生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…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如果你是其中的一位，你会对他说些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155736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当科学家们被权势吓倒，科学就会变成一个软骨病人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追求科学的真理需要特殊的勇气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伽利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700200"/>
            <a:ext cx="8280360" cy="550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92360" y="148428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908000" y="549360"/>
            <a:ext cx="5040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6560" y="19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科学的真理不应该在古代圣人的蒙着灰尘的书上去找，而应该在实验中和以实验为基础的理论中去找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340000" y="549360"/>
            <a:ext cx="4608360" cy="5761080"/>
          </a:xfrm>
          <a:prstGeom prst="rect">
            <a:avLst/>
          </a:prstGeom>
          <a:ln w="88920">
            <a:solidFill>
              <a:srgbClr val="9933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rcRect l="0" t="17218" r="24921" b="7191"/>
          <a:stretch/>
        </p:blipFill>
        <p:spPr>
          <a:xfrm>
            <a:off x="179280" y="620640"/>
            <a:ext cx="874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59.0)">
                                      <p:cBhvr>
                                        <p:cTn id="6" dur="125258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981000"/>
            <a:ext cx="8064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自读要求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标注自然段序号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圈画生字词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读准字音；读通课文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思考：课文讲了一件什么事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590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年伽利略在比萨斜塔做“两个铁球同时着地”的实验获得成功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3887640" cy="3713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724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伽利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29200" y="692280"/>
            <a:ext cx="3287880" cy="388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7224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比萨斜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66360" y="5451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简述：课文讲了一件什么事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1182600"/>
            <a:ext cx="8424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伽利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略　违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背　信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奉　拴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住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拖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固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执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十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磅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解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释　宣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布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胆大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妄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　　　　　　　　　　　　　　　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比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萨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斜塔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35280" y="2276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2276640"/>
            <a:ext cx="33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　）论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辫  辩  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6560" y="134316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两个铁球，一个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磅重，一个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磅重，同时从高处落下来，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磅重的一定　　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先着地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速度是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磅重的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亚里士多德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0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338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两个不同重量的铁球同时从高处落下来，总是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同时着地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铁球往下落的速度跟铁球的轻重没有关系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伽利略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6560" y="134316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两个铁球，一个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磅重，一个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磅重，同时从高处落下来，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磅重的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定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着地，速度是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磅重的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亚里士多德</a:t>
            </a:r>
            <a:r>
              <a:rPr b="0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338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两个不同重量的铁球同时从高处落下来，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总是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时着地，铁球往下落的速度跟铁球的轻重没有关系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伽利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1773360"/>
            <a:ext cx="842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有的说：“这个青年真是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胆大妄为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竟想找亚里士多德的错处！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有的说：“等会儿他就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固执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了啦，事实是无情的，会让他丢尽了脸！”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2:37:26Z</dcterms:created>
  <dc:creator>pjy</dc:creator>
  <dc:description/>
  <dc:language>en-US</dc:language>
  <cp:lastModifiedBy>user</cp:lastModifiedBy>
  <dcterms:modified xsi:type="dcterms:W3CDTF">2010-07-12T06:56:51Z</dcterms:modified>
  <cp:revision>256</cp:revision>
  <dc:subject/>
  <dc:title>PowerPoint 演示文稿</dc:title>
</cp:coreProperties>
</file>