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B87-0B51-4D0C-9002-95D3E607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08C-8112-46BC-B742-118D8044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8B0-0DC7-49BA-A909-19E15CC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B4E-E637-4B0B-971D-8D2F08E7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212-A0C7-4E7F-A8AE-24868892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DBA-79C1-4682-9F89-0DD9C23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ED8-250D-47DD-B4E7-3E134A4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549-0C06-4588-B526-BE90970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B4B-350B-4AB5-9AD3-A62BF78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A38-38BF-49C9-AC5F-ACD0E1E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28D-342A-4D9D-9EB1-966FB7AC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A72-3634-44B2-800A-62F7C3EB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B623-16B8-443F-BD6C-730DDA12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A75F-F795-4BE4-B962-6766304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F0A0-2427-44AC-AFF1-CC38ED4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011-3F78-4C37-952C-42E1A450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4757-7C14-42E0-87D9-A18487DB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5DF-F1E7-4F31-9275-C9D35CD6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2F56-A7B9-49CD-A3D3-B4C6B44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824B-09CF-4271-8A8B-49186DA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815E-429A-43DD-ADD8-2D48AC0C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AD29-162B-4B72-BE6B-37DC310B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670-97F8-4764-89EC-B28599D2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AE90-B86B-4C67-B4C2-AAA55E5A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447B-247D-48BA-AEFD-909F5900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7C41-4582-4657-9BCA-4C4D798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A19A-CA35-4605-A281-115B4B5A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953C-BAC2-471C-9255-364A5B5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FC4E-B594-4CFA-BB95-E2634BD7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3496-ABE3-4011-A061-7A5E54BC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C67B-FD86-4264-A038-3875FF9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E53D-6F05-41E2-B6B3-B9427F1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7D87-E708-418A-96C8-59D3557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30F2-83AF-429D-8A19-90A7967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CE99-0370-4070-8093-C63006EC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7961-80AB-4095-BF37-DE9692F2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8B96-9D87-4851-A0E9-E7BF8BE4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04C2-308B-4325-9A51-6BA07EB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EC5C-EA5D-4513-B425-DE2B5513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8A54-F66A-4F43-974A-E15D44A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D46A-4500-478E-A833-109B5424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3DC3-1A60-4773-AF7E-4C7569F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0D50-658B-470A-B34C-0CE9884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9048-2FD0-44C8-BC48-12B4BAD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E876-4CF9-4CF3-9560-23DA0B9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53C4-97E4-4E2A-B594-B5FB20D2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BD96-4988-4289-B1CD-F8E9D891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6C08-B68A-4BED-9F50-9B9C59CD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c90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ec9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ec9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ec9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ec9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ec9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ec90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c90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20E4-7CC9-4C81-B53F-F587818B0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C667-6101-4276-9174-5FA0A79D2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7AA-80D0-456F-8345-B58DE2FF0D6D}" type="slidenum">
              <a:rPr b="0" lang="zh-CN" sz="1400" spc="-1" strike="noStrike">
                <a:solidFill>
                  <a:srgbClr val="ffffe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DCC1-68B9-497E-8089-C5838A848F59}" type="slidenum">
              <a:rPr b="0" lang="zh-CN" sz="1400" spc="-1" strike="noStrike">
                <a:solidFill>
                  <a:srgbClr val="0026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74.xml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file:///../Local%20Settings/Temp/&#39033;&#24196;&#33310;&#21073;.ppt" TargetMode="External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file:///../../../../../../dz&#25945;&#23398;&#36164;&#28304;/&#35821;&#25991;&#38899;&#20687;&#36164;&#26009;/&#24453;&#25972;&#20869;&#23481;/&#12298;&#40511;&#38376;&#23476;&#12299;PPT2/&#12298;&#40511;&#38376;&#23476;&#12299;(&#25945;&#23398;&#35838;&#20214;&#65289;.ppt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c902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中应注意的重点词语、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062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军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霸上”、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关中” 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，驻扎；王，称王。名词用作动词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2743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沛公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山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时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函谷关以东地区，古今异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4981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财物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无所取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财物。名作状，表动作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1148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范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说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项羽曰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劝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23880" y="53352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然段主要写了几件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04920" y="284040"/>
            <a:ext cx="8458200" cy="6381720"/>
          </a:xfrm>
          <a:prstGeom prst="rect">
            <a:avLst/>
          </a:prstGeom>
          <a:ln w="0">
            <a:noFill/>
          </a:ln>
        </p:spPr>
      </p:pic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99072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隶书"/>
              </a:rPr>
              <a:t>无伤告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33520" y="262080"/>
            <a:ext cx="8229600" cy="6432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562720" y="-586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隶书"/>
              </a:rPr>
              <a:t>范增定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5280" y="838080"/>
            <a:ext cx="6705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第一部分</a:t>
            </a:r>
            <a:r>
              <a:rPr b="0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(</a:t>
            </a:r>
            <a:r>
              <a:rPr b="0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段</a:t>
            </a:r>
            <a:r>
              <a:rPr b="0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项羽大军压境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刘邦处境危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故事的开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7004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438280" y="1143000"/>
            <a:ext cx="43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讲解翻译课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2286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第二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中应注意的重点词语、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10954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留侯张良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好（友善）。形容词作动词用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23623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项伯乃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沛公军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驰，骑马快奔；之，到，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657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具告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以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具通俱，全部；应译为“以事具告之”，  “以事” 作状语后置；“之”代词，代“张良”，省略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14400" y="609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为之奈何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译为“奈何为之”，为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付；怎么对付这件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828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谁为大王为此计者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为“替大王出这条计策的是谁”。 “为大王为此计者谁” ， “者”语气助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4114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距关，毋内诸侯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距通拒，把守；内通纳，接纳。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君安与项伯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故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情，形容词作名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与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游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项伯杀人，臣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活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游，交往；活，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活，使动用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3809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孰与君少长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跟你相比，谁大谁小。“与君孰少孰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38080" y="457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吾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得兄事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该用对待兄长的礼节侍奉他”，事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侍奉；兄：象对待兄长一样，名词作状语。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23623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约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婚姻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家。古今异义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581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籍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吏民，封府库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籍，名词作动词，给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登记造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4876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备他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出入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非常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也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，意外的变故（古今异义）；之，取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28368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朗诵项羽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垓下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，体会慷慨悲凉的意味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7138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汉仪雪峰体简"/>
              </a:rPr>
              <a:t>垓下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•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项羽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力拔山兮气盖世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时不利兮骓不逝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骓不逝兮可奈何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文鼎中隶简"/>
                <a:ea typeface="文鼎中隶简"/>
              </a:rPr>
              <a:t>虞兮虞兮奈若何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  <a:ea typeface="文鼎中隶简"/>
              </a:rPr>
              <a:t>      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  <a:ea typeface="文鼎中隶简"/>
              </a:rPr>
              <a:t>（此诗是</a:t>
            </a:r>
            <a:r>
              <a:rPr b="0" lang="zh-CN" sz="3200" spc="-1" strike="noStrike">
                <a:solidFill>
                  <a:srgbClr val="00264c"/>
                </a:solidFill>
                <a:latin typeface="文鼎中隶简"/>
                <a:ea typeface="文鼎中隶简"/>
              </a:rPr>
              <a:t>项羽兵困垓下时作，后突围至乌江自刎身亡。这是英雄末路的挽歌，唱出了气盖一世的英雄之士穷途末路的悲慨 。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  <a:ea typeface="文鼎中隶简"/>
              </a:rPr>
              <a:t>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38080" y="6094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愿伯具言臣之不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倍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德也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通背，背叛，忘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1905120"/>
            <a:ext cx="70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旦日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可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蚤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自来谢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于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项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旦日，第二天；蚤通早，   早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733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不如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遇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友好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81080" y="220500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然段主要写了几件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990720" y="615960"/>
            <a:ext cx="7391160" cy="580392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5638680" y="6094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项伯夜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62120" y="480960"/>
            <a:ext cx="7696080" cy="5953320"/>
          </a:xfrm>
          <a:prstGeom prst="rect">
            <a:avLst/>
          </a:prstGeom>
          <a:ln w="0">
            <a:noFill/>
          </a:ln>
        </p:spPr>
      </p:pic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685800" y="6094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隶书"/>
              </a:rPr>
              <a:t>刘邦讨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614196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rId3" action="ppaction://hlinksldjump"/>
          </p:cNvPr>
          <p:cNvSpPr/>
          <p:nvPr/>
        </p:nvSpPr>
        <p:spPr>
          <a:xfrm>
            <a:off x="3657600" y="304920"/>
            <a:ext cx="47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隶书"/>
              </a:rPr>
              <a:t>项王许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762120"/>
            <a:ext cx="7620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第二部分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(</a:t>
            </a: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自然段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刘邦积极采取对策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形势由战向和转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──</a:t>
            </a: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故事的发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7004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438280" y="1143000"/>
            <a:ext cx="580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讲解翻译课文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2854440"/>
            <a:ext cx="43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第三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中应注意的重点词语、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143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沛公旦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从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百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骑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来见项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，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随，带领，使动用法。骑，人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2819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将军战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于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北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河以北。古今异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962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令将军与臣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郤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郤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隙，隔阂，嫌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51814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项王、项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向坐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面向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38080" y="25704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范增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目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于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项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眼色，名词作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600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若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前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为寿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前，方位名词作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2895480"/>
            <a:ext cx="69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者，若属皆且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为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之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所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虏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通否，否则；为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被动，引进主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4753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常以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翼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蔽沛公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翼，象鸟的翅膀一样，名词作状语。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700360" y="242100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然段主要写了几件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朗诵刘邦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大风歌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，体会荣耀又忧虑的意味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207280" cy="45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汉仪雪峰体简"/>
              </a:rPr>
              <a:t>大风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·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文鼎中隶简"/>
              </a:rPr>
              <a:t>刘邦</a:t>
            </a:r>
            <a:br>
              <a:rPr sz="3200"/>
            </a:b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　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文鼎中隶简"/>
              </a:rPr>
              <a:t>大风起兮云飞扬，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文鼎中隶简"/>
              </a:rPr>
              <a:t>　　威加海内兮归故乡。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文鼎中隶简"/>
              </a:rPr>
              <a:t>　　安得猛士兮守四方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64c"/>
                </a:solidFill>
                <a:latin typeface="Times New Roman"/>
                <a:ea typeface="方正隶书简体"/>
              </a:rPr>
              <a:t>（此诗为刘邦统一天下转道故乡沛县时所作。它生动地表现了刘邦夺得天下后那种踌躇满志但又忧虑的矛盾心情。）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848720" cy="61214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5948640" y="1652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华文隶书"/>
              </a:rPr>
              <a:t>刘邦谢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066680" y="696960"/>
            <a:ext cx="7315200" cy="570060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rId3" action="ppaction://hlinksldjump"/>
          </p:cNvPr>
          <p:cNvSpPr/>
          <p:nvPr/>
        </p:nvSpPr>
        <p:spPr>
          <a:xfrm>
            <a:off x="1681200" y="5334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华文隶书"/>
              </a:rPr>
              <a:t>范增示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627696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rId3"/>
          </p:cNvPr>
          <p:cNvSpPr/>
          <p:nvPr/>
        </p:nvSpPr>
        <p:spPr>
          <a:xfrm>
            <a:off x="1148040" y="56991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项庄舞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17524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关于鸿门宴上的坐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106668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按古代礼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帝王与臣下相对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帝王面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臣下面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宾主之间相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则为宾东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主西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长幼之间相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则长者东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幼者西向。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Arial"/>
                <a:ea typeface="隶书"/>
              </a:rPr>
              <a:t>宴席的四面坐位，以东向最尊，次为南向，再次为北向，西向侍坐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鸿门宴中“项王、项伯东向坐”，是最上位，范增南向坐，是第二位，再次是刘邦，张良则为侍坐。从坐位可看出双方力量悬殊与项羽的自高自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7004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438280" y="11430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讲解翻译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39640" y="2286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中应注意的重点词语、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与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同命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生死。拼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9335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目视项王，头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上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指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瞋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瞪目；上，向上，名词作状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2004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何为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者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个客人是干什么的？“何为”应为“为何”，疑问代词作宾语前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4829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刑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如恐不胜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刑，施加肉刑，名词作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先破秦入咸阳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之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，名词活用作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828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还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军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于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霸上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驻扎，名词作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981080" y="292572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然段主要写了几件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7772400" cy="6013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5410080" y="304920"/>
            <a:ext cx="27432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张良召哙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848360" cy="6097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452600" y="76320"/>
            <a:ext cx="2009520" cy="1008360"/>
          </a:xfrm>
          <a:prstGeom prst="rect">
            <a:avLst/>
          </a:prstGeom>
          <a:noFill/>
          <a:ln w="0">
            <a:noFill/>
          </a:ln>
          <a:effectLst>
            <a:outerShdw dist="182013" dir="14874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义责项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9907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十四史中的第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全书一百三十篇，包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共五十二万六千五百字，叙述了上起黄帝，下到汉武帝太初四年约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的历史；是我国第一部纪传体通史。鲁迅赞誉它为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史家之绝唱，无韵之离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意即它既是史学巨著，又是文学巨著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1486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十二本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8720" y="198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十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3440" y="206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八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0360" y="1486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三十世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2060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七十列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60720" y="4777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《史记》简介</a:t>
            </a:r>
            <a:endParaRPr b="1" lang="en-US" sz="1800" spc="-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85800"/>
            <a:ext cx="7924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第三部分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(3</a:t>
            </a: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段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写宴会上的明争暗斗──高潮</a:t>
            </a:r>
            <a:r>
              <a:rPr b="1" lang="zh-CN" sz="4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三</a:t>
            </a:r>
            <a:r>
              <a:rPr b="1" lang="zh-CN" sz="7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起</a:t>
            </a:r>
            <a:r>
              <a:rPr b="1" lang="zh-CN" sz="48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三</a:t>
            </a:r>
            <a:r>
              <a:rPr b="1" lang="zh-CN" sz="3600" spc="-1" strike="noStrike">
                <a:solidFill>
                  <a:srgbClr val="339933"/>
                </a:solidFill>
                <a:latin typeface="方正琥珀简体"/>
                <a:ea typeface="方正琥珀简体"/>
              </a:rPr>
              <a:t>落</a:t>
            </a:r>
            <a:r>
              <a:rPr b="1" lang="zh-CN" sz="4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增示意      项庄舞剑     樊哙闯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771640" y="2565000"/>
            <a:ext cx="719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92360" y="2565360"/>
            <a:ext cx="8654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356000" y="2420640"/>
            <a:ext cx="719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2492280"/>
            <a:ext cx="8654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04000" y="2421000"/>
            <a:ext cx="865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3789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刘邦谢罪            项羽不应   项王赐座    刘邦逃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789360"/>
            <a:ext cx="27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79640" y="4869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结果：项羽由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隶书"/>
              </a:rPr>
              <a:t>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变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隶书"/>
              </a:rPr>
              <a:t>被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刘邦由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隶书"/>
              </a:rPr>
              <a:t>被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变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隶书"/>
              </a:rPr>
              <a:t>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940360" y="242100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7004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438280" y="11430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讲解翻译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22860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中应注意的重点词语、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大行不顾细谨， 大礼不辞小让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做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事情不必考虑细枝末节，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讲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礼节不必避免小小的责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124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如今人方为刀俎，我为鱼肉，何    辞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现在别人正是菜刀和砧板，我们是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砧板上的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鱼和肉，为什么告辞呢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大王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何操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来的时候带什么礼物？何操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操何，宾语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38080" y="457200"/>
            <a:ext cx="75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我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白璧一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定语后置句“一双白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720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樊哙、夏侯婴、靳强、纪信等四人持剑盾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步走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徒步 逃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29401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道芷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行：从小路，名词作状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3701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胜杯杓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禁不起多喝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4464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沛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安在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在哪里，宾语前置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5210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拔剑撞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破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之：破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使动用法，使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828800" y="4724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292572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0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部分主要写了几件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8153640" cy="625608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539640" y="508464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隶书"/>
              </a:rPr>
              <a:t>沛公脱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62120" y="490680"/>
            <a:ext cx="8001000" cy="61704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990720" y="5638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隶书"/>
              </a:rPr>
              <a:t>刘邦锄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3520" y="11430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第四部分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(4</a:t>
            </a: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段</a:t>
            </a:r>
            <a:r>
              <a:rPr b="1" lang="en-US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刘邦的逃走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琥珀简体"/>
                <a:ea typeface="方正琥珀简体"/>
              </a:rPr>
              <a:t>项羽一方对失败的反映──故事的结局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505320" y="1447920"/>
            <a:ext cx="75960" cy="3047760"/>
          </a:xfrm>
          <a:custGeom>
            <a:avLst/>
            <a:gdLst>
              <a:gd name="textAreaLeft" fmla="*/ 22320 w 75960"/>
              <a:gd name="textAreaRight" fmla="*/ 76320 w 75960"/>
              <a:gd name="textAreaTop" fmla="*/ 126720 h 3047760"/>
              <a:gd name="textAreaBottom" fmla="*/ 292104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000066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8320" y="6094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无伤告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24280" y="13716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范增献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2895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项伯夜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4267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刘项约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50292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项伯具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495680" y="99072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000066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352680"/>
            <a:ext cx="76320" cy="2210040"/>
          </a:xfrm>
          <a:custGeom>
            <a:avLst/>
            <a:gdLst>
              <a:gd name="textAreaLeft" fmla="*/ 22320 w 76320"/>
              <a:gd name="textAreaRight" fmla="*/ 76320 w 7632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000066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88200" y="12193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3581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张良献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93880" y="42210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65200" y="129240"/>
            <a:ext cx="100332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Times New Roman"/>
                <a:ea typeface="隶书"/>
              </a:rPr>
              <a:t>宴会前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幕后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60440" y="341280"/>
            <a:ext cx="51454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本纪</a:t>
            </a: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en-US" sz="3600" spc="-1" strike="noStrike">
                <a:solidFill>
                  <a:srgbClr val="33cc33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叙述历代帝王的历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世家</a:t>
            </a: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en-US" sz="3600" spc="-1" strike="noStrike">
                <a:solidFill>
                  <a:srgbClr val="33cc33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叙述贵族王侯的历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列传</a:t>
            </a: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en-US" sz="3600" spc="-1" strike="noStrike">
                <a:solidFill>
                  <a:srgbClr val="33cc33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历代诸侯之外名官名人的事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表：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个历史时期的简单大事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书：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记载典章制度，天文地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7280" y="19692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797400" y="838080"/>
            <a:ext cx="1642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宴会中</a:t>
            </a:r>
            <a:r>
              <a:rPr b="0" lang="en-US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—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隶书"/>
              </a:rPr>
              <a:t>明争暗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1676520"/>
            <a:ext cx="75960" cy="2895480"/>
          </a:xfrm>
          <a:custGeom>
            <a:avLst/>
            <a:gdLst>
              <a:gd name="textAreaLeft" fmla="*/ 22320 w 75960"/>
              <a:gd name="textAreaRight" fmla="*/ 76320 w 7596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777120" y="26352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内部矛盾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项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由主动变被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82120" y="5334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团结一致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刘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由被动变主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16240" y="89856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刘邦谢罪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项羽留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16240" y="143208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范增示意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项羽不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16240" y="196524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项庄舞剑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项伯翼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1143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41911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13160" y="394668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张良告急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樊哙闯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13160" y="455616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项羽赐酒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樊哙责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11000" y="1538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87320" y="42670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76720" y="2209680"/>
            <a:ext cx="75960" cy="2590920"/>
          </a:xfrm>
          <a:custGeom>
            <a:avLst/>
            <a:gdLst>
              <a:gd name="textAreaLeft" fmla="*/ 22320 w 75960"/>
              <a:gd name="textAreaRight" fmla="*/ 76320 w 759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000066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76212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刘邦脱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1523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张良留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2286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项王受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29320" y="3048120"/>
            <a:ext cx="31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亚父破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24280" y="42670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无伤被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136600" y="52920"/>
            <a:ext cx="100332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宴会后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9999"/>
                </a:solidFill>
                <a:latin typeface="Times New Roman"/>
                <a:ea typeface="隶书"/>
              </a:rPr>
              <a:t>脱身除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78600" y="19162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54720" y="44197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1143000"/>
            <a:ext cx="76320" cy="2514600"/>
          </a:xfrm>
          <a:custGeom>
            <a:avLst/>
            <a:gdLst>
              <a:gd name="textAreaLeft" fmla="*/ 22320 w 76320"/>
              <a:gd name="textAreaRight" fmla="*/ 76320 w 7632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000066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685800" y="685800"/>
            <a:ext cx="7238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人物性格揭示</a:t>
            </a:r>
            <a:endParaRPr b="0" lang="en-US" sz="4800" spc="-1" strike="noStrike">
              <a:ln w="9360">
                <a:solidFill>
                  <a:srgbClr val="00008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09080" cy="7297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8120" y="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华文新魏"/>
              </a:rPr>
              <a:t>主要人物关系</a:t>
            </a:r>
            <a:endParaRPr b="1" lang="en-US" sz="18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12720" y="4149720"/>
          <a:ext cx="7848720" cy="259380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70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755640" y="414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阵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40000" y="422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14d9"/>
                </a:solidFill>
                <a:latin typeface="Times New Roman"/>
                <a:ea typeface="隶书"/>
              </a:rPr>
              <a:t>主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429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谋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7080" y="4221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14d9"/>
                </a:solidFill>
                <a:latin typeface="Times New Roman"/>
                <a:ea typeface="隶书"/>
              </a:rPr>
              <a:t>武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20000" y="4292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内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501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刘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602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项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68360" y="50864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80bfb"/>
                </a:solidFill>
                <a:latin typeface="Times New Roman"/>
                <a:ea typeface="隶书"/>
              </a:rPr>
              <a:t>刘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40000" y="587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97440" y="5086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80bfb"/>
                </a:solidFill>
                <a:latin typeface="Times New Roman"/>
                <a:ea typeface="隶书"/>
              </a:rPr>
              <a:t>张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7440" y="5877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范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08720" y="50864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80bfb"/>
                </a:solidFill>
                <a:latin typeface="Times New Roman"/>
                <a:ea typeface="隶书"/>
              </a:rPr>
              <a:t>樊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5877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项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04000" y="50864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80bfb"/>
                </a:solidFill>
                <a:latin typeface="Times New Roman"/>
                <a:ea typeface="隶书"/>
              </a:rPr>
              <a:t>曹无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93080" y="5950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项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9640" y="141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司马迁采用了人物对照的方式来描述两方对垒，这样对比来写，让我们感受双方的斗智斗勇，人物性格会更加鲜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24000" y="-94284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8720" y="260280"/>
            <a:ext cx="82296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们先来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项羽和刘邦对待对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态度，从中能看出他们各自怎样的性格？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项羽对待刘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傲慢，根本不把他放在眼里，轻易就把他给放了，由此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高自大，毫无远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刘邦对项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惜降低身份，百般逢迎，以掩盖自己的政治野心，由此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谋远虑，忍辱负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-57960"/>
            <a:ext cx="7427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47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项羽和刘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自己部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态度如何呢？从中能看出他们各自怎样的性格？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项羽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不采纳范增的计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放虎归山，养虎为患，由此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刚愎自用，意气用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邦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采纳张良和樊哙的建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成功的躲过了一劫，由此可以看出可以看出他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人善任，从谏如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4360" y="54900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项羽和刘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待内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态度如何呢？从中能看出他们各自怎样的性格？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项羽对项伯的内奸行为视而不见，由此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治军无法，任人唯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邦从鸿门宴回去后，就立即诛杀了曹无伤，由此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治军严谨，有奸必除。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2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项羽和刘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待内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态度如何呢？从中能看出他们各自怎样的性格？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项羽把曹无伤是内线一事告诉了刘邦，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胸无城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邦百般拉拢项伯，又是祝酒，又是结为亲家，由此可以看出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善于争取团结一切有助自己的力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8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0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ec90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项羽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高自大、毫无远虑、刚愎自用、意气用事、治军无法、任人唯亲、胸无城府；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刘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谋远虑、忍辱负重、知人善任、从谏如流、治军严谨、有奸必除、善于争取团结一切有助自己的力量。</a:t>
            </a:r>
            <a:endParaRPr b="0" lang="en-US" sz="3600" spc="-1" strike="noStrike">
              <a:solidFill>
                <a:srgbClr val="5ec9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90720" y="457200"/>
            <a:ext cx="73152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1080" y="98100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64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文鼎中隶简"/>
              </a:rPr>
              <a:t>高祖置酒洛阳南宫。高祖曰：“列侯诸将无敢隐朕，皆言其情。吾所以有天下者何？项氏之所以失天下者何？”高起、王陵对曰：“陛下慢而侮人，项羽仁而爱人。然陛下攻城略地，所隆下者因以予之，与天下同利也。项羽妒贤嫉能，有功者害之，贤者疑之，战胜而不予人功，得地而不与人利，此所以失天下也。”高祖曰：“公知其一，未知其二。夫运筹策帷帐之中，决胜于千里之外，吾不如子房；镇国家，抚百姓，给馈饷，不绝粮道，吾不如萧何；连百万之军，战必胜，攻必取，吾不如韩信。此三者，皆人杰也，吾能用之，此吾所以取天下也；项羽有一范增而示能用，此其所以为我擒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81080" y="189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64c"/>
                </a:solidFill>
                <a:latin typeface="Arial"/>
              </a:rPr>
              <a:t>刘邦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（秦二世元年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，陈涉、吴广在大泽乡起义，各地纷纷响应。楚国旧贵族项梁率侄项羽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于会稽起义，泗水亭长刘邦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也在沛起义后，归项梁领导。由于秦主力军为项羽所破，刘邦就很顺利地进入咸阳，秦王子婴投降。刘邦入咸阳后，为了收买民心，与秦民约法三章：“杀人者死，伤人及盗抵罪”，并申明军纪，废除了秦朝一系列严刑苛政，得到了广大百姓的支持。于是派兵守关，想做关中王，驻军于霸上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项羽击败秦军后，也向函谷关进军，破关而入咸阳，驻军于鸿门，并准备消灭刘邦军队。就在这样的剑拔弩张形势下，出现了“鸿门宴”这场激烈的政治斗争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鸿门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219320" y="65556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150c34"/>
                </a:solidFill>
                <a:latin typeface="宋体"/>
              </a:rPr>
              <a:t>题乌江亭                        胜败兵家事不期，包羞忍辱是男儿。       江东子弟多才俊，卷土重来未可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268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乌江亭                           百战疲劳壮士哀，中原一败势难回。  江东子弟今虽在，肯与君王卷土来</a:t>
            </a:r>
            <a:r>
              <a:rPr b="1" lang="en-US" sz="3200" spc="-1" strike="noStrike">
                <a:solidFill>
                  <a:srgbClr val="003366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49528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咏项羽                      生当作人杰，死亦为鬼雄。      至今思项羽，不肯过江东</a:t>
            </a:r>
            <a:r>
              <a:rPr b="1" lang="zh-CN" sz="3200" spc="-1" strike="noStrike">
                <a:solidFill>
                  <a:srgbClr val="e838cb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e838c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304920"/>
            <a:ext cx="1905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3500000" blurRad="0" rotWithShape="0">
                    <a:srgbClr val="9999ff"/>
                  </a:outerShdw>
                </a:effectLst>
                <a:latin typeface="黑体"/>
              </a:rPr>
              <a:t>杜牧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35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22860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王安石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464832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李清照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4920" y="654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全文以“鸿门宴”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中心事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，以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杀不杀刘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”为线索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按时间顺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展开情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9240" y="19890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矛盾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人物个性鲜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69920" y="16192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宴会前，战与不战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69920" y="222876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宴会上，杀与不杀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5760" y="28735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宴会后，追与不追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7520" y="4149720"/>
            <a:ext cx="18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结构严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首尾呼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7600" y="3787920"/>
            <a:ext cx="24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项羽欲击刘邦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刘邦被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75560" y="4473720"/>
            <a:ext cx="27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曹无伤告密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曹无伤被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9960" y="5124600"/>
            <a:ext cx="29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范增劝说项羽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范增怒骂项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84360" y="184464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4360" y="39337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23605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艺术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90320" y="9036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段情节曲线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6440" y="1355760"/>
            <a:ext cx="146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/>
          <p:nvPr/>
        </p:nvCxnSpPr>
        <p:spPr>
          <a:xfrm>
            <a:off x="304920" y="1066320"/>
            <a:ext cx="808560" cy="1296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1905120" y="1355760"/>
            <a:ext cx="146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1355760"/>
            <a:ext cx="146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1447920"/>
            <a:ext cx="146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04280" y="1523880"/>
            <a:ext cx="146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/>
          <p:nvPr/>
        </p:nvCxnSpPr>
        <p:spPr>
          <a:xfrm>
            <a:off x="2163240" y="1219320"/>
            <a:ext cx="808920" cy="129600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494" name=""/>
          <p:cNvCxnSpPr/>
          <p:nvPr/>
        </p:nvCxnSpPr>
        <p:spPr>
          <a:xfrm>
            <a:off x="4114440" y="1294920"/>
            <a:ext cx="808920" cy="1296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495" name=""/>
          <p:cNvCxnSpPr/>
          <p:nvPr/>
        </p:nvCxnSpPr>
        <p:spPr>
          <a:xfrm>
            <a:off x="5973840" y="1371600"/>
            <a:ext cx="808560" cy="129600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496" name=""/>
          <p:cNvCxnSpPr/>
          <p:nvPr/>
        </p:nvCxnSpPr>
        <p:spPr>
          <a:xfrm>
            <a:off x="7878240" y="1447920"/>
            <a:ext cx="808920" cy="129600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990720" y="965160"/>
            <a:ext cx="14634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/>
          <p:nvPr/>
        </p:nvCxnSpPr>
        <p:spPr>
          <a:xfrm flipV="1">
            <a:off x="1143000" y="1218600"/>
            <a:ext cx="991440" cy="1143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2895480" y="990720"/>
            <a:ext cx="14637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84760" y="1041480"/>
            <a:ext cx="14637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65840" y="1066680"/>
            <a:ext cx="14637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/>
          <p:nvPr/>
        </p:nvCxnSpPr>
        <p:spPr>
          <a:xfrm flipV="1">
            <a:off x="3047760" y="1294560"/>
            <a:ext cx="991080" cy="1143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503" name=""/>
          <p:cNvCxnSpPr/>
          <p:nvPr/>
        </p:nvCxnSpPr>
        <p:spPr>
          <a:xfrm flipV="1">
            <a:off x="4952880" y="1370880"/>
            <a:ext cx="991440" cy="1143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504" name=""/>
          <p:cNvCxnSpPr/>
          <p:nvPr/>
        </p:nvCxnSpPr>
        <p:spPr>
          <a:xfrm flipV="1">
            <a:off x="6858000" y="1447200"/>
            <a:ext cx="991440" cy="1143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755640" y="4005360"/>
            <a:ext cx="79930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14d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a14d9"/>
                </a:solidFill>
                <a:latin typeface="Times New Roman"/>
              </a:rPr>
              <a:t>、情节</a:t>
            </a:r>
            <a:r>
              <a:rPr b="1" lang="en-US" sz="2800" spc="-1" strike="noStrike">
                <a:solidFill>
                  <a:srgbClr val="fa14d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跌宕起伏，一波三折，   引人入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9960" y="4172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0040" y="462924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0"/>
            <a:ext cx="2743200" cy="825120"/>
          </a:xfrm>
          <a:prstGeom prst="rect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成语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990720"/>
            <a:ext cx="54864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吾入关，</a:t>
            </a:r>
            <a:r>
              <a:rPr b="1" lang="zh-CN" sz="2800" spc="-1" strike="noStrike" u="sng">
                <a:solidFill>
                  <a:srgbClr val="280bfb"/>
                </a:solidFill>
                <a:uFillTx/>
                <a:latin typeface="Times New Roman"/>
              </a:rPr>
              <a:t>秋毫不敢有所近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2286000"/>
            <a:ext cx="60199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280bfb"/>
                </a:solidFill>
                <a:uFillTx/>
                <a:latin typeface="Times New Roman"/>
              </a:rPr>
              <a:t>今者项庄拔剑舞，其意常在沛公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3886200"/>
            <a:ext cx="769608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280bfb"/>
                </a:solidFill>
                <a:uFillTx/>
                <a:latin typeface="Times New Roman"/>
              </a:rPr>
              <a:t>劳苦而功高如此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，未有封侯之赏，而听细说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5105520"/>
            <a:ext cx="64771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280bfb"/>
                </a:solidFill>
                <a:uFillTx/>
                <a:latin typeface="Times New Roman"/>
              </a:rPr>
              <a:t>如今人方为刀俎，我为鱼肉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，何辞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8080" y="1676520"/>
            <a:ext cx="75438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秋毫无犯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：形容军队纪律严明，不拿民间一针一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2895480"/>
            <a:ext cx="78487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项庄舞剑，意在沛公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：比喻说话或行动表面上有一个名目，实则另有图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4495680"/>
            <a:ext cx="87026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劳苦功高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出了很多力，吃了很多苦，立下了很大的功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8080" y="5791320"/>
            <a:ext cx="81536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人为刀俎，我为鱼肉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比喻别人掌握生杀大权，自己处于被宰割的地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4191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1295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《鸿门宴》是《史记》中极其精彩的一篇，司马迁对这位失败了的英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倾注了太多的感情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使其具有久远的人格魅力。可以说巨鹿之战的辉煌胜利使项羽完全丧失了自己的判断能力，也构成了他对战争的一种近乎盲目的崇拜，并进一步铸就了他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悲剧性格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。他的精神世界里惟一的支柱或许就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每次战斗赢得的胜利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。项羽不屑小计谋是真诚的，他梦想用他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崇尚的武力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去解决一切问题，最终英雄末路，项羽用性格的笔写下了只属于他的人生篇章，算是一种对自己的祭奠。无论是独夫的刚愎自用还是英雄的顾盼无奈，无论是扛鼎拔山，还是别姬自刎，光照至今的永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夕阳般的辉煌与悲壮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64000" y="333360"/>
            <a:ext cx="1371600" cy="7642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0" y="0"/>
            <a:ext cx="205740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f65cd"/>
                </a:solidFill>
                <a:latin typeface="Times New Roman"/>
                <a:ea typeface="隶书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1066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距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关，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诸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19640" y="476280"/>
            <a:ext cx="3443040" cy="1169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距”通“拒”，把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内”通“纳”，接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7524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旦日不可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蚤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自来谢项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05520" y="1828800"/>
            <a:ext cx="2286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蚤”通“早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令将军与臣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卻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57600" y="2514600"/>
            <a:ext cx="38862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卻”通“隙”，隔阂，嫌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31240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愿伯具言臣之不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德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29200" y="3200400"/>
            <a:ext cx="29718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倍”通“背”，背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项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0" y="3886200"/>
            <a:ext cx="29718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要”通“邀”，邀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5181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因击沛公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7510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05320" y="5181480"/>
            <a:ext cx="29718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坐”通“座”，座位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4495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4572000"/>
            <a:ext cx="29718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不”通“否”，否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586728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秋豪不敢有所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沛公之参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35280" y="5950080"/>
            <a:ext cx="29718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豪”通“毫”，细毛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6172200" y="5486400"/>
            <a:ext cx="3809880" cy="1143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543120" y="6467400"/>
            <a:ext cx="1540080" cy="520560"/>
          </a:xfrm>
          <a:prstGeom prst="rect">
            <a:avLst/>
          </a:prstGeom>
          <a:noFill/>
          <a:ln w="9360">
            <a:solidFill>
              <a:srgbClr val="150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0c34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150c34"/>
                </a:solidFill>
                <a:latin typeface="Times New Roman"/>
              </a:rPr>
              <a:t>参”通“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638680" y="5181480"/>
            <a:ext cx="4191120" cy="12956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0"/>
            <a:ext cx="2362320" cy="7034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隶书"/>
              </a:rPr>
              <a:t>偏义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1295280"/>
            <a:ext cx="80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280bfb"/>
                </a:solidFill>
                <a:latin typeface="Times New Roman"/>
              </a:rPr>
              <a:t>所以谴将守关者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备他盗之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出入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与非常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2133720"/>
            <a:ext cx="38862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出入”是偏义复词，偏“入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28195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孰与君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少长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3657600"/>
            <a:ext cx="38862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少长”是偏义复词，偏“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0" y="0"/>
            <a:ext cx="2666880" cy="82512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510f"/>
                </a:solidFill>
                <a:latin typeface="Times New Roman"/>
                <a:ea typeface="华文行楷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20574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沛公居</a:t>
            </a:r>
            <a:r>
              <a:rPr b="1" i="1" lang="zh-CN" sz="3600" spc="-1" strike="noStrike">
                <a:solidFill>
                  <a:srgbClr val="c13b71"/>
                </a:solidFill>
                <a:latin typeface="Times New Roman"/>
              </a:rPr>
              <a:t>山东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3124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备他盗之出入与</a:t>
            </a:r>
            <a:r>
              <a:rPr b="1" i="1" lang="zh-CN" sz="3600" spc="-1" strike="noStrike">
                <a:solidFill>
                  <a:srgbClr val="c13b71"/>
                </a:solidFill>
                <a:latin typeface="Times New Roman"/>
              </a:rPr>
              <a:t>非常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将军战</a:t>
            </a:r>
            <a:r>
              <a:rPr b="1" i="1" lang="zh-CN" sz="3600" spc="-1" strike="noStrike">
                <a:solidFill>
                  <a:srgbClr val="c13b71"/>
                </a:solidFill>
                <a:latin typeface="Times New Roman"/>
              </a:rPr>
              <a:t>河北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，臣战</a:t>
            </a:r>
            <a:r>
              <a:rPr b="1" i="1" lang="zh-CN" sz="3600" spc="-1" strike="noStrike">
                <a:solidFill>
                  <a:srgbClr val="c13b71"/>
                </a:solidFill>
                <a:latin typeface="Times New Roman"/>
              </a:rPr>
              <a:t>河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685800"/>
            <a:ext cx="281952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崤山以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山东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838080"/>
            <a:ext cx="3276360" cy="1828800"/>
          </a:xfrm>
          <a:prstGeom prst="wedgeEllipseCallout">
            <a:avLst>
              <a:gd name="adj1" fmla="val -58287"/>
              <a:gd name="adj2" fmla="val 93314"/>
            </a:avLst>
          </a:prstGeom>
          <a:solidFill>
            <a:srgbClr val="cc99ff"/>
          </a:solidFill>
          <a:ln w="9360">
            <a:solidFill>
              <a:srgbClr val="f7f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不同寻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意外的变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表程度副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3733920"/>
            <a:ext cx="2286000" cy="1143000"/>
          </a:xfrm>
          <a:prstGeom prst="wedgeRectCallout">
            <a:avLst>
              <a:gd name="adj1" fmla="val 51875"/>
              <a:gd name="adj2" fmla="val 94027"/>
            </a:avLst>
          </a:prstGeom>
          <a:solidFill>
            <a:srgbClr val="f7f6da"/>
          </a:solidFill>
          <a:ln w="9360">
            <a:solidFill>
              <a:srgbClr val="a8d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黄河以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河北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5000" y="3657600"/>
            <a:ext cx="2514600" cy="1219320"/>
          </a:xfrm>
          <a:prstGeom prst="wedgeRoundRectCallout">
            <a:avLst>
              <a:gd name="adj1" fmla="val -45074"/>
              <a:gd name="adj2" fmla="val 85027"/>
              <a:gd name="adj3" fmla="val 16667"/>
            </a:avLst>
          </a:prstGeom>
          <a:solidFill>
            <a:srgbClr val="bec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黄河以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河南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5715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沛公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……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约为</a:t>
            </a:r>
            <a:r>
              <a:rPr b="1" i="1" lang="zh-CN" sz="3600" spc="-1" strike="noStrike">
                <a:solidFill>
                  <a:srgbClr val="c13b71"/>
                </a:solidFill>
                <a:latin typeface="Times New Roman"/>
              </a:rPr>
              <a:t>婚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15000" y="5220000"/>
            <a:ext cx="3429000" cy="1566000"/>
          </a:xfrm>
          <a:prstGeom prst="cloudCallout">
            <a:avLst>
              <a:gd name="adj1" fmla="val -62078"/>
              <a:gd name="adj2" fmla="val 3481"/>
            </a:avLst>
          </a:prstGeom>
          <a:solidFill>
            <a:srgbClr val="c0c0c0"/>
          </a:solidFill>
          <a:ln w="9360">
            <a:solidFill>
              <a:srgbClr val="ffc1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9900"/>
                </a:solidFill>
                <a:latin typeface="Times New Roman"/>
              </a:rPr>
              <a:t>（古）结为儿女亲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9900"/>
                </a:solidFill>
                <a:latin typeface="Times New Roman"/>
              </a:rPr>
              <a:t>（今）男女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21964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838080" y="2057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5.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亡</a:t>
            </a:r>
            <a:r>
              <a:rPr b="1" i="1" lang="zh-CN" sz="3600" spc="-1" strike="noStrike">
                <a:solidFill>
                  <a:srgbClr val="cc0000"/>
                </a:solidFill>
                <a:latin typeface="Times New Roman"/>
              </a:rPr>
              <a:t>去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不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3124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6.</a:t>
            </a:r>
            <a:r>
              <a:rPr b="1" i="1" lang="zh-CN" sz="3600" spc="-1" strike="noStrike">
                <a:solidFill>
                  <a:srgbClr val="cc0000"/>
                </a:solidFill>
                <a:latin typeface="Times New Roman"/>
              </a:rPr>
              <a:t>所以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谴关守将者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50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7.</a:t>
            </a:r>
            <a:r>
              <a:rPr b="1" i="1" lang="zh-CN" sz="3600" spc="-1" strike="noStrike">
                <a:solidFill>
                  <a:srgbClr val="cc0000"/>
                </a:solidFill>
                <a:latin typeface="Times New Roman"/>
              </a:rPr>
              <a:t>今人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有大功而击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457200"/>
            <a:ext cx="2438280" cy="1066680"/>
          </a:xfrm>
          <a:prstGeom prst="wedgeRoundRectCallout">
            <a:avLst>
              <a:gd name="adj1" fmla="val 5143"/>
              <a:gd name="adj2" fmla="val 1110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离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往，前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5680" y="533520"/>
            <a:ext cx="3505320" cy="1904760"/>
          </a:xfrm>
          <a:prstGeom prst="wedgeEllipseCallout">
            <a:avLst>
              <a:gd name="adj1" fmla="val -120787"/>
              <a:gd name="adj2" fmla="val 93583"/>
            </a:avLst>
          </a:prstGeom>
          <a:solidFill>
            <a:srgbClr val="cc99ff"/>
          </a:solidFill>
          <a:ln w="9360">
            <a:solidFill>
              <a:srgbClr val="f7f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因果关系连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3886200"/>
            <a:ext cx="3505320" cy="1066680"/>
          </a:xfrm>
          <a:prstGeom prst="wedgeRectCallout">
            <a:avLst>
              <a:gd name="adj1" fmla="val -63268"/>
              <a:gd name="adj2" fmla="val 57888"/>
            </a:avLst>
          </a:prstGeom>
          <a:solidFill>
            <a:srgbClr val="f7f6da"/>
          </a:solidFill>
          <a:ln w="9360">
            <a:solidFill>
              <a:srgbClr val="a8d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现在别人（沛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现在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4495680"/>
            <a:ext cx="2743200" cy="1219320"/>
          </a:xfrm>
          <a:prstGeom prst="wedgeRoundRectCallout">
            <a:avLst>
              <a:gd name="adj1" fmla="val -160763"/>
              <a:gd name="adj2" fmla="val 71486"/>
              <a:gd name="adj3" fmla="val 16667"/>
            </a:avLst>
          </a:prstGeom>
          <a:solidFill>
            <a:srgbClr val="bec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古）小人的谗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今）详细说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5715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280bfb"/>
                </a:solidFill>
                <a:latin typeface="Times New Roman"/>
              </a:rPr>
              <a:t>8.</a:t>
            </a:r>
            <a:r>
              <a:rPr b="1" i="1" lang="zh-CN" sz="3600" spc="-1" strike="noStrike">
                <a:solidFill>
                  <a:srgbClr val="280bfb"/>
                </a:solidFill>
                <a:latin typeface="Times New Roman"/>
              </a:rPr>
              <a:t>而听</a:t>
            </a:r>
            <a:r>
              <a:rPr b="1" i="1" lang="zh-CN" sz="3600" spc="-1" strike="noStrike">
                <a:solidFill>
                  <a:srgbClr val="cc0000"/>
                </a:solidFill>
                <a:latin typeface="Times New Roman"/>
              </a:rPr>
              <a:t>细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6172200" y="5791320"/>
            <a:ext cx="4191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510f"/>
                </a:solidFill>
                <a:latin typeface="Times New Roman"/>
                <a:ea typeface="华文行楷"/>
              </a:rPr>
              <a:t>一词多义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82080" y="1125360"/>
            <a:ext cx="241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妇女无所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幸   故幸来告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则吾斯役之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42920" y="134136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44840" y="83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6888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5560" y="4653000"/>
            <a:ext cx="283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玉斗一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斗   外连衡而斗诸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各抱地势，钩心斗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斗折蛇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97320" y="21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11160" y="2852640"/>
            <a:ext cx="21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卮酒安足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辞   未辞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大礼不辞小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16000" y="31417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5640" y="4941720"/>
            <a:ext cx="71280" cy="115128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6708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33520" y="1125360"/>
            <a:ext cx="6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宠爱、宠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幸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幸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077320" y="83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33520" y="2852640"/>
            <a:ext cx="6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推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告辞、告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讲究、计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4581360"/>
            <a:ext cx="112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酒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争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接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像北斗星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07732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7724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44280"/>
            <a:ext cx="9144000" cy="6981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5562720"/>
            <a:ext cx="6172200" cy="1295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0"/>
            <a:ext cx="2362320" cy="7034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隶书"/>
              </a:rPr>
              <a:t>读音识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143000"/>
            <a:ext cx="8915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欲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王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wàng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关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飨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xiǎng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士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 为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wèi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击破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崤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xiáo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  好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hào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美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姬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Times New Roman"/>
              </a:rPr>
              <a:t>ī</a:t>
            </a:r>
            <a:r>
              <a:rPr b="1" lang="en-US" sz="2800" spc="-1" strike="noStrike">
                <a:solidFill>
                  <a:srgbClr val="d2265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鲰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ōu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生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说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shuì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孰与君少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长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hǎ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奉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卮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hī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酒为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从百余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骑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戮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lù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力而攻秦          范增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数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shuò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目项王     樊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哙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ku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举所佩玉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玦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jué 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交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戟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jǐ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之卫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瞋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chēn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目视项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目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眦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ì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尽裂             按剑而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跽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jì        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沛公之参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乘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赐之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彘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hì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肩           切而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啖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dàn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之          如恐不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胜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s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人方为刀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俎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ǔ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何辞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wéi        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道</a:t>
            </a:r>
            <a:r>
              <a:rPr b="1" lang="zh-CN" sz="2800" spc="-1" strike="noStrike">
                <a:solidFill>
                  <a:srgbClr val="d2265f"/>
                </a:solidFill>
                <a:latin typeface="Times New Roman"/>
              </a:rPr>
              <a:t>芷</a:t>
            </a:r>
            <a:r>
              <a:rPr b="1" lang="en-US" sz="2800" spc="-1" strike="noStrike">
                <a:solidFill>
                  <a:srgbClr val="280bfb"/>
                </a:solidFill>
                <a:latin typeface="Times New Roman"/>
              </a:rPr>
              <a:t>zhǐ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《鸿门宴》高" descr=""/>
          <p:cNvPicPr/>
          <p:nvPr/>
        </p:nvPicPr>
        <p:blipFill>
          <a:blip r:embed="rId5"/>
          <a:stretch/>
        </p:blipFill>
        <p:spPr>
          <a:xfrm>
            <a:off x="579600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58157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32280" y="347760"/>
            <a:ext cx="30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沛公军霸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军   为击破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于是张良至军门见樊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00360" y="281160"/>
            <a:ext cx="6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驻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军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67440" y="1932120"/>
            <a:ext cx="237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80bfb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谨使臣良奉白璧一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奉   再拜奉大将军足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为宫室之美、妻妾之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00360" y="1863720"/>
            <a:ext cx="60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进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侍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675880" y="373680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吾属今为之虏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属予作文以记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司命之所属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49080" y="4240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262200" y="3736800"/>
            <a:ext cx="60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类、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嘱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掌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050920" y="6206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050920" y="22050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24000" y="40766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0" y="0"/>
            <a:ext cx="3733920" cy="76428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510f"/>
                </a:solidFill>
                <a:latin typeface="Times New Roman"/>
                <a:ea typeface="华文行楷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59840" y="836640"/>
            <a:ext cx="258264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杀人如不能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如  沛公起如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固不如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45520" y="2349360"/>
            <a:ext cx="27162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故遣将守关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君安与项伯有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故 故幸来告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两狼并驱如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扶苏以数谏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30040" y="467208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Times New Roman"/>
                <a:ea typeface="楷体_GB2312"/>
              </a:rPr>
              <a:t>沛公不胜杯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Times New Roman"/>
                <a:ea typeface="楷体_GB2312"/>
              </a:rPr>
              <a:t>是故百战百胜，百善之善者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Times New Roman"/>
                <a:ea typeface="楷体_GB2312"/>
              </a:rPr>
              <a:t>予观夫巴陵胜状，在洞庭一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Times New Roman"/>
                <a:ea typeface="楷体_GB2312"/>
              </a:rPr>
              <a:t>胜友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274320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494172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43000" y="12952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7440" y="537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1280" y="836640"/>
            <a:ext cx="3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如同、好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去、前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及、比得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18560" y="2492280"/>
            <a:ext cx="8208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特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旧交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原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227000" y="465300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经得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胜利、战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优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有才智、高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0" y="0"/>
            <a:ext cx="4427640" cy="76428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510f"/>
                </a:solidFill>
                <a:latin typeface="Times New Roman"/>
                <a:ea typeface="华文行楷"/>
              </a:rPr>
              <a:t>一词多义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6095880" y="5562720"/>
            <a:ext cx="4191120" cy="1295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016000" y="1066680"/>
            <a:ext cx="2314440" cy="34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使子婴为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皆且为所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何辞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Arial"/>
                <a:ea typeface="楷体_GB2312"/>
              </a:rPr>
              <a:t>人方为刀俎，我为鱼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Arial"/>
                <a:ea typeface="楷体_GB2312"/>
              </a:rPr>
              <a:t>窃为大王不取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Arial"/>
                <a:ea typeface="楷体_GB2312"/>
              </a:rPr>
              <a:t>军中无以为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Arial"/>
                <a:ea typeface="楷体_GB2312"/>
              </a:rPr>
              <a:t>且为之奈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为击破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Arial"/>
                <a:ea typeface="楷体_GB2312"/>
              </a:rPr>
              <a:t>谁为大王为此计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8360" y="2362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18520" y="914400"/>
            <a:ext cx="918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担任、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认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作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对付、对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替、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替、给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出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1143000"/>
            <a:ext cx="152640" cy="3124080"/>
          </a:xfrm>
          <a:custGeom>
            <a:avLst/>
            <a:gdLst>
              <a:gd name="textAreaLeft" fmla="*/ 97560 w 152640"/>
              <a:gd name="textAreaRight" fmla="*/ 153000 w 1526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12040" y="4572000"/>
            <a:ext cx="25275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珍宝尽有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项伯乃夜驰之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今者有小人之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Arial"/>
                <a:ea typeface="楷体_GB2312"/>
              </a:rPr>
              <a:t>愿伯具言臣之不敢倍德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836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479736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80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09880" y="4444920"/>
            <a:ext cx="1460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代词，代珍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到、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结构助词，无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5228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0" y="0"/>
            <a:ext cx="3429000" cy="703440"/>
          </a:xfrm>
          <a:prstGeom prst="rect">
            <a:avLst/>
          </a:prstGeom>
          <a:gradFill rotWithShape="0">
            <a:gsLst>
              <a:gs pos="0">
                <a:srgbClr val="65603b"/>
              </a:gs>
              <a:gs pos="50000">
                <a:srgbClr val="ddd281"/>
              </a:gs>
              <a:gs pos="100000">
                <a:srgbClr val="656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词类活用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197000"/>
            <a:ext cx="4114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名词作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项伯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夜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驰之沛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吾得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兄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事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头发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上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常以身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翼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蔽沛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道芷阳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间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间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至军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24360" y="2349360"/>
            <a:ext cx="37051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对待兄长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3657600"/>
            <a:ext cx="34891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鸟翅膀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995640" y="2997360"/>
            <a:ext cx="2841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24360" y="1773360"/>
            <a:ext cx="31305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夜间，连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4267080"/>
            <a:ext cx="42814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小路、抄小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2520" y="5486400"/>
            <a:ext cx="37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4876920"/>
            <a:ext cx="47131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小路、抄小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0" y="0"/>
            <a:ext cx="3581280" cy="703440"/>
          </a:xfrm>
          <a:prstGeom prst="rect">
            <a:avLst/>
          </a:prstGeom>
          <a:gradFill rotWithShape="0">
            <a:gsLst>
              <a:gs pos="0">
                <a:srgbClr val="65603b"/>
              </a:gs>
              <a:gs pos="50000">
                <a:srgbClr val="ddd281"/>
              </a:gs>
              <a:gs pos="100000">
                <a:srgbClr val="656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1560"/>
            <a:ext cx="41911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名词作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沛公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军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霸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籍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吏民</a:t>
            </a:r>
            <a:r>
              <a:rPr b="1" lang="en-US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封府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范增数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目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项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道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芷阳间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刑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人如恐不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亡去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义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，不可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若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前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为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沛公欲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王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关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先破秦入咸阳者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王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1295280"/>
            <a:ext cx="3156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驻扎、驻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00600" y="1828800"/>
            <a:ext cx="3227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记户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3429000"/>
            <a:ext cx="25797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施刑、处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5181480"/>
            <a:ext cx="25797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称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643280" y="5805360"/>
            <a:ext cx="4267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王，名词使动用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2362320"/>
            <a:ext cx="3732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意、使眼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00600" y="2895480"/>
            <a:ext cx="25797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00600" y="4038480"/>
            <a:ext cx="4956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讲义气、合于义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告诉、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59280" y="4581360"/>
            <a:ext cx="3075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走上前、上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-14400" y="-76320"/>
            <a:ext cx="9118800" cy="695664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0" y="0"/>
            <a:ext cx="3505320" cy="703440"/>
          </a:xfrm>
          <a:prstGeom prst="rect">
            <a:avLst/>
          </a:prstGeom>
          <a:gradFill rotWithShape="0">
            <a:gsLst>
              <a:gs pos="0">
                <a:srgbClr val="65603b"/>
              </a:gs>
              <a:gs pos="50000">
                <a:srgbClr val="ddd281"/>
              </a:gs>
              <a:gs pos="100000">
                <a:srgbClr val="656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364000" y="1773360"/>
            <a:ext cx="302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活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280" y="1143000"/>
            <a:ext cx="5791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一般动词的使动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项伯杀人，臣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活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沛公旦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百余骑来见项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拔剑撞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破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2360" y="4508640"/>
            <a:ext cx="3352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796000" y="242100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跟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35640" y="3068640"/>
            <a:ext cx="27320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0" y="0"/>
            <a:ext cx="3505320" cy="703440"/>
          </a:xfrm>
          <a:prstGeom prst="rect">
            <a:avLst/>
          </a:prstGeom>
          <a:gradFill rotWithShape="0">
            <a:gsLst>
              <a:gs pos="0">
                <a:srgbClr val="65603b"/>
              </a:gs>
              <a:gs pos="50000">
                <a:srgbClr val="ddd281"/>
              </a:gs>
              <a:gs pos="100000">
                <a:srgbClr val="656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词类活用（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24280" y="4724280"/>
            <a:ext cx="36640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c34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150c34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150c34"/>
                </a:solidFill>
                <a:latin typeface="Times New Roman"/>
              </a:rPr>
              <a:t>交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11430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五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)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形容词作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君安与项伯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故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此其志不在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大行不顾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细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403848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六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)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形容词作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素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善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留侯张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724280" y="1752480"/>
            <a:ext cx="2943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旧情、老交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24280" y="2362320"/>
            <a:ext cx="258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2971800"/>
            <a:ext cx="30877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枝末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41911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990720" y="838080"/>
            <a:ext cx="7162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亚父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者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范增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楚左尹项伯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者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，项羽季父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夺项王天下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者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必沛公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所以谴将守关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者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，备他盗之出入与非常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沛公之参乘樊哙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今人有大功而击之，不义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天子气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亡秦之续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其志不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沛公左司马曹无伤言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如今人方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刀俎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鱼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客何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0"/>
            <a:ext cx="3886200" cy="76428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特殊句式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324320" y="1825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判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" y="0"/>
            <a:ext cx="8915400" cy="698184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80880" y="1295280"/>
            <a:ext cx="3429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50c34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150c34"/>
                </a:solidFill>
                <a:latin typeface="楷体_GB2312"/>
                <a:ea typeface="楷体_GB2312"/>
              </a:rPr>
              <a:t>宾语前置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籍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何以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至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今日之事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何如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客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何为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沛公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安在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大王来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何操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何辞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50c34"/>
                </a:solidFill>
                <a:latin typeface="楷体_GB2312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150c34"/>
                </a:solidFill>
                <a:latin typeface="楷体_GB2312"/>
                <a:ea typeface="楷体_GB2312"/>
              </a:rPr>
              <a:t>定语后置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玉斗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一双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，白璧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一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3886200" cy="76428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特殊句式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128736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50c34"/>
                </a:solidFill>
                <a:latin typeface="楷体_GB2312"/>
                <a:ea typeface="楷体_GB2312"/>
              </a:rPr>
              <a:t>3.</a:t>
            </a:r>
            <a:r>
              <a:rPr b="1" lang="zh-CN" sz="3000" spc="-1" strike="noStrike">
                <a:solidFill>
                  <a:srgbClr val="150c34"/>
                </a:solidFill>
                <a:latin typeface="楷体_GB2312"/>
                <a:ea typeface="楷体_GB2312"/>
              </a:rPr>
              <a:t>状语后置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具告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以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沛公居山东时</a:t>
            </a:r>
            <a:r>
              <a:rPr b="1" lang="en-US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贪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于财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得复见将军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于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因击沛公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于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长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于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将军战（于）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河北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，臣战（于）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河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02000" y="249120"/>
            <a:ext cx="1414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倒装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22320"/>
            <a:ext cx="9144000" cy="6956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4648320" y="838080"/>
            <a:ext cx="41907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沛公军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霸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沛公居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山东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置之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坐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置之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将军战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河南，臣战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河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卫士仆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沛公欲王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关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-50760"/>
            <a:ext cx="3886200" cy="76428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特殊句式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71680" y="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省略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762120"/>
            <a:ext cx="4800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欲呼张良与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俱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若入前为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en-US" sz="2800" spc="-1" strike="noStrike">
                <a:solidFill>
                  <a:srgbClr val="280bfb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为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击破沛公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急击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勿失（时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则与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斗卮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则与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 一生彘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竖子不足与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具告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以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交戟之士欲止（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280bfb"/>
                </a:solidFill>
                <a:latin typeface="宋体"/>
              </a:rPr>
              <a:t>）不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36000" y="5181480"/>
            <a:ext cx="30668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毋从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）俱死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项王即日因留沛公与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）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80bfb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加彘肩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于其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）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9920" y="47242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杀人如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恐</a:t>
            </a: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）不能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0bfb"/>
                </a:solidFill>
                <a:latin typeface="Times New Roman"/>
              </a:rPr>
              <a:t>刑人如恐不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43000" y="228600"/>
            <a:ext cx="64008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鸿门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121932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981080"/>
            <a:ext cx="655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37339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952880"/>
            <a:ext cx="312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59436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2760" y="8265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刘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75560" y="750240"/>
            <a:ext cx="15634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6" name=""/>
          <p:cNvSpPr/>
          <p:nvPr/>
        </p:nvSpPr>
        <p:spPr>
          <a:xfrm>
            <a:off x="0" y="0"/>
            <a:ext cx="3886200" cy="76428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564000" y="18900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被动句、固定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28600" y="1143000"/>
            <a:ext cx="4487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不者</a:t>
            </a:r>
            <a:r>
              <a:rPr b="1" lang="en-US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若属皆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所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若属今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之虏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2743200"/>
            <a:ext cx="60721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孰与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君少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军中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无以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为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财物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无所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取，妇女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无所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80b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人为刀俎，我为鱼肉，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何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辞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280bfb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91880" y="2852640"/>
            <a:ext cx="13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比，哪一个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812920" y="350028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没有用来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679360" y="409896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没有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892760" y="5157720"/>
            <a:ext cx="22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表反问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5867280" y="5410080"/>
            <a:ext cx="4191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-20520" y="-11160"/>
            <a:ext cx="1315800" cy="6988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438280" y="11430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讲解翻译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2286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20:16Z</dcterms:created>
  <dc:creator>TCL</dc:creator>
  <dc:description/>
  <cp:keywords/>
  <dc:language>en-US</dc:language>
  <cp:lastModifiedBy>User</cp:lastModifiedBy>
  <dcterms:modified xsi:type="dcterms:W3CDTF">2015-04-22T10:57:3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