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4.wmf" ContentType="image/x-wmf"/>
  <Override PartName="/ppt/media/image58.jpeg" ContentType="image/jpeg"/>
  <Override PartName="/ppt/media/image34.png" ContentType="image/png"/>
  <Override PartName="/ppt/media/image12.jpeg" ContentType="image/jpeg"/>
  <Override PartName="/ppt/media/image6.jpeg" ContentType="image/jpeg"/>
  <Override PartName="/ppt/media/image5.png" ContentType="image/png"/>
  <Override PartName="/ppt/media/image35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21.png" ContentType="image/png"/>
  <Override PartName="/ppt/media/image41.jpeg" ContentType="image/jpeg"/>
  <Override PartName="/ppt/media/image14.jpeg" ContentType="image/jpeg"/>
  <Override PartName="/ppt/media/image60.jpeg" ContentType="image/jpeg"/>
  <Override PartName="/ppt/media/image61.gif" ContentType="image/gif"/>
  <Override PartName="/ppt/media/image15.jpeg" ContentType="image/jpeg"/>
  <Override PartName="/ppt/media/image17.jpeg" ContentType="image/jpeg"/>
  <Override PartName="/ppt/media/image62.jpeg" ContentType="image/jpeg"/>
  <Override PartName="/ppt/media/image50.png" ContentType="image/png"/>
  <Override PartName="/ppt/media/image16.jpeg" ContentType="image/jpeg"/>
  <Override PartName="/ppt/media/image40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19.jpeg" ContentType="image/jpeg"/>
  <Override PartName="/ppt/media/image63.jpeg" ContentType="image/jpeg"/>
  <Override PartName="/ppt/media/image29.png" ContentType="image/png"/>
  <Override PartName="/ppt/media/image27.png" ContentType="image/png"/>
  <Override PartName="/ppt/media/image22.png" ContentType="image/png"/>
  <Override PartName="/ppt/media/image18.wmf" ContentType="image/x-wmf"/>
  <Override PartName="/ppt/media/image20.png" ContentType="image/png"/>
  <Override PartName="/ppt/media/image7.jpeg" ContentType="image/jpeg"/>
  <Override PartName="/ppt/media/image43.jpeg" ContentType="image/jpe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55.jpeg" ContentType="image/jpeg"/>
  <Override PartName="/ppt/media/image47.wmf" ContentType="image/x-wmf"/>
  <Override PartName="/ppt/media/image13.jpeg" ContentType="image/jpe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44.gif" ContentType="image/gif"/>
  <Override PartName="/ppt/media/image39.png" ContentType="image/png"/>
  <Override PartName="/ppt/media/image42.png" ContentType="image/png"/>
  <Override PartName="/ppt/media/image48.png" ContentType="image/png"/>
  <Override PartName="/ppt/media/image45.jpeg" ContentType="image/jpeg"/>
  <Override PartName="/ppt/media/image46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2.png" ContentType="image/png"/>
  <Override PartName="/ppt/media/image10.wmf" ContentType="image/x-wmf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DB0-FE41-4EC5-83E8-AC57229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F81-269F-4DA9-8050-52EDA5AE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7C8-3647-4DBF-9474-DED48315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972-5886-4CA7-AE28-FC2FDC9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3D3-28A5-4A45-BB0C-22D18A28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772-42C0-4920-B6DF-65B2361E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E86-B94D-4100-BAA6-B1242EA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B68-66F0-44F2-981E-E63AE02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DFA-E876-4192-AB5B-7041B25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2E8-F718-4B63-9C07-D9D4F07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5FD-A0E1-4734-8EE5-1E7C196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42-C91D-4699-9C8E-65EB906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FBB-404D-422E-A03C-61666EF6D8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" Target="slide11.xm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4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21476;&#35799;&#12289;&#35838;&#25991;&#26391;&#35835;/&#30011;&#39118;.wav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57880" y="189000"/>
            <a:ext cx="302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充气雨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62080"/>
            <a:ext cx="81723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84280"/>
            <a:ext cx="8783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膝（膝盖）   旋（旋转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漆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（油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漆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）   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族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（民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族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）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着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（看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着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）   捧（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</a:rPr>
              <a:t>捧起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差（差不多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</a:rPr>
              <a:t>)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棒（棒子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4000" y="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读一读，再组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48428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0828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393372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5157720"/>
            <a:ext cx="2735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141300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270828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08720" y="393372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522936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1040" y="836640"/>
            <a:ext cx="534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ī                       xu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1400" y="2133720"/>
            <a:ext cx="473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ī                       z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9120" y="3429000"/>
            <a:ext cx="57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zhē                     pěng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360" y="4653000"/>
            <a:ext cx="587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à                        bà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1942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2438280"/>
            <a:ext cx="8382240" cy="825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课文中写了一件什么事？请你给大家说一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8610480" cy="1003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892840"/>
            <a:ext cx="838440" cy="59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514600" y="5867280"/>
            <a:ext cx="838080" cy="60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638680" y="58672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238880" y="5867280"/>
            <a:ext cx="8384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N0143"/>
          <p:cNvPicPr/>
          <p:nvPr/>
        </p:nvPicPr>
        <p:blipFill>
          <a:blip r:embed="rId1"/>
          <a:stretch/>
        </p:blipFill>
        <p:spPr>
          <a:xfrm>
            <a:off x="0" y="0"/>
            <a:ext cx="2193840" cy="2209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979640" y="0"/>
            <a:ext cx="7164360" cy="825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课文中写了一件什么事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BDRTC070"/>
          <p:cNvPicPr/>
          <p:nvPr/>
        </p:nvPicPr>
        <p:blipFill>
          <a:blip r:embed="rId2"/>
          <a:stretch/>
        </p:blipFill>
        <p:spPr>
          <a:xfrm>
            <a:off x="228600" y="4800600"/>
            <a:ext cx="8610480" cy="1003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076856352"/>
          <p:cNvPicPr/>
          <p:nvPr/>
        </p:nvPicPr>
        <p:blipFill>
          <a:blip r:embed="rId3"/>
          <a:stretch/>
        </p:blipFill>
        <p:spPr>
          <a:xfrm>
            <a:off x="838080" y="5892840"/>
            <a:ext cx="838440" cy="59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076856719"/>
          <p:cNvPicPr/>
          <p:nvPr/>
        </p:nvPicPr>
        <p:blipFill>
          <a:blip r:embed="rId4"/>
          <a:stretch/>
        </p:blipFill>
        <p:spPr>
          <a:xfrm>
            <a:off x="2514600" y="5867280"/>
            <a:ext cx="838080" cy="60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1076857844"/>
          <p:cNvPicPr/>
          <p:nvPr/>
        </p:nvPicPr>
        <p:blipFill>
          <a:blip r:embed="rId5"/>
          <a:stretch/>
        </p:blipFill>
        <p:spPr>
          <a:xfrm>
            <a:off x="5638680" y="58672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1077208244"/>
          <p:cNvPicPr/>
          <p:nvPr/>
        </p:nvPicPr>
        <p:blipFill>
          <a:blip r:embed="rId6"/>
          <a:stretch/>
        </p:blipFill>
        <p:spPr>
          <a:xfrm>
            <a:off x="7238880" y="5867280"/>
            <a:ext cx="838440" cy="560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971640" y="1844640"/>
            <a:ext cx="7885080" cy="2287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穿着雨衣的（      ）在雨中淋湿了裤腿。他为此动了脑筋，受到（                     ）启发，发明了（          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988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小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9320" y="32130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女同学的裙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7600" y="4005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充气雨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03640" y="1844640"/>
            <a:ext cx="5580000" cy="82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默读课文，想一想，小林为什么要发明充气雨衣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BDRTC070"/>
          <p:cNvPicPr/>
          <p:nvPr/>
        </p:nvPicPr>
        <p:blipFill>
          <a:blip r:embed="rId1"/>
          <a:stretch/>
        </p:blipFill>
        <p:spPr>
          <a:xfrm>
            <a:off x="228600" y="5673600"/>
            <a:ext cx="8610480" cy="8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116000" y="486900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在放学时遇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时间？地点？人物？天气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041800" cy="49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7200720" cy="3384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41497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晚上，小林躺在床上想：得把雨衣改一改，不能再让雨水流到裤腿上了。怎样才能解决这个难题呢？小林一直在想啊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6172200"/>
            <a:ext cx="585720" cy="357120"/>
          </a:xfrm>
          <a:custGeom>
            <a:avLst/>
            <a:gdLst>
              <a:gd name="textAreaLeft" fmla="*/ 23040 w 585720"/>
              <a:gd name="textAreaRight" fmla="*/ 562680 w 5857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5413" h="21600">
                <a:moveTo>
                  <a:pt x="0" y="0"/>
                </a:moveTo>
                <a:lnTo>
                  <a:pt x="35413" y="0"/>
                </a:lnTo>
                <a:lnTo>
                  <a:pt x="35413" y="21600"/>
                </a:lnTo>
                <a:lnTo>
                  <a:pt x="0" y="21600"/>
                </a:lnTo>
                <a:close/>
              </a:path>
              <a:path fill="lightenLess" w="35413" h="21600">
                <a:moveTo>
                  <a:pt x="0" y="0"/>
                </a:moveTo>
                <a:lnTo>
                  <a:pt x="35413" y="0"/>
                </a:lnTo>
                <a:lnTo>
                  <a:pt x="34013" y="1400"/>
                </a:lnTo>
                <a:lnTo>
                  <a:pt x="1400" y="1400"/>
                </a:lnTo>
                <a:close/>
              </a:path>
              <a:path fill="darken" w="35413" h="21600">
                <a:moveTo>
                  <a:pt x="35413" y="0"/>
                </a:moveTo>
                <a:lnTo>
                  <a:pt x="35413" y="21600"/>
                </a:lnTo>
                <a:lnTo>
                  <a:pt x="34013" y="20200"/>
                </a:lnTo>
                <a:lnTo>
                  <a:pt x="34013" y="1400"/>
                </a:lnTo>
                <a:close/>
              </a:path>
              <a:path fill="darkenLess" w="35413" h="21600">
                <a:moveTo>
                  <a:pt x="35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3" y="20200"/>
                </a:lnTo>
                <a:close/>
              </a:path>
              <a:path fill="lighten" w="35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13" h="21600">
                <a:moveTo>
                  <a:pt x="10700" y="10800"/>
                </a:moveTo>
                <a:lnTo>
                  <a:pt x="24713" y="3794"/>
                </a:lnTo>
                <a:lnTo>
                  <a:pt x="247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5877000"/>
            <a:ext cx="172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5877000"/>
            <a:ext cx="936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71280" y="278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2997360"/>
            <a:ext cx="1295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8640" y="217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下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7720" y="3041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裤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7" descr="BDRTC054"/>
          <p:cNvPicPr/>
          <p:nvPr/>
        </p:nvPicPr>
        <p:blipFill>
          <a:blip r:embed="rId1"/>
          <a:stretch/>
        </p:blipFill>
        <p:spPr>
          <a:xfrm>
            <a:off x="228600" y="5486400"/>
            <a:ext cx="8664480" cy="1055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029" descr=""/>
          <p:cNvPicPr/>
          <p:nvPr/>
        </p:nvPicPr>
        <p:blipFill>
          <a:blip r:embed="rId2"/>
          <a:stretch/>
        </p:blipFill>
        <p:spPr>
          <a:xfrm>
            <a:off x="6248520" y="234936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31"/>
          <p:cNvSpPr/>
          <p:nvPr/>
        </p:nvSpPr>
        <p:spPr>
          <a:xfrm>
            <a:off x="-181080" y="1052640"/>
            <a:ext cx="6507360" cy="3097080"/>
          </a:xfrm>
          <a:prstGeom prst="cloudCallout">
            <a:avLst>
              <a:gd name="adj1" fmla="val 75884"/>
              <a:gd name="adj2" fmla="val 3144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32"/>
          <p:cNvSpPr/>
          <p:nvPr/>
        </p:nvSpPr>
        <p:spPr>
          <a:xfrm>
            <a:off x="250920" y="141300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怎样才能解决这个难题呢？小林一直在想啊想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3480" y="450864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看这一自然段共有几句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每句话有什么作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5298" t="15539" r="13086" b="15539"/>
          <a:stretch/>
        </p:blipFill>
        <p:spPr>
          <a:xfrm>
            <a:off x="1403280" y="0"/>
            <a:ext cx="6264360" cy="374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3716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六一”儿童节联欢会上，女同学表演舞蹈。随着优美的乐曲，小演员们旋转起来，五颜六色的裙子徐徐张开，就像一把把花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43815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林的眼中，“花伞”渐渐模糊，变成了下摆张开的一件件雨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6782" t="28341" r="18997" b="32293"/>
          <a:stretch/>
        </p:blipFill>
        <p:spPr>
          <a:xfrm>
            <a:off x="755640" y="71280"/>
            <a:ext cx="75614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DRTC054"/>
          <p:cNvPicPr/>
          <p:nvPr/>
        </p:nvPicPr>
        <p:blipFill>
          <a:blip r:embed="rId1"/>
          <a:stretch/>
        </p:blipFill>
        <p:spPr>
          <a:xfrm>
            <a:off x="228600" y="5486400"/>
            <a:ext cx="8664480" cy="10555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3" descr=""/>
          <p:cNvPicPr/>
          <p:nvPr/>
        </p:nvPicPr>
        <p:blipFill>
          <a:blip r:embed="rId2"/>
          <a:stretch/>
        </p:blipFill>
        <p:spPr>
          <a:xfrm>
            <a:off x="6248520" y="191628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24000" y="228600"/>
            <a:ext cx="6153120" cy="3921120"/>
          </a:xfrm>
          <a:prstGeom prst="cloudCallout">
            <a:avLst>
              <a:gd name="adj1" fmla="val 42106"/>
              <a:gd name="adj2" fmla="val 1979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rcRect l="0" t="0" r="-35" b="-49"/>
          <a:stretch/>
        </p:blipFill>
        <p:spPr>
          <a:xfrm>
            <a:off x="1763640" y="692280"/>
            <a:ext cx="3816360" cy="275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0920" y="44528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女孩子的裙子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下摆张开的雨衣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4"/>
          <a:srcRect l="0" t="0" r="0" b="112"/>
          <a:stretch/>
        </p:blipFill>
        <p:spPr>
          <a:xfrm>
            <a:off x="6264360" y="5052960"/>
            <a:ext cx="2879640" cy="180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90600" y="4049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5486400"/>
            <a:ext cx="8664480" cy="1055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1726920" cy="247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38320" y="40464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颜六色的裙子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徐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开，就像一把把花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小林的眼中，“花伞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渐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模糊，变成了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张开的一件件雨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16782" t="28341" r="18997" b="32293"/>
          <a:stretch/>
        </p:blipFill>
        <p:spPr>
          <a:xfrm>
            <a:off x="250920" y="3429000"/>
            <a:ext cx="684216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04800" y="21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徐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0920" y="2924280"/>
            <a:ext cx="295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2781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10872" t="11439" r="10872" b="11178"/>
          <a:stretch/>
        </p:blipFill>
        <p:spPr>
          <a:xfrm>
            <a:off x="395280" y="0"/>
            <a:ext cx="7848720" cy="582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5092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林想到怎么做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27" descr="BDRTC054"/>
          <p:cNvPicPr/>
          <p:nvPr/>
        </p:nvPicPr>
        <p:blipFill>
          <a:blip r:embed="rId1"/>
          <a:stretch/>
        </p:blipFill>
        <p:spPr>
          <a:xfrm>
            <a:off x="228600" y="5486400"/>
            <a:ext cx="8664480" cy="105552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1029" descr=""/>
          <p:cNvPicPr/>
          <p:nvPr/>
        </p:nvPicPr>
        <p:blipFill>
          <a:blip r:embed="rId2"/>
          <a:stretch/>
        </p:blipFill>
        <p:spPr>
          <a:xfrm>
            <a:off x="6248520" y="119700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031"/>
          <p:cNvSpPr/>
          <p:nvPr/>
        </p:nvSpPr>
        <p:spPr>
          <a:xfrm>
            <a:off x="0" y="0"/>
            <a:ext cx="5715000" cy="2913120"/>
          </a:xfrm>
          <a:prstGeom prst="cloudCallout">
            <a:avLst>
              <a:gd name="adj1" fmla="val 79472"/>
              <a:gd name="adj2" fmla="val 3659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2"/>
          <p:cNvSpPr/>
          <p:nvPr/>
        </p:nvSpPr>
        <p:spPr>
          <a:xfrm>
            <a:off x="900000" y="69228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新式的雨衣是怎样做成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645000"/>
            <a:ext cx="8893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当天晚上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粗铁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弯成一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圆圈，把它缝在雨衣的下沿，新式雨衣就做成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1038" t="12586" r="11222" b="11006"/>
          <a:stretch/>
        </p:blipFill>
        <p:spPr>
          <a:xfrm>
            <a:off x="250920" y="333360"/>
            <a:ext cx="828036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4941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他还没来得及高兴，问题又来了：这样的雨衣怎么叠起来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0080" y="3500280"/>
            <a:ext cx="399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当天晚上，他用粗铁丝弯了一个大圆圈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把它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在雨衣的下沿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新式雨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就做成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1038" t="12586" r="11222" b="11006"/>
          <a:stretch/>
        </p:blipFill>
        <p:spPr>
          <a:xfrm>
            <a:off x="468360" y="1700280"/>
            <a:ext cx="8280360" cy="4753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01720" y="40464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又遇到了什么问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580536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333360"/>
            <a:ext cx="8642160" cy="2531880"/>
          </a:xfrm>
          <a:prstGeom prst="rect">
            <a:avLst/>
          </a:prstGeom>
          <a:solidFill>
            <a:srgbClr val="cc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放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假了，小林和同学去游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换好游泳裤，他拿出塑料救生圈开始吹气，叠起来的救生圈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渐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变成了圆环形的塑料气</a:t>
            </a: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小林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眼睛一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心想：用能够充气的塑料环代替铁丝圈，不就能叠起来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11320" y="4809960"/>
            <a:ext cx="983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渐渐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rcRect l="0" t="0" r="19" b="88"/>
          <a:stretch/>
        </p:blipFill>
        <p:spPr>
          <a:xfrm>
            <a:off x="611280" y="260280"/>
            <a:ext cx="7561080" cy="5300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311920" y="58644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去游泳的过程中，小林看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rcRect l="0" t="0" r="-38" b="-51"/>
          <a:stretch/>
        </p:blipFill>
        <p:spPr>
          <a:xfrm>
            <a:off x="0" y="0"/>
            <a:ext cx="5113440" cy="5661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0" y="580536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又想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5120" y="52236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能够充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塑料环代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铁丝圈，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就可以叠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来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rcRect l="0" t="0" r="0" b="28"/>
          <a:stretch/>
        </p:blipFill>
        <p:spPr>
          <a:xfrm>
            <a:off x="0" y="1413000"/>
            <a:ext cx="5435640" cy="544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342800" y="2602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又遇到了什么问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84600" y="1628640"/>
            <a:ext cx="23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怎样能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铁丝圈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成能够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气的塑料环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rcRect l="0" t="0" r="-38" b="87"/>
          <a:stretch/>
        </p:blipFill>
        <p:spPr>
          <a:xfrm>
            <a:off x="0" y="0"/>
            <a:ext cx="8820000" cy="4869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926000" y="4941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跑着去干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6760" y="60339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制作能够充气的塑料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000" y="213372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16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充气雨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4360" y="580536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33360"/>
            <a:ext cx="8642160" cy="2361600"/>
          </a:xfrm>
          <a:prstGeom prst="rect">
            <a:avLst/>
          </a:prstGeom>
          <a:solidFill>
            <a:srgbClr val="cc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回到家里，小林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剪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救生圈的气门儿，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买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塑料膜，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又请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塑料加工店的叔叔帮忙压成一个气囊。气囊吹起来，和充了气的自行车内胎差不多。爸爸帮着小林把气囊粘在雨衣的下摆里面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充气雨衣做好了。充起气来往身上一穿，嘿！别提多棒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521080" cy="350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rcRect l="0" t="0" r="0" b="62"/>
          <a:stretch/>
        </p:blipFill>
        <p:spPr>
          <a:xfrm>
            <a:off x="2843280" y="0"/>
            <a:ext cx="24843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5292720" y="0"/>
            <a:ext cx="1800360" cy="33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4"/>
          <a:srcRect l="0" t="0" r="-50" b="0"/>
          <a:stretch/>
        </p:blipFill>
        <p:spPr>
          <a:xfrm>
            <a:off x="7488360" y="0"/>
            <a:ext cx="165564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85040" y="5157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充气雨衣制作过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3860640"/>
            <a:ext cx="865080" cy="865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789360"/>
            <a:ext cx="86508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3716280"/>
            <a:ext cx="86508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3645000"/>
            <a:ext cx="86508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933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9800" y="378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9440" y="378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364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57280" y="260280"/>
            <a:ext cx="2935080" cy="2808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06920" y="333360"/>
            <a:ext cx="2952720" cy="2779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18000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078600" y="3500280"/>
            <a:ext cx="2022480" cy="31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36840" y="23040"/>
            <a:ext cx="9115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充气雨衣制作过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564000" cy="5761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23920" y="549360"/>
            <a:ext cx="3986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127640" cy="2376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" y="320040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充气雨衣做好了。充起气来往身上一穿，嘿！别提多棒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437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10872" t="11611" r="10872" b="15539"/>
          <a:stretch/>
        </p:blipFill>
        <p:spPr>
          <a:xfrm>
            <a:off x="826920" y="0"/>
            <a:ext cx="7058160" cy="4927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36560" y="5084640"/>
            <a:ext cx="764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儿童用品展览会上，小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发明的雨衣受到大家的称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10872" t="11611" r="10872" b="15539"/>
          <a:stretch/>
        </p:blipFill>
        <p:spPr>
          <a:xfrm>
            <a:off x="826920" y="333360"/>
            <a:ext cx="7632720" cy="532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78920" y="58053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林发明的充气雨衣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受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家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560" y="1413000"/>
            <a:ext cx="8541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林发明的充气雨衣受到大家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852640"/>
            <a:ext cx="8541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受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360" y="4149720"/>
            <a:ext cx="854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受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342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42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7242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4653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2440" y="407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明上课不认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8280" y="39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老师的批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520" y="4941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受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5661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566100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充气雨衣的发明过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24000" y="620640"/>
            <a:ext cx="748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雨水顺着雨衣的下摆流到裤腿上，被风一吹，冷极了的时候，他想：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_GB2312"/>
              </a:rPr>
              <a:t>得把雨衣改一改，不能让雨水流到裤腿上了。怎样才能解决这个难题呢？小林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</a:rPr>
              <a:t>一直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_GB2312"/>
              </a:rPr>
              <a:t>在想啊想 </a:t>
            </a:r>
            <a:r>
              <a:rPr b="1" lang="en-US" sz="5400" spc="-1" strike="noStrike" u="sng">
                <a:solidFill>
                  <a:srgbClr val="3333cc"/>
                </a:solidFill>
                <a:uFillTx/>
                <a:latin typeface="楷体_GB2312"/>
              </a:rPr>
              <a:t>……</a:t>
            </a:r>
            <a:r>
              <a:rPr b="1" lang="en-US" sz="6600" spc="-1" strike="noStrike" u="sng">
                <a:solidFill>
                  <a:srgbClr val="3333cc"/>
                </a:solidFill>
                <a:uFillTx/>
                <a:latin typeface="楷体_GB2312"/>
              </a:rPr>
              <a:t>   </a:t>
            </a:r>
            <a:r>
              <a:rPr b="1" lang="en-US" sz="6600" spc="-1" strike="noStrike">
                <a:solidFill>
                  <a:srgbClr val="3333cc"/>
                </a:solidFill>
                <a:latin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411012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9" descr="互动天地"/>
          <p:cNvPicPr/>
          <p:nvPr/>
        </p:nvPicPr>
        <p:blipFill>
          <a:blip r:embed="rId1"/>
          <a:stretch/>
        </p:blipFill>
        <p:spPr>
          <a:xfrm>
            <a:off x="179280" y="0"/>
            <a:ext cx="3616560" cy="3230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0"/>
          <p:cNvSpPr/>
          <p:nvPr/>
        </p:nvSpPr>
        <p:spPr>
          <a:xfrm>
            <a:off x="0" y="2060640"/>
            <a:ext cx="9144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读课文，标出自然段，圈出这些生字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课文中的小林像我们以前学过的谁？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1413000"/>
            <a:ext cx="874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当雨水顺着雨衣的下摆流到裤腿上，被风一吹，冷极了的时候，他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213000"/>
            <a:ext cx="835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当新式雨衣做成了，他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          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543560"/>
            <a:ext cx="84596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当他看到叠起来的救生圈渐渐变成了圆形的塑料气囊时，他又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48000" y="18900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汉仪秀英体简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26920" y="1197000"/>
            <a:ext cx="712800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新式雨衣做成了，他想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</a:rPr>
              <a:t>：这样的雨衣怎么叠起来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？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30686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他看到叠起来的救生圈渐渐变成了圆形的塑料气囊时，他又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</a:rPr>
              <a:t>用能够充气的塑料环代替铁丝圈，不就能叠起来了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？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楷体_GB2312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51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4360" y="580536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51264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林的雨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林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一”儿童节联欢会上，小演员们旋转起来，五颜六色的裙子徐徐张开，当天晚上，小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暑假了，小林和同学去游泳。发现叠起来的救生圈吹气后渐渐变成了圆环型的塑料气囊，小林心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跑回家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囊吹起来，和充了气的自行车内胎差不多，粘在雨衣下摆，充气雨衣做好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1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29242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一共想了几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7970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-38" b="-86"/>
          <a:stretch/>
        </p:blipFill>
        <p:spPr>
          <a:xfrm>
            <a:off x="539640" y="26208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4000" y="3573360"/>
            <a:ext cx="69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小林爱发现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雨水会顺着雨衣的下摆流到裤腿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1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9280" y="285264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晚上，小林躺在床上想：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得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把雨衣改一改，不能再让雨水流到裤腿上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6560" y="5661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cc"/>
                </a:solidFill>
                <a:latin typeface="Times New Roman"/>
              </a:rPr>
              <a:t>第一次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03200" y="11844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小林爱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1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82600" y="1944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怎样才能解决这个难题呢？小林一直在想啊想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814320" cy="587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405600" y="433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cc"/>
                </a:solidFill>
                <a:latin typeface="Times New Roman"/>
              </a:rPr>
              <a:t>第二次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1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5238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他还没来得及高兴，问题又来了：这样的雨衣怎么叠起来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96080" y="5791320"/>
            <a:ext cx="941400" cy="671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02280" y="414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cc"/>
                </a:solidFill>
                <a:latin typeface="Times New Roman"/>
              </a:rPr>
              <a:t>第三次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1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15238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林眼睛一亮：心想：用能够充气的塑料环代替铁丝圈，不就能叠起来了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696080" y="5791320"/>
            <a:ext cx="941400" cy="671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356520" y="414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cc"/>
                </a:solidFill>
                <a:latin typeface="Times New Roman"/>
              </a:rPr>
              <a:t>第四次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63 -0.00764 L -0.57639 -0.00764 E">
                                      <p:cBhvr>
                                        <p:cTn id="47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168720" cy="4032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64360" y="3068640"/>
            <a:ext cx="151128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284720" y="1197000"/>
            <a:ext cx="3743280" cy="1800360"/>
          </a:xfrm>
          <a:prstGeom prst="cloudCallout">
            <a:avLst>
              <a:gd name="adj1" fmla="val 35027"/>
              <a:gd name="adj2" fmla="val 644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有比小林更好的办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5964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chō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xī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li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xu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y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  <a:ea typeface="黑体"/>
              </a:rPr>
              <a:t>ǒ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jiǎ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mó 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t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ch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</a:rPr>
              <a:t>à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zhā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hēi 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b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</a:rPr>
              <a:t>à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268280"/>
            <a:ext cx="6324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充　 膝　 联　 旋　 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泳　 囊　 剪　 膜　 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差　 粘　 嘿　 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552276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0"/>
            <a:ext cx="92170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音字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iǎ(        )                fēng(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                            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ià(          )               fèng 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 è(          )                ch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乐                            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uè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     ）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à   (  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01760"/>
            <a:ext cx="92170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ji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如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fé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缝衣服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                        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ji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日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fèng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门缝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l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快乐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ch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差错）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乐                        差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chāi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出差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yuè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音乐）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ch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差不多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067280" y="0"/>
            <a:ext cx="36360" cy="685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0"/>
            <a:ext cx="92170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音字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iǎ(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如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féng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缝衣服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                          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ià(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假日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 fèng 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门缝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 è  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快乐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          ch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差错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乐                          差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āi 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出差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uè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音乐）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à 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差不多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516720" y="0"/>
            <a:ext cx="2016000" cy="620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50920" y="6075360"/>
            <a:ext cx="8534160" cy="738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-1713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发明        发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小林（       ）的充气雨衣受到大家的称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伊琳娜（       ）将金鱼放到装满水的杯子里，水会没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徐徐         渐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“花伞”（        ）模糊，变成了下摆张开的雨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五颜六色的裙子（           ）张开，就像一把把雨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16720" y="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选词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027" descr="BDRTC054"/>
          <p:cNvPicPr/>
          <p:nvPr/>
        </p:nvPicPr>
        <p:blipFill>
          <a:blip r:embed="rId1"/>
          <a:stretch/>
        </p:blipFill>
        <p:spPr>
          <a:xfrm>
            <a:off x="228600" y="5486400"/>
            <a:ext cx="8664480" cy="105552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029" descr=""/>
          <p:cNvPicPr/>
          <p:nvPr/>
        </p:nvPicPr>
        <p:blipFill>
          <a:blip r:embed="rId2"/>
          <a:stretch/>
        </p:blipFill>
        <p:spPr>
          <a:xfrm>
            <a:off x="6248520" y="119700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31"/>
          <p:cNvSpPr/>
          <p:nvPr/>
        </p:nvSpPr>
        <p:spPr>
          <a:xfrm>
            <a:off x="0" y="0"/>
            <a:ext cx="5715000" cy="2913120"/>
          </a:xfrm>
          <a:prstGeom prst="cloudCallout">
            <a:avLst>
              <a:gd name="adj1" fmla="val 79472"/>
              <a:gd name="adj2" fmla="val 3659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32"/>
          <p:cNvSpPr/>
          <p:nvPr/>
        </p:nvSpPr>
        <p:spPr>
          <a:xfrm>
            <a:off x="755640" y="333360"/>
            <a:ext cx="47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读了课文，你觉得小林是个怎样的孩子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429000"/>
            <a:ext cx="88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聪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爱动脑筋，爱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善于观察留心生活的孩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843280" cy="4392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308720" y="3716280"/>
            <a:ext cx="1654200" cy="2881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40360" y="2565360"/>
            <a:ext cx="3743280" cy="1800360"/>
          </a:xfrm>
          <a:prstGeom prst="cloudCallout">
            <a:avLst>
              <a:gd name="adj1" fmla="val 35027"/>
              <a:gd name="adj2" fmla="val 644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了这篇课文你有什么收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476280"/>
            <a:ext cx="3959280" cy="1800360"/>
          </a:xfrm>
          <a:prstGeom prst="cloudCallout">
            <a:avLst>
              <a:gd name="adj1" fmla="val -42259"/>
              <a:gd name="adj2" fmla="val 8871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000" y="620640"/>
            <a:ext cx="21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到难题肯动脑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善于观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办法解决问题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403280" y="0"/>
            <a:ext cx="6324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我的奇思妙想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23623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1916280"/>
            <a:ext cx="684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在家里看电视意见总是不一致：爸爸想看新闻，妈妈喜欢看电视剧， 而我则爱看动画片。 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全家人都忘带钥匙，你们只能站在门外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洗碗时，你见洗洁精没有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一想日常生活用品有哪些需要改变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常丢学习用品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动铅笔写不出字的形态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老师用的粉笔伤手怎么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5977080" cy="6191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24720" y="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专给电脑吸尘的微型吸尘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84640" y="2206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不会侧翻的自行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997440" cy="5040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152320" y="4366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不会爆胎的胶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212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24120" y="14436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我和这些词语交朋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16280"/>
            <a:ext cx="9290160" cy="4672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充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气   气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气压   内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游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泳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欢会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差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不多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旋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转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模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剪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刀   轮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粘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住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假   用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膝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盖   塑料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车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胎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真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979640" y="5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可以端茶送水的机器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427640" cy="61930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83280" y="404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功能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333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可以在水上行走的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ver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95280" y="1096920"/>
            <a:ext cx="8280360" cy="5761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79640" y="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智能停车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308720" y="5877000"/>
            <a:ext cx="1441440" cy="57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5337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71640" y="33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照明拖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672000" cy="4762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651640" y="40464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女孩发明盲人手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03280" y="0"/>
            <a:ext cx="6324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我的奇思妙想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3623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1916280"/>
            <a:ext cx="684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在家里看电视意见总是不一致：爸爸想看新闻，妈妈喜欢看电视剧， 而我则爱看动画片。 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全家人都忘带钥匙，你们只能站在门外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洗碗时，你见洗洁精没有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620640"/>
            <a:ext cx="7848720" cy="5241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演　    舞蹈　   优美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旋转　    称赞　   联欢会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慢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     展览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渐渐模糊　徐徐张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颜六色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724280"/>
            <a:ext cx="100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24280"/>
            <a:ext cx="100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333360"/>
            <a:ext cx="7129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膝（膝盖）（膝下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联（联想）（ 联欢会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旋（飞旋）（ 旋转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暑（暑假）（中暑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泳（游泳）（泳衣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囊（气囊）（鼓囊囊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剪（剪刀）（剪下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333360"/>
            <a:ext cx="4105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341360"/>
            <a:ext cx="4753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205000"/>
            <a:ext cx="4105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141720"/>
            <a:ext cx="4105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005360"/>
            <a:ext cx="410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941720"/>
            <a:ext cx="410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877000"/>
            <a:ext cx="4105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0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膜（薄膜）（塑料膜）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胎（轮胎）（ 胎儿）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差（差不多）（差生）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粘（粘贴）（  粘住）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嘿（嘿哟）（嘿嘿）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棒（真棒）（  棒子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333360"/>
            <a:ext cx="561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413000"/>
            <a:ext cx="5329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349360"/>
            <a:ext cx="554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3357720"/>
            <a:ext cx="532908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292640"/>
            <a:ext cx="5329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5300640"/>
            <a:ext cx="5329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0:18:30Z</dcterms:created>
  <dc:creator/>
  <dc:description/>
  <cp:keywords/>
  <dc:language>en-US</dc:language>
  <cp:lastModifiedBy>微软用户</cp:lastModifiedBy>
  <dcterms:modified xsi:type="dcterms:W3CDTF">2015-05-09T06:30:53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