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570-B98B-4DC1-84AD-086D8B54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B40-EAD4-4614-8A82-AC6DFB3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E6A-CE17-4DA6-A676-FE81B07D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580-1FC8-4006-A4A2-91A8BB71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D93-CB8C-4B30-9E56-C8534F13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623-B093-4C23-99B1-CD720DF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C7F-0203-4C95-BAE1-F28EAAB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FB8-6AF7-4CDE-B573-66ADF6A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8A8-12A9-4F6F-8F12-EB6C9368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DE3-E664-4788-9F7C-285E3D2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4AC-BF11-43E1-8A29-B040F51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B60-7CA4-4341-9296-5B8064E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B18-6B6A-47B4-9EDC-99266B2F1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2637000"/>
            <a:ext cx="33112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将相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1125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沪教版四年级语文下册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1341360"/>
            <a:ext cx="74880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觉得蔺相如和廉颇各是怎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？你喜欢哪个小故事就学哪个故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边读边思考，抓住重点内容在旁边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批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55640" y="76500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l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）蔺相如想了一会儿，说：“我愿意带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和氏璧到秦国去。如果秦王真的拿十五座城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换，我就把璧交给他；如果他不肯交出十五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城，我一定把璧送回来。那时候，秦国理屈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没有动兵的理由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005360"/>
            <a:ext cx="73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）蔺相如到了秦国，进宫见了秦王，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上和氏璧……秦王听他这么一说，就把璧交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了蔺相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6920" y="765000"/>
            <a:ext cx="7705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）蔺相如捧着璧，往后退了几步靠着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子站定。他理直气壮地说：“我看你并不想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十五座城。现在璧在我手里，您要是强逼我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的脑袋和璧就一块儿撞碎在这柱子上！”说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他举起和氏璧就要向柱子上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22100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）“蔺相如说和氏璧是无价之宝，要举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个隆重的典礼，他才肯交出来。秦王只好跟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约定了典礼的日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134136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怕撞碎了璧，连忙把他劝住，说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好商量，还叫人拿出地图，把给赵国的十五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指给他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只好跟他约定了举行典礼的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没有办法，只得客客气气地送蔺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回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69228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蔺相如非常生气，他走到秦王面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请您为赵王击缶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您跟我现在只有五步远。您不答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就跟你拼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16360" y="4149720"/>
            <a:ext cx="2952720" cy="1998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1916280"/>
            <a:ext cx="7630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课文中的几个小故事有什么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系？找出有关句子读一读，体会它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的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2109960" cy="527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45000"/>
            <a:ext cx="848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蔺相如                        廉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6207200">
            <a:off x="4370040" y="1182600"/>
            <a:ext cx="404640" cy="6050160"/>
          </a:xfrm>
          <a:custGeom>
            <a:avLst/>
            <a:gdLst>
              <a:gd name="textAreaLeft" fmla="*/ 258480 w 404640"/>
              <a:gd name="textAreaRight" fmla="*/ 405000 w 404640"/>
              <a:gd name="textAreaTop" fmla="*/ 157680 h 6050160"/>
              <a:gd name="textAreaBottom" fmla="*/ 5892480 h 605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507920"/>
            <a:ext cx="581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隶书"/>
              </a:rPr>
              <a:t>以国家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2133720"/>
            <a:ext cx="287640" cy="15825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2133720"/>
            <a:ext cx="287280" cy="1601640"/>
          </a:xfrm>
          <a:custGeom>
            <a:avLst/>
            <a:gdLst>
              <a:gd name="textAreaLeft" fmla="*/ 0 w 287280"/>
              <a:gd name="textAreaRight" fmla="*/ 103680 w 287280"/>
              <a:gd name="textAreaTop" fmla="*/ 41760 h 1601640"/>
              <a:gd name="textAreaBottom" fmla="*/ 1559880 h 16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728720" cy="144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6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回顾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智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0720" y="29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畏强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720" y="342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顾全大局，识大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4160" y="24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416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于改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584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完璧归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584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渑池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584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负荆请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27280" y="2133720"/>
            <a:ext cx="396072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47160" y="1267200"/>
            <a:ext cx="5138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读下面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着急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á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召集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àoj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答应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为难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逼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á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撞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zhuà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削弱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u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 乘机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hé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413000"/>
            <a:ext cx="779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大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夫是一种官职，分为上、中、下三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大夫”是最高的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卿”是一种官职，分为上卿、中卿、下卿。上卿是廉颇在赵惠文王１６年时，因伐齐有功，被提升为上卿。如今蔺相如也封了上卿。由于是文官，上朝集会时，位置站在廉颇的右边。秦汉以前，以右为尊。所以说蔺相如的职位比廉颇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549360"/>
            <a:ext cx="230364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补充资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405080"/>
            <a:ext cx="396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璧，古代玉器的一种，平圆形，中间有孔。所以这个字是“玉”字旁。“和氏璧”指的是用楚国人卞和氏发现的一种玉制成的璧，因其珍奇且来历不凡，被公认为世间至宝，价值连城，这也是秦王不惜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城为诱饵骗取它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3840" y="66996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“璧” ？（和氏璧）什么是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345120" cy="3200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773360"/>
            <a:ext cx="67816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多音字组词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piá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ià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削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u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xiā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1557360"/>
            <a:ext cx="73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渑”本课组词“渑池”一个地名，在今河南省渑池县境内。形近字是“绳”绳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3860640"/>
            <a:ext cx="360360" cy="194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5960" y="522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25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90080" y="378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渑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96400" y="5229360"/>
            <a:ext cx="14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绳子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765000"/>
            <a:ext cx="83055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攻无不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无不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价之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心协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84360" y="83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比对方弱，不敢较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1628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古代的一种弹拨乐器。鼓瑟，就是弹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42280" y="2492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古代一种瓦质的打击乐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58440" y="3357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攻城夺地，没有拿不下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49800" y="414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形容强大无比，每战必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15520" y="4941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形容物品特别珍贵，多少钱也买不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8640" y="5805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团结一致，共同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80400" y="62064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词语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1268280"/>
            <a:ext cx="78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读课文，思考课文主要写了几个小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421000"/>
            <a:ext cx="6781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—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—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549360"/>
            <a:ext cx="8064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背景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战国我国历史上的一个时期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5—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21)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当时，比较强的国家有七个，即秦、楚、齐、赵、燕、魏、韩，称为“战国七雄”，秦国是最强的一个。秦国地处函谷关以西，其余六国在函谷关以东。赵国的东面是富强的齐国，西面是强大的秦国。赵国处在两大强国之间，因此在军事上和外交方面的措施，就有关系国家兴亡的重大意义。“完璧归赵”的故事发生在秦国全力进攻楚国的时候。秦国不能集中更多兵力对付赵国，主要是用威胁的手段占赵国的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07:20Z</dcterms:created>
  <dc:creator/>
  <dc:description/>
  <dc:language>en-US</dc:language>
  <cp:lastModifiedBy>微软用户</cp:lastModifiedBy>
  <dcterms:modified xsi:type="dcterms:W3CDTF">2015-05-11T02:31:38Z</dcterms:modified>
  <cp:revision>6</cp:revision>
  <dc:subject/>
  <dc:title>幻灯片 1</dc:title>
</cp:coreProperties>
</file>