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type.wav" ContentType="audio/x-wav"/>
  <Override PartName="/ppt/media/image23.jpeg" ContentType="image/jpeg"/>
  <Override PartName="/ppt/media/image21.png" ContentType="image/png"/>
  <Override PartName="/ppt/media/image20.jpeg" ContentType="image/jpeg"/>
  <Override PartName="/ppt/media/CAMERA.WAV" ContentType="audio/x-wav"/>
  <Override PartName="/ppt/media/image17.jpeg" ContentType="image/jpeg"/>
  <Override PartName="/ppt/media/image18.jpeg" ContentType="image/jpeg"/>
  <Override PartName="/ppt/media/image15.png" ContentType="image/png"/>
  <Override PartName="/ppt/media/chimes.wav" ContentType="audio/x-wav"/>
  <Override PartName="/ppt/media/image7.png" ContentType="image/png"/>
  <Override PartName="/ppt/media/image9.png" ContentType="image/png"/>
  <Override PartName="/ppt/media/image22.jpeg" ContentType="image/jpeg"/>
  <Override PartName="/ppt/media/image12.jpeg" ContentType="image/jpeg"/>
  <Override PartName="/ppt/media/image13.png" ContentType="image/png"/>
  <Override PartName="/ppt/media/image26.jpeg" ContentType="image/jpeg"/>
  <Override PartName="/ppt/media/image32.jpeg" ContentType="image/jpeg"/>
  <Override PartName="/ppt/media/image27.jpeg" ContentType="image/jpeg"/>
  <Override PartName="/ppt/media/image1.jpeg" ContentType="image/jpeg"/>
  <Override PartName="/ppt/media/image10.png" ContentType="image/png"/>
  <Override PartName="/ppt/media/image8.png" ContentType="image/png"/>
  <Override PartName="/ppt/media/image14.jpeg" ContentType="image/jpeg"/>
  <Override PartName="/ppt/media/image29.jpeg" ContentType="image/jpeg"/>
  <Override PartName="/ppt/media/image28.png" ContentType="image/png"/>
  <Override PartName="/ppt/media/image5.png" ContentType="image/pn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6.png" ContentType="image/png"/>
  <Override PartName="/ppt/media/LASER.WAV" ContentType="audio/x-wav"/>
  <Override PartName="/ppt/media/image24.jpeg" ContentType="image/jpeg"/>
  <Override PartName="/ppt/media/projctor.wav" ContentType="audio/x-wav"/>
  <Override PartName="/ppt/media/TYPE.WAV" ContentType="audio/x-wav"/>
  <Override PartName="/ppt/media/image1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ftr" idx="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FA8C-AE2C-4A61-9BE8-04C8BD77B46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DC28-0A91-4B62-B88E-6B38D147FFC9}" type="slidenum">
              <a:rPr b="0" lang="zh-CN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C0894-40D0-4A58-A898-1889D91DB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CE983-1F89-45AE-97F0-6B05331E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0D3EF-4A0D-4DFC-BB01-ED710746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E1E4A-6971-4F2D-AB23-2B204F36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4A012-FD59-42EE-8572-3A9F29EB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D0C35-884B-4145-BFCB-7BFDC503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F9F0A-436D-48CF-9001-C89D9C4A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0BBD13-9AB1-4E6A-BC7D-3B94E3EB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618AC2-0786-4F2B-A2FC-BEC06FE8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78B35-8667-45D0-B17D-3F6A6A59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E639D-AE48-44EE-9B35-FCD66E554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26A7B-88A0-4856-A620-95EB864C5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1E251B-F43F-4FEF-B92A-E9A2EF9AF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C38C89-7C06-4172-AE96-E224D241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C1C944-0B15-41C5-871B-85D03E5F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80D2E5-E7C0-4AF1-93D2-3497C90B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675879-5782-4E4C-8561-AF8B4BC0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7A5AB9-3BC3-41C5-A0E1-357F5B69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2D8BDD-7F5B-4242-9002-94C5D9F8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861D47-B27D-45FE-B8AC-9ADA3D2A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292E31-82F3-4671-AD67-9F6ED7F8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A8214A-A7AA-40D3-B8ED-975AF410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2B89F7-4AB8-4379-9964-177234FA9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9BE280-B1E9-46D4-B020-97BA37327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236402-F717-4240-95A8-39E969307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336253-B437-4CBF-B556-4DF96700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6BA307-C1E6-49D1-9729-90F4C5DC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EFAE63-C5ED-4F9E-8A47-581A6B10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0B1257-2F57-4471-8D9B-3094211A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65455F-123C-4853-918B-5D1C5CA0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C53D58-8643-4B65-951E-7BFC3348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780F7C-B13E-4EAC-A167-B83DEE83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D91F11-68DE-492D-8321-8BEF6B2A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2DBCE9-60F9-41D1-8B8E-1FE753F2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5CB915-F295-4EF5-997E-CE44953F0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35475D-0DF2-4834-A6F0-C2550C16F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323F1C-8304-42F5-9A0E-763A8A84E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E89289-F347-4255-80B5-727B7997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2BC66B-56A2-42DE-8C6F-D9A1F224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93B560-A31E-447C-B12E-3B760A33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52F0CB-ACC4-48AC-ACA7-72C1745D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94B86E-0732-409F-9009-217000DE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DD1FE9-6744-4487-A595-57A45403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0ED946-9FEA-4A40-B912-365C7F6A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DD3C89-FBF7-4563-99E2-CEF1094E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10949A-6C2E-4F25-90D8-B035103A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5E7FCD-F1F9-4C5E-B7BA-817C3AABC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E9C763-A6C5-4527-BC2C-CF15D6612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828800" y="1599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A4AB-6CBC-4CD8-BE0B-694D0CA764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6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7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8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B8CC-C944-45B5-9084-D5F1136E8355}" type="slidenum">
              <a:rPr b="0" lang="zh-CN" sz="1400" spc="-1" strike="noStrike">
                <a:solidFill>
                  <a:srgbClr val="4824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24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9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0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1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B1BB-04E3-4D34-A9E5-34D357B31ABD}" type="slidenum">
              <a:rPr b="0" lang="zh-CN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175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78" name="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dt" idx="12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13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14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A3BB-6EC0-459D-B592-B58133206463}" type="slidenum">
              <a:rPr b="0" lang="zh-CN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0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1040" descr="北风卷地白草折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143000" y="990720"/>
            <a:ext cx="6934320" cy="564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白雪歌送武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判官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归京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岑  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北风卷地白草折，</a:t>
            </a: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胡天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八月即飞雪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忽如一夜春风来，千树万树</a:t>
            </a: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梨花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开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散入珠帘湿</a:t>
            </a: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罗幕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狐裘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不暖</a:t>
            </a: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锦衾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薄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将军</a:t>
            </a: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角弓不得控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都护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铁衣冷难</a:t>
            </a: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着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瀚海阑干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百丈冰，</a:t>
            </a: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愁云惨淡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万里凝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中军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置酒饮归客，胡琴琵琶与羌笛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纷纷暮雪下</a:t>
            </a: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辕门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风</a:t>
            </a: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掣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红旗</a:t>
            </a: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冻不翻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轮台东门送君去，去时雪满天山路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山回路转不见君，雪上空留马行处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0"/>
            <a:ext cx="3867120" cy="990720"/>
          </a:xfrm>
          <a:prstGeom prst="wedgeRoundRectCallout">
            <a:avLst>
              <a:gd name="adj1" fmla="val -46675"/>
              <a:gd name="adj2" fmla="val 7003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节度使下面资佐理的官吏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148360" y="1197000"/>
            <a:ext cx="2846160" cy="685800"/>
          </a:xfrm>
          <a:prstGeom prst="wedgeRoundRectCallout">
            <a:avLst>
              <a:gd name="adj1" fmla="val -45148"/>
              <a:gd name="adj2" fmla="val 6990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指西域的天气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57800" y="2286000"/>
            <a:ext cx="2843280" cy="609480"/>
          </a:xfrm>
          <a:prstGeom prst="wedgeRoundRectCallout">
            <a:avLst>
              <a:gd name="adj1" fmla="val -51171"/>
              <a:gd name="adj2" fmla="val 10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狐皮袍子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81680" y="2133720"/>
            <a:ext cx="1600200" cy="838080"/>
          </a:xfrm>
          <a:prstGeom prst="wedgeRoundRectCallout">
            <a:avLst>
              <a:gd name="adj1" fmla="val -70736"/>
              <a:gd name="adj2" fmla="val 7310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锦缎做的被子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" y="838080"/>
            <a:ext cx="1600200" cy="838440"/>
          </a:xfrm>
          <a:prstGeom prst="wedgeRoundRectCallout">
            <a:avLst>
              <a:gd name="adj1" fmla="val 102180"/>
              <a:gd name="adj2" fmla="val 27859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Arial"/>
              </a:rPr>
              <a:t>用兽角装饰的硬弓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292720" y="3352680"/>
            <a:ext cx="3546360" cy="1676520"/>
          </a:xfrm>
          <a:prstGeom prst="wedgeRoundRectCallout">
            <a:avLst>
              <a:gd name="adj1" fmla="val -62041"/>
              <a:gd name="adj2" fmla="val -1713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镇守边镇的长官此为泛指，与上文的“将军”是互文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19640" y="5105520"/>
            <a:ext cx="3009960" cy="1066680"/>
          </a:xfrm>
          <a:prstGeom prst="wedgeRoundRectCallout">
            <a:avLst>
              <a:gd name="adj1" fmla="val -96569"/>
              <a:gd name="adj2" fmla="val -15654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天太冷而冻得拉不开弓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162920" y="2819520"/>
            <a:ext cx="761760" cy="609480"/>
          </a:xfrm>
          <a:prstGeom prst="wedgeRoundRectCallout">
            <a:avLst>
              <a:gd name="adj1" fmla="val -49166"/>
              <a:gd name="adj2" fmla="val 9166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穿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24000" y="2852640"/>
            <a:ext cx="2466720" cy="936720"/>
          </a:xfrm>
          <a:prstGeom prst="wedgeRoundRectCallout">
            <a:avLst>
              <a:gd name="adj1" fmla="val 21620"/>
              <a:gd name="adj2" fmla="val 9542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Arial"/>
              </a:rPr>
              <a:t>大沙漠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" y="2209680"/>
            <a:ext cx="2759040" cy="838440"/>
          </a:xfrm>
          <a:prstGeom prst="wedgeRoundRectCallout">
            <a:avLst>
              <a:gd name="adj1" fmla="val 46430"/>
              <a:gd name="adj2" fmla="val 17310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纵横的样子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-181080" y="2971800"/>
            <a:ext cx="4248360" cy="914400"/>
          </a:xfrm>
          <a:prstGeom prst="wedgeRoundRectCallout">
            <a:avLst>
              <a:gd name="adj1" fmla="val 5342"/>
              <a:gd name="adj2" fmla="val 14340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这里指主帅的营帐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0880" y="4648320"/>
            <a:ext cx="1743120" cy="685800"/>
          </a:xfrm>
          <a:prstGeom prst="wedgeRoundRectCallout">
            <a:avLst>
              <a:gd name="adj1" fmla="val 142805"/>
              <a:gd name="adj2" fmla="val 1828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营门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86400" y="3733920"/>
            <a:ext cx="2470320" cy="761760"/>
          </a:xfrm>
          <a:prstGeom prst="wedgeRoundRectCallout">
            <a:avLst>
              <a:gd name="adj1" fmla="val -60601"/>
              <a:gd name="adj2" fmla="val 12791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chè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牵引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076720" y="3962520"/>
            <a:ext cx="4067280" cy="1842840"/>
          </a:xfrm>
          <a:prstGeom prst="wedgeRoundRectCallout">
            <a:avLst>
              <a:gd name="adj1" fmla="val -7847"/>
              <a:gd name="adj2" fmla="val 115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下雪后红旗冻住了，北风吹来，也不能飘动了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24360" y="914400"/>
            <a:ext cx="2276640" cy="990720"/>
          </a:xfrm>
          <a:prstGeom prst="wedgeRoundRectCallout">
            <a:avLst>
              <a:gd name="adj1" fmla="val -24546"/>
              <a:gd name="adj2" fmla="val 11362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这里形容雪花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553080" y="1523880"/>
            <a:ext cx="1619280" cy="685800"/>
          </a:xfrm>
          <a:prstGeom prst="wedgeRoundRectCallout">
            <a:avLst>
              <a:gd name="adj1" fmla="val -146175"/>
              <a:gd name="adj2" fmla="val 33888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阴云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156360" y="3124080"/>
            <a:ext cx="2225520" cy="609840"/>
          </a:xfrm>
          <a:prstGeom prst="wedgeRoundRectCallout">
            <a:avLst>
              <a:gd name="adj1" fmla="val -77675"/>
              <a:gd name="adj2" fmla="val 12395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阴暗无光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0880" y="914400"/>
            <a:ext cx="3543480" cy="914400"/>
          </a:xfrm>
          <a:prstGeom prst="wedgeRoundRectCallout">
            <a:avLst>
              <a:gd name="adj1" fmla="val 47712"/>
              <a:gd name="adj2" fmla="val 18837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用丝织成的帐幕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692360" y="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译译词句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4" dur="1" fill="hold"/>
                                  <p:tgtEl>
                                    <p:spTgt spid="2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289400" y="-2645280"/>
            <a:ext cx="5112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                                  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1517040"/>
            <a:ext cx="914400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北风卷地白草折，胡天八月即飞雪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黑体"/>
              </a:rPr>
              <a:t> 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黑体"/>
              </a:rPr>
              <a:t>呼呼的北风卷地而来，连白草也被刮倒了。塞北的天空，才八月就已雪花纷飞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忽如一夜春风来，千树万树梨花开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黑体"/>
              </a:rPr>
              <a:t>  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黑体"/>
              </a:rPr>
              <a:t>好像是一夜之间春风突然吹来，千树万树的梨花同时盛开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散入珠帘湿罗幕，狐裘不暖锦衾薄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黑体"/>
              </a:rPr>
              <a:t>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黑体"/>
              </a:rPr>
              <a:t>雪花飘进珠帘沾湿了帐幕，穿着狐皮大衣不觉得暖和，织锦的被子也显得太单薄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765000"/>
            <a:ext cx="914400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将军角弓不得控，都护铁衣冷难着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黑体"/>
              </a:rPr>
              <a:t>将军、都护的角弓冻得无法拉开，他们的铁甲战衣也寒冷得无法披戴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瀚海阑干百丈冰，愁云惨淡万里凝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黑体"/>
              </a:rPr>
              <a:t>辽阔的边塞地区覆盖着厚厚的冰层，万里长空阴云暗淡，好像凝固了似的一动不动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中军置酒饮归客，胡琴琵琶与羌笛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黑体"/>
              </a:rPr>
              <a:t>  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黑体"/>
              </a:rPr>
              <a:t>军中主帅在营幕里设置酒席欢送回京的客人，伴奏助兴的有胡琴、琵琶和羌笛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1531440"/>
            <a:ext cx="9144000" cy="393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纷纷暮雪下辕门，风擎红旗冻不翻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黑体"/>
              </a:rPr>
              <a:t>傍晚送客出辕门，又见大雪纷飞，被冻僵的红旗，就是强劲的北风也无法让它招展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轮台东门送君去，去时雪满天山路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黑体"/>
              </a:rPr>
              <a:t>  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黑体"/>
              </a:rPr>
              <a:t>在轮台的东门，我送您踏上归途，分手时大雪已掩没了天山上的道路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山回路转不见君，雪上空留马行处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黑体"/>
              </a:rPr>
              <a:t>山路曲折，山峰环绕，渐渐看不到您的身影，雪地上只留下您马儿走过的脚印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385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385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385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从关键词、修辞方法、联系上下文和课文背景、运用联想想象品析诗句修辞美、意境美、描写美、抒情美、措辞美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385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我认为诗中——一句写得好，原因是  —。</a:t>
            </a:r>
            <a:r>
              <a:rPr b="1" lang="zh-CN" sz="54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3376"/>
              </a:spcBef>
              <a:buNone/>
              <a:tabLst>
                <a:tab algn="l" pos="0"/>
                <a:tab algn="l" pos="385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3376"/>
              </a:spcBef>
              <a:buNone/>
              <a:tabLst>
                <a:tab algn="l" pos="0"/>
                <a:tab algn="l" pos="385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2340000" y="189000"/>
            <a:ext cx="4608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品读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0"/>
            <a:ext cx="9144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       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示     例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隶书"/>
              </a:rPr>
              <a:t>我喜欢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忽如一夜春风来，千树万树梨花开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宋体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关键词：</a:t>
            </a:r>
            <a:r>
              <a:rPr b="0" lang="zh-CN" sz="2800" spc="-1" strike="noStrike">
                <a:solidFill>
                  <a:srgbClr val="333333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“忽如”二字用得神妙，不仅写出“胡天”变幻无常，大雪来得急骤，而且，再次传神地写出了诗人的惊奇与好奇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修辞美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以梨花比雪，雄奇明丽，新颖独特，落笔传神。不只写出了雪来得突然，写出了雪的铺天盖地，而且以春天比喻冬天，把冬天写出春意，情调乐观而昂扬。这句话是咏雪的千古名句。“春风”使梨花盛开来喻“北风”使雪花飞舞，极为新颖贴切。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意境美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渲染出了极富浪漫色彩的“千树万树梨花开”的壮美情境。这句体现了作者的豪放风格。 </a:t>
            </a:r>
            <a:br>
              <a:rPr sz="2800"/>
            </a:br>
            <a:br>
              <a:rPr sz="1800"/>
            </a:b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200931508221340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赏析咏雪部分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说一说岑参描绘了怎样的雪景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0234423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195019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200931508221340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赏析咏雪部分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阅读探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找出你认为写得好（最喜欢）    的诗句，跟大家说说喜欢的理由。（从写的景象、运用的修辞方面以及效果来说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图片4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3"/>
          <p:cNvSpPr/>
          <p:nvPr/>
        </p:nvSpPr>
        <p:spPr>
          <a:xfrm>
            <a:off x="0" y="0"/>
            <a:ext cx="9144000" cy="1526400"/>
          </a:xfrm>
          <a:prstGeom prst="rect">
            <a:avLst/>
          </a:prstGeom>
          <a:solidFill>
            <a:srgbClr val="0000ff">
              <a:alpha val="59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课题：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“白雪歌送武判官归京”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点明本诗是雪中送别诗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即在西北边塞的冰雪背景下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岑参送朋友武判官回到京城长安去。这是戍边将士之别。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200931508221340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作者描写雪中的景象是怀着什么感情来写的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200931508221340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0880" y="2421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为什么在这样艰苦恶劣的环境中，作者却能表现出如此昂扬向上的情绪呢？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6095880"/>
            <a:ext cx="82296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400" spc="-1" strike="noStrike">
              <a:solidFill>
                <a:srgbClr val="d69b8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200931508221340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0880" y="-916920"/>
            <a:ext cx="82296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5400" spc="-1" strike="noStrike">
              <a:solidFill>
                <a:srgbClr val="482400"/>
              </a:solidFill>
              <a:latin typeface="Times New Roman"/>
              <a:ea typeface="黑体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唐代天宝年间，李唐王朝与西北少数民族边境战事不断，许多文人也纷纷投入军人幕府，寻求个人发展，看到新奇独特的自然风光，并体验到边塞紧张激烈的军旅生活，形成了盛唐边塞诗派。岑参就是盛唐边塞诗人的杰出代表，他怀着建功立业的志向，两度出塞，度过了几年艰苦的军旅生涯，对鞍马风尘的征战生活与冰天雪地的塞外风光有长期的观察与体会，这首《白雪歌送武判官归京》就是他第二次出塞，充任安西北庭节度判官，在轮台幕府中送友人回京时所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xuejingtupian-meilidongtianxuejingbizhi_456491_m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200931508221340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-475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瀚海阑干百丈冰，愁云惨淡万里凝。”读这一句也用喜爱赞美的感情去读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200931508221340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赏析送别部分</a:t>
            </a:r>
            <a:br>
              <a:rPr sz="5400"/>
            </a:br>
            <a:endParaRPr b="0" lang="en-US" sz="5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61640" y="2386080"/>
            <a:ext cx="7769160" cy="34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如何从雪景过渡到送别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200931508221340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80880" y="-475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诗人写出了对友人怎样的感情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200931508221340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这种感情是通过哪些语句体现出来的？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中军置酒饮归客，胡琴琵琶与羌笛。——设宴饯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轮台东门送君去，去时雪满天山路。——雪中送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山回路转不见君，雪上空留马行处。——依依惜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200931508221340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80880" y="-475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其中最有韵味、最能体现依恋之情的句子是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018321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200931508221340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880" y="-475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46432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岑参，江陵人，天宝三年进士，天宝十三年被封摄监察御史，充安西、北庭节度判官。后入朝任右补缺，官至嘉州刺史，世称岑嘉州。作者两次出塞，从军西北十余年，熟悉边塞生活。岑参多以诗人的敏感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描绘边塞风光和战争景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表现边防战士的英雄气概和不畏艰险的乐观精神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诗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想象丰富，气势磅礴，风格瑰丽雄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语言变化自如，擅长七言歌行。有《岑嘉州集》。唐代著名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“边塞诗人”，与高适并称为“高岑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516720" y="208764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40" name="古诗人" descr=""/>
          <p:cNvPicPr/>
          <p:nvPr/>
        </p:nvPicPr>
        <p:blipFill>
          <a:blip r:embed="rId3"/>
          <a:stretch/>
        </p:blipFill>
        <p:spPr>
          <a:xfrm>
            <a:off x="4572000" y="981000"/>
            <a:ext cx="4572000" cy="56880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064200" y="404640"/>
            <a:ext cx="16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作者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简介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200931508221340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总结主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1061640" y="1483920"/>
            <a:ext cx="7769160" cy="4395960"/>
          </a:xfrm>
          <a:prstGeom prst="rect">
            <a:avLst/>
          </a:prstGeom>
          <a:solidFill>
            <a:srgbClr val="fecaf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cc"/>
                </a:solidFill>
                <a:latin typeface="Times New Roman"/>
              </a:rPr>
              <a:t>            </a:t>
            </a:r>
            <a:r>
              <a:rPr b="1" lang="zh-CN" sz="6600" spc="-1" strike="noStrike">
                <a:solidFill>
                  <a:srgbClr val="cc00cc"/>
                </a:solidFill>
                <a:latin typeface="Times New Roman"/>
              </a:rPr>
              <a:t>咏雪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cc"/>
                </a:solidFill>
                <a:latin typeface="Times New Roman"/>
              </a:rPr>
              <a:t>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cc"/>
                </a:solidFill>
                <a:latin typeface="Times New Roman"/>
              </a:rPr>
              <a:t>              </a:t>
            </a:r>
            <a:r>
              <a:rPr b="1" lang="zh-CN" sz="6600" spc="-1" strike="noStrike">
                <a:solidFill>
                  <a:srgbClr val="cc00cc"/>
                </a:solidFill>
                <a:latin typeface="Times New Roman"/>
              </a:rPr>
              <a:t>送别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635280" y="3422520"/>
            <a:ext cx="871560" cy="797040"/>
          </a:xfrm>
          <a:custGeom>
            <a:avLst/>
            <a:gdLst>
              <a:gd name="textAreaLeft" fmla="*/ 0 w 871560"/>
              <a:gd name="textAreaRight" fmla="*/ 314640 w 871560"/>
              <a:gd name="textAreaTop" fmla="*/ 20520 h 797040"/>
              <a:gd name="textAreaBottom" fmla="*/ 776520 h 79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067280" y="2565360"/>
            <a:ext cx="144360" cy="2138400"/>
          </a:xfrm>
          <a:custGeom>
            <a:avLst/>
            <a:gdLst>
              <a:gd name="textAreaLeft" fmla="*/ 0 w 144360"/>
              <a:gd name="textAreaRight" fmla="*/ 52200 w 144360"/>
              <a:gd name="textAreaTop" fmla="*/ 55440 h 2138400"/>
              <a:gd name="textAreaBottom" fmla="*/ 2082960 h 213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419640" y="2205000"/>
            <a:ext cx="1160280" cy="2448000"/>
          </a:xfrm>
          <a:custGeom>
            <a:avLst/>
            <a:gdLst>
              <a:gd name="textAreaLeft" fmla="*/ 0 w 1160280"/>
              <a:gd name="textAreaRight" fmla="*/ 419040 w 116028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995640" y="2205000"/>
            <a:ext cx="9144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3419640" y="2276640"/>
            <a:ext cx="504720" cy="1777680"/>
          </a:xfrm>
          <a:custGeom>
            <a:avLst/>
            <a:gdLst>
              <a:gd name="textAreaLeft" fmla="*/ 0 w 504720"/>
              <a:gd name="textAreaRight" fmla="*/ 182160 w 504720"/>
              <a:gd name="textAreaTop" fmla="*/ 46080 h 1777680"/>
              <a:gd name="textAreaBottom" fmla="*/ 1731600 h 177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140360" y="342900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796000" y="1773360"/>
            <a:ext cx="720720" cy="3743280"/>
          </a:xfrm>
          <a:custGeom>
            <a:avLst/>
            <a:gdLst>
              <a:gd name="textAreaLeft" fmla="*/ 0 w 720720"/>
              <a:gd name="textAreaRight" fmla="*/ 260280 w 72072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659640" y="1052640"/>
            <a:ext cx="1081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惆怅惜别之情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2627280" y="1773360"/>
            <a:ext cx="649440" cy="3671640"/>
          </a:xfrm>
          <a:custGeom>
            <a:avLst/>
            <a:gdLst>
              <a:gd name="textAreaLeft" fmla="*/ 360 w 649440"/>
              <a:gd name="textAreaRight" fmla="*/ 234720 w 649440"/>
              <a:gd name="textAreaTop" fmla="*/ 95760 h 3671640"/>
              <a:gd name="textAreaBottom" fmla="*/ 3575880 h 36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971640" y="0"/>
            <a:ext cx="1079280" cy="37497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白雪歌送武判官归京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084720" y="0"/>
            <a:ext cx="208764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333333"/>
                </a:solidFill>
                <a:latin typeface="Arial"/>
              </a:rPr>
              <a:t>主旨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371600" y="2209680"/>
            <a:ext cx="756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 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既然是送别，为什么要咏雪？二者有什么联系？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600200" y="4267080"/>
            <a:ext cx="704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借景抒情，情景交融。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447920" y="380880"/>
            <a:ext cx="4680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3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隶书"/>
              </a:rPr>
              <a:t>想一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隶书"/>
              <a:ea typeface="隶书"/>
            </a:endParaRPr>
          </a:p>
        </p:txBody>
      </p:sp>
    </p:spTree>
  </p:cSld>
  <p:transition spd="med">
    <p:blinds dir="horz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0" y="0"/>
            <a:ext cx="9396360" cy="6127200"/>
          </a:xfrm>
          <a:prstGeom prst="rect">
            <a:avLst/>
          </a:prstGeom>
          <a:solidFill>
            <a:srgbClr val="feca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482400"/>
                </a:solidFill>
                <a:latin typeface="方正姚体"/>
                <a:ea typeface="方正姚体"/>
              </a:rPr>
              <a:t>     </a:t>
            </a:r>
            <a:r>
              <a:rPr b="1" lang="zh-CN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课堂达标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这首诗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          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与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              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巧妙结合，将塞外雪景写得千姿  百态，气象壮阔，衬托了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               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之情。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巧用对偶，侧面烘托大雪寒威，极写边塞苦寒的句子是？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从视觉角度，色彩鲜明、红白映衬的两句诗是？     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跟“孤帆远影碧空尽，唯见长江天际流”意境相似诗句？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以梨花比雪，写出了雪来突然，铺天盖地，把冬天写出春意，情调乐观而昂扬的诗句？</a:t>
            </a: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 这是一首送别诗，“山回路转不见君，雪上空留马行处”，友人走了，诗人久立雪中，他在想些什么呢？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                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19280" y="9144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476360" y="0"/>
            <a:ext cx="1943280" cy="1125360"/>
          </a:xfrm>
          <a:prstGeom prst="wedgeEllipseCallout">
            <a:avLst>
              <a:gd name="adj1" fmla="val -26634"/>
              <a:gd name="adj2" fmla="val 590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咏雪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276720" y="-171360"/>
            <a:ext cx="1942920" cy="1125360"/>
          </a:xfrm>
          <a:prstGeom prst="wedgeEllipseCallout">
            <a:avLst>
              <a:gd name="adj1" fmla="val -30310"/>
              <a:gd name="adj2" fmla="val 782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送别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427640" y="-387360"/>
            <a:ext cx="5257800" cy="1512720"/>
          </a:xfrm>
          <a:prstGeom prst="wedgeEllipseCallout">
            <a:avLst>
              <a:gd name="adj1" fmla="val -35870"/>
              <a:gd name="adj2" fmla="val 823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与友人惜别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惆怅之情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84360" y="836640"/>
            <a:ext cx="4537080" cy="1125360"/>
          </a:xfrm>
          <a:prstGeom prst="wedgeEllipseCallout">
            <a:avLst>
              <a:gd name="adj1" fmla="val -49509"/>
              <a:gd name="adj2" fmla="val 934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将军角弓不得控，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都护铁衣冷难着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708360" y="1197000"/>
            <a:ext cx="5761080" cy="1511280"/>
          </a:xfrm>
          <a:prstGeom prst="wedgeEllipseCallout">
            <a:avLst>
              <a:gd name="adj1" fmla="val -30874"/>
              <a:gd name="adj2" fmla="val 568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纷纷暮雪下辕门，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风掣红旗冻不翻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79280" y="1052640"/>
            <a:ext cx="4969080" cy="1512720"/>
          </a:xfrm>
          <a:prstGeom prst="wedgeEllipseCallout">
            <a:avLst>
              <a:gd name="adj1" fmla="val 17125"/>
              <a:gd name="adj2" fmla="val 948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山回路转不见君，雪上空留马行处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716360" y="2492280"/>
            <a:ext cx="4969080" cy="1513080"/>
          </a:xfrm>
          <a:prstGeom prst="wedgeEllipseCallout">
            <a:avLst>
              <a:gd name="adj1" fmla="val -49550"/>
              <a:gd name="adj2" fmla="val 567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忽如一夜春风来，千树万树梨花开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13420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拓展对比阅读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请从送别的环境（所写景物），送别的心情（所抒的情感）方面比较两首诗。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836640"/>
            <a:ext cx="777240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55640" y="3284640"/>
            <a:ext cx="806436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      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送元二使安西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王维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)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　　　         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渭城朝雨浥轻尘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,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客舍青青柳色新，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劝君更尽一杯酒，西出阳关无故人。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8360" y="685800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2009315082213400" descr=""/>
          <p:cNvPicPr/>
          <p:nvPr/>
        </p:nvPicPr>
        <p:blipFill>
          <a:blip r:embed="rId2"/>
          <a:stretch/>
        </p:blipFill>
        <p:spPr>
          <a:xfrm>
            <a:off x="0" y="0"/>
            <a:ext cx="9394920" cy="685800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880" y="-703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奇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奇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6588000" y="2138400"/>
            <a:ext cx="64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33"/>
                </a:solidFill>
                <a:latin typeface="Times New Roman"/>
              </a:rPr>
              <a:t>﹜</a:t>
            </a:r>
            <a:endParaRPr b="0" lang="en-US" sz="8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527120" y="191628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33"/>
                </a:solidFill>
                <a:latin typeface="Times New Roman"/>
              </a:rPr>
              <a:t>﹜</a:t>
            </a:r>
            <a:endParaRPr b="0" lang="en-US" sz="8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535120" y="2349360"/>
            <a:ext cx="12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咏雪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759120" y="242100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479840" y="242100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48360" y="2316240"/>
            <a:ext cx="172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送别  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154640" y="18716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牵挂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804000" y="2637000"/>
            <a:ext cx="268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惜别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244760" y="206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衬托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476360" y="333360"/>
            <a:ext cx="59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白雪歌送武判官归京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008920" y="836640"/>
            <a:ext cx="7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岑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4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82400"/>
                </a:solidFill>
                <a:latin typeface="Times New Roman"/>
                <a:ea typeface="华文行楷"/>
              </a:rPr>
              <a:t>你还学过哪些送别诗？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140360" y="620640"/>
            <a:ext cx="50036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送杜少府之任蜀州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王勃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城阙辅三秦，风烟望五津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与君离别意，同是宦游人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海内存知己，天涯若比邻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无为在岐路，儿女共沾巾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。</a:t>
            </a: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79280" y="1125360"/>
            <a:ext cx="3851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送孟浩然之广陵</a:t>
            </a:r>
            <a:br>
              <a:rPr sz="2800"/>
            </a:b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李白</a:t>
            </a:r>
            <a:br>
              <a:rPr sz="2800"/>
            </a:b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故人西辞黄鹤楼，</a:t>
            </a:r>
            <a:br>
              <a:rPr sz="2800"/>
            </a:b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烟花三月下扬州。</a:t>
            </a:r>
            <a:br>
              <a:rPr sz="2800"/>
            </a:b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孤帆远影碧空尽，</a:t>
            </a:r>
            <a:br>
              <a:rPr sz="2800"/>
            </a:b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惟见长江天际流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55640" y="3645000"/>
            <a:ext cx="712944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赠汪伦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李白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李白乘舟将欲行， 忽闻岸上踏歌声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桃花潭水深千尺， 不及汪伦送我情！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4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fecaf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作业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比较阅读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692280"/>
            <a:ext cx="9144000" cy="6775200"/>
          </a:xfrm>
          <a:prstGeom prst="rect">
            <a:avLst/>
          </a:prstGeom>
          <a:solidFill>
            <a:srgbClr val="feca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从句式、抒情、描写方面说一说它和《茅屋为秋风所破歌》异同：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 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同       处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都不拘固定的格式篇无定句，诗句多少依据表达的思想内容而定，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都以描写气候景物开篇，渲染气氛，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景物描写和叙事融为一体，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都抒发独特的情怀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                       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异        处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杜诗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以七字句为主，间有九字句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、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白诗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都是七字句，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两字句，句式错杂，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 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句式整齐，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叙事故事性强，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         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叙事点到为止，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抒情强烈而深沉 ，                                    抒情含蓄而典雅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6629400" y="76212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latin typeface="宋体"/>
              </a:rPr>
              <a:t>岑参</a:t>
            </a:r>
            <a:endParaRPr b="1" lang="en-US" sz="4400" spc="-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latin typeface="宋体"/>
              <a:ea typeface="宋体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168120" y="1371600"/>
            <a:ext cx="8823600" cy="4800600"/>
          </a:xfrm>
          <a:prstGeom prst="rect">
            <a:avLst/>
          </a:prstGeom>
          <a:ln w="57240">
            <a:solidFill>
              <a:srgbClr val="482400"/>
            </a:solidFill>
            <a:miter/>
          </a:ln>
        </p:spPr>
      </p:pic>
      <p:sp>
        <p:nvSpPr>
          <p:cNvPr id="393" name=""/>
          <p:cNvSpPr/>
          <p:nvPr/>
        </p:nvSpPr>
        <p:spPr>
          <a:xfrm>
            <a:off x="228600" y="1295280"/>
            <a:ext cx="495288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解题：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唐玄宗天宝十三年（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754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），岑参再度出塞，充任安西北庭节度使封常清的判官。同任判官的武某归京， 岑参便写下了这首咏雪送别之作。“白雪歌”即“白雪之歌”，“送武判官归京”点明本诗是一首雪中送别诗。作者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岑参（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715—770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），江陵（今湖北荆州）人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，唐代著名“边塞诗人”，与高适并称为“高岑”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白雪歌送武判官归京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990720" y="457200"/>
            <a:ext cx="228600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9000"/>
                    </a:srgbClr>
                  </a:outerShdw>
                </a:effectLst>
                <a:latin typeface="宋体"/>
              </a:rPr>
              <a:t>朗读欣赏</a:t>
            </a:r>
            <a:endParaRPr b="1" lang="en-US" sz="44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914400" y="4191120"/>
            <a:ext cx="4267080" cy="2276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398" name="" descr=""/>
          <p:cNvPicPr/>
          <p:nvPr/>
        </p:nvPicPr>
        <p:blipFill>
          <a:blip r:embed="rId4"/>
          <a:stretch/>
        </p:blipFill>
        <p:spPr>
          <a:xfrm>
            <a:off x="457200" y="1143000"/>
            <a:ext cx="4726080" cy="2819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399" name="" descr=""/>
          <p:cNvPicPr/>
          <p:nvPr/>
        </p:nvPicPr>
        <p:blipFill>
          <a:blip r:embed="rId5"/>
          <a:stretch/>
        </p:blipFill>
        <p:spPr>
          <a:xfrm>
            <a:off x="6019920" y="609480"/>
            <a:ext cx="2867040" cy="5867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5977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测一测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ecaf0">
              <a:alpha val="6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本诗作者为 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</a:rPr>
              <a:t>        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代著名的边塞诗人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</a:rPr>
              <a:t>       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，与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</a:rPr>
              <a:t>          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齐名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世称“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”。其诗雄健奔放，想象奇特，色彩瑰丽。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                                                               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95640" y="1773360"/>
            <a:ext cx="129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岑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1484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唐代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59280" y="227664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高适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42920" y="285264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高岑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6320" y="-74520"/>
            <a:ext cx="9144000" cy="68562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914400" y="11872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裘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828800" y="11430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qiú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048120" y="11430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衾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809880" y="1143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qīn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2120" y="28195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掣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447920" y="28195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hè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819520" y="2819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着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505320" y="28195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zhuó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38080" y="4191120"/>
            <a:ext cx="96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瀚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371600" y="4343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àn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971800" y="44197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阑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657600" y="44197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án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724280" y="4495680"/>
            <a:ext cx="102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羌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486400" y="44197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qiā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838080" y="457200"/>
            <a:ext cx="20574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字词学习</a:t>
            </a:r>
            <a:endParaRPr b="1" lang="en-US" sz="4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6172200" y="0"/>
            <a:ext cx="2895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4289400" y="-2645280"/>
            <a:ext cx="5112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                                  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52280" y="796680"/>
            <a:ext cx="86868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北风卷地白草折，胡天八月即飞雪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  <a:ea typeface="黑体"/>
              </a:rPr>
              <a:t> 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黑体"/>
              </a:rPr>
              <a:t>呼呼的北风卷地而来，连白草也被刮倒了。塞北的天空，才八月就已雪花纷飞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忽如一夜春风来，千树万树梨花开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  <a:ea typeface="黑体"/>
              </a:rPr>
              <a:t>  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黑体"/>
              </a:rPr>
              <a:t>好像是一夜之间春风突然吹来，千树万树的梨花同时盛开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散入珠帘湿罗幕，狐裘不暖锦衾薄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  <a:ea typeface="黑体"/>
              </a:rPr>
              <a:t>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黑体"/>
              </a:rPr>
              <a:t>雪花飘进珠帘沾湿了帐幕，穿着狐皮大衣不觉得暖和，织锦的被子也显得太单薄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0" y="0"/>
            <a:ext cx="91440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将军角弓不得控，都护铁衣冷难着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黑体"/>
              </a:rPr>
              <a:t>将军、都护的角弓冻得无法拉开，他们的铁甲战衣也寒冷得无法披戴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瀚海阑干百丈冰，愁云惨淡万里凝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黑体"/>
              </a:rPr>
              <a:t>辽阔的边塞地区覆盖着厚厚的冰层，万里长空阴云暗淡，好像凝固了似的一动不动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中军置酒饮归客，胡琴琵琶与羌笛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  <a:ea typeface="黑体"/>
              </a:rPr>
              <a:t>  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黑体"/>
              </a:rPr>
              <a:t>军中主帅在营幕里设置酒席欢送回京的客人，伴奏助兴的有胡琴、琵琶和羌笛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228600" y="811800"/>
            <a:ext cx="876312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纷纷暮雪下辕门，风擎红旗冻不翻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傍晚送客出辕门，又见大雪纷飞，被冻僵的红旗，就是强劲的北风也无法让它招展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轮台东门送君去，去时雪满天山路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  <a:ea typeface="黑体"/>
              </a:rPr>
              <a:t>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在轮台的东门，我送您踏上归途，分手时大雪已掩没了天山上的道路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山回路转不见君，雪上空留马行处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黑体"/>
              </a:rPr>
              <a:t>山路曲折，山峰环绕，渐渐看不到您的身影，雪地上只留下马儿走过的脚印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1295280" y="441972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295280" y="20574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、内容上写了哪几个方面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？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371600" y="350532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、表现了怎样的环境？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371600" y="495288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、抒发了诗人怎样情感？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609480" y="228600"/>
            <a:ext cx="2666880" cy="1371600"/>
            <a:chOff x="609480" y="228600"/>
            <a:chExt cx="2666880" cy="1371600"/>
          </a:xfrm>
        </p:grpSpPr>
        <p:sp>
          <p:nvSpPr>
            <p:cNvPr id="426" name=""/>
            <p:cNvSpPr/>
            <p:nvPr/>
          </p:nvSpPr>
          <p:spPr>
            <a:xfrm>
              <a:off x="685800" y="228600"/>
              <a:ext cx="2209680" cy="1371600"/>
            </a:xfrm>
            <a:prstGeom prst="horizontalScroll">
              <a:avLst>
                <a:gd name="adj" fmla="val 125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09480" y="533520"/>
              <a:ext cx="266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</a:rPr>
                <a:t>思考：</a:t>
              </a:r>
              <a:endParaRPr b="0" lang="en-US" sz="40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1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2362320" y="990720"/>
            <a:ext cx="1523880" cy="5205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白 雪 歌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724280" y="990720"/>
            <a:ext cx="2895840" cy="5205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送 武 判 官 归 京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048120" y="1523880"/>
            <a:ext cx="0" cy="45720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447920" y="2133720"/>
            <a:ext cx="327636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漫天大雪图（前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句）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209680" y="2971800"/>
            <a:ext cx="0" cy="38088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398960" y="3352680"/>
            <a:ext cx="127764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大雪纷飞遍地银妆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352680" y="2971800"/>
            <a:ext cx="0" cy="38088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617920" y="3352680"/>
            <a:ext cx="127764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雪天奇寒难以忍受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724280" y="2971800"/>
            <a:ext cx="0" cy="38088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913560" y="3352680"/>
            <a:ext cx="127764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沙漠冰封愁云惨淡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248520" y="1523880"/>
            <a:ext cx="0" cy="53352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257800" y="2057400"/>
            <a:ext cx="312408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雪中送别图（后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句）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2971800"/>
            <a:ext cx="0" cy="38088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361120" y="3352680"/>
            <a:ext cx="127764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设宴饯别寄寓感慨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848720" y="2971800"/>
            <a:ext cx="0" cy="38088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085160" y="3276720"/>
            <a:ext cx="127764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依依惜别无限惆怅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209680" y="4724280"/>
            <a:ext cx="0" cy="53352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924680" y="4724280"/>
            <a:ext cx="0" cy="53352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066680" y="5248440"/>
            <a:ext cx="327672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Arial"/>
              </a:rPr>
              <a:t>描写边地奇异风光，热爱边塞风光，颂扬将士坚强意志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838080" y="457200"/>
            <a:ext cx="20574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诗意分析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9" name=""/>
          <p:cNvSpPr/>
          <p:nvPr/>
        </p:nvSpPr>
        <p:spPr>
          <a:xfrm>
            <a:off x="5410080" y="5257800"/>
            <a:ext cx="350532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Arial"/>
              </a:rPr>
              <a:t>朋友之间的深厚情谊，抒发无限惆怅之情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304920" y="1589760"/>
            <a:ext cx="830556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Times New Roman"/>
                <a:ea typeface="隶书"/>
              </a:rPr>
              <a:t>小结：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 </a:t>
            </a:r>
            <a:r>
              <a:rPr b="1" lang="en-US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隶书"/>
              </a:rPr>
              <a:t>这首咏雪送别诗，前十句从不同侧面写雪，后八句写送别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全诗以“雪”为线索，以雪景衬托送别，送别中又描写雪景，情景交融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 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隶书"/>
              </a:rPr>
              <a:t>诗在咏雪景的同时表现了雪中送友的真挚情谊，还传达出诗人独特奇妙的感受，意境鲜明壮伟，具有极强的艺术感染力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6934320" y="304920"/>
            <a:ext cx="9903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914400" y="304920"/>
            <a:ext cx="777240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9b80"/>
                </a:solidFill>
                <a:latin typeface="Arial"/>
                <a:ea typeface="隶书"/>
              </a:rPr>
              <a:t>北风卷地白草折，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9b80"/>
                </a:solidFill>
                <a:latin typeface="Arial"/>
                <a:ea typeface="隶书"/>
              </a:rPr>
              <a:t>胡天八月即飞雪。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57200" y="2362320"/>
            <a:ext cx="81532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2400"/>
                </a:solidFill>
                <a:latin typeface="方正姚体"/>
                <a:ea typeface="方正姚体"/>
              </a:rPr>
              <a:t>   </a:t>
            </a:r>
            <a:r>
              <a:rPr b="1" lang="en-US" sz="2800" spc="-1" strike="noStrike">
                <a:solidFill>
                  <a:srgbClr val="482400"/>
                </a:solidFill>
                <a:latin typeface="方正姚体"/>
                <a:ea typeface="方正姚体"/>
              </a:rPr>
              <a:t> </a:t>
            </a:r>
            <a:r>
              <a:rPr b="1" lang="zh-CN" sz="2800" spc="-1" strike="noStrike">
                <a:solidFill>
                  <a:srgbClr val="482400"/>
                </a:solidFill>
                <a:latin typeface="方正姚体"/>
                <a:ea typeface="方正姚体"/>
              </a:rPr>
              <a:t>第一句写风，一个“卷”字，一个“折”字分别从</a:t>
            </a:r>
            <a:r>
              <a:rPr b="1" lang="zh-CN" sz="2800" spc="-1" strike="noStrike">
                <a:solidFill>
                  <a:srgbClr val="0000ff"/>
                </a:solidFill>
                <a:latin typeface="方正姚体"/>
                <a:ea typeface="方正姚体"/>
              </a:rPr>
              <a:t>正面和侧面</a:t>
            </a:r>
            <a:r>
              <a:rPr b="1" lang="zh-CN" sz="2800" spc="-1" strike="noStrike">
                <a:solidFill>
                  <a:srgbClr val="482400"/>
                </a:solidFill>
                <a:latin typeface="方正姚体"/>
                <a:ea typeface="方正姚体"/>
              </a:rPr>
              <a:t>写出了风势之猛。第二句写雪，“八月”说明胡天下雪的时间早。“飞”勾画出了一幅雪花漫天飘舞的形象。“即”字表现了诗人的惊奇之情。这两句极写边塞的风狂雪早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762120" y="228600"/>
            <a:ext cx="784836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忽如一夜春风来，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千树万树梨花开。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80880" y="1905120"/>
            <a:ext cx="85345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这两句是诗人由眼前的景色而展开的联想：望着披上银妆的树木，诗人忽然觉得自己好象已置身于大好春光之中，那强劲的春风，一夜之间竟吹开了这千树万树的梨花，一个“忽”字，不仅表现了边塞气象变化的神奇，而且传达出诗人赏雪时的惊喜心情。</a:t>
            </a:r>
            <a:r>
              <a:rPr b="1" lang="zh-CN" sz="2800" spc="-1" strike="noStrike">
                <a:solidFill>
                  <a:srgbClr val="0000ff"/>
                </a:solidFill>
                <a:latin typeface="方正姚体"/>
                <a:ea typeface="方正姚体"/>
              </a:rPr>
              <a:t>比喻修辞的运用，既清新而贴切写出了边塞特有的奇异风光，又表现了诗人开阔的胸襟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762120" y="457200"/>
            <a:ext cx="784836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9b80"/>
                </a:solidFill>
                <a:latin typeface="Arial"/>
                <a:ea typeface="隶书"/>
              </a:rPr>
              <a:t>散入珠帘湿罗幕，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9b80"/>
                </a:solidFill>
                <a:latin typeface="Arial"/>
                <a:ea typeface="隶书"/>
              </a:rPr>
              <a:t>狐裘不暖锦衾薄。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0880" y="2514600"/>
            <a:ext cx="84582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2400"/>
                </a:solidFill>
                <a:latin typeface="方正姚体"/>
                <a:ea typeface="方正姚体"/>
              </a:rPr>
              <a:t>    </a:t>
            </a:r>
            <a:r>
              <a:rPr b="1" lang="zh-CN" sz="2800" spc="-1" strike="noStrike">
                <a:solidFill>
                  <a:srgbClr val="482400"/>
                </a:solidFill>
                <a:latin typeface="方正姚体"/>
                <a:ea typeface="方正姚体"/>
              </a:rPr>
              <a:t>一个“散”字，写出了风吹雪花点点飘入帐内的情景，一个“入”字，将读者的视线从广漠无垠的空中转移到中军将领们的住所上来，“湿”字写雪花融化，沾湿了罗幕。“狐裘”写白天，“锦衾”写夜晚，“不暖”和“薄”，均可见出</a:t>
            </a:r>
            <a:r>
              <a:rPr b="1" lang="zh-CN" sz="2800" spc="-1" strike="noStrike">
                <a:solidFill>
                  <a:srgbClr val="0000ff"/>
                </a:solidFill>
                <a:latin typeface="方正姚体"/>
                <a:ea typeface="方正姚体"/>
              </a:rPr>
              <a:t>雪天的奇寒</a:t>
            </a:r>
            <a:r>
              <a:rPr b="0" lang="zh-CN" sz="2800" spc="-1" strike="noStrike">
                <a:solidFill>
                  <a:srgbClr val="482400"/>
                </a:solidFill>
                <a:latin typeface="方正姚体"/>
                <a:ea typeface="方正姚体"/>
              </a:rPr>
              <a:t>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2009315082213400" descr=""/>
          <p:cNvPicPr/>
          <p:nvPr/>
        </p:nvPicPr>
        <p:blipFill>
          <a:blip r:embed="rId2"/>
          <a:stretch/>
        </p:blipFill>
        <p:spPr>
          <a:xfrm>
            <a:off x="0" y="-892080"/>
            <a:ext cx="9144000" cy="792144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-688680"/>
            <a:ext cx="82296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5400" spc="-1" strike="noStrike">
              <a:solidFill>
                <a:srgbClr val="333333"/>
              </a:solidFill>
              <a:latin typeface="Times New Roman"/>
              <a:ea typeface="黑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白雪歌送武判官归京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北风卷地白草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折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胡天八月即飞雪。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忽如一夜春风来，千树万树梨花开。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散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入珠帘湿罗幕，狐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裘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暖锦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衾薄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将军角弓不得控，都护铁衣冷难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着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瀚海阑干百丈冰，愁云惨淡万里凝。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中军置酒饮归客，胡琴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琵琶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与羌笛。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纷纷暮雪下辕门，风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掣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红旗冻不翻。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轮台东门送君去，去时雪满天山路。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山回路转不见君，雪上空留马行处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549360"/>
            <a:ext cx="6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zhé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47640" y="170028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sà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003640" y="1700280"/>
            <a:ext cx="6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qiú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516720" y="1700280"/>
            <a:ext cx="8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qī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020000" y="227664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zhuó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428440" y="32846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pí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80880" y="328464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56200" y="3994200"/>
            <a:ext cx="18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chè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996440" y="386064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chè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086600" y="17002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bó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788508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80224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990720" y="533520"/>
            <a:ext cx="731520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9b80"/>
                </a:solidFill>
                <a:latin typeface="Arial"/>
                <a:ea typeface="隶书"/>
              </a:rPr>
              <a:t>将军角弓不得控，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9b80"/>
                </a:solidFill>
                <a:latin typeface="Arial"/>
                <a:ea typeface="隶书"/>
              </a:rPr>
              <a:t>都护铁衣冷难着。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28600" y="2362320"/>
            <a:ext cx="838188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2400"/>
                </a:solidFill>
                <a:latin typeface="方正姚体"/>
                <a:ea typeface="方正姚体"/>
              </a:rPr>
              <a:t>    </a:t>
            </a:r>
            <a:r>
              <a:rPr b="1" lang="en-US" sz="2800" spc="-1" strike="noStrike">
                <a:solidFill>
                  <a:srgbClr val="482400"/>
                </a:solidFill>
                <a:latin typeface="方正姚体"/>
                <a:ea typeface="方正姚体"/>
              </a:rPr>
              <a:t>“</a:t>
            </a:r>
            <a:r>
              <a:rPr b="1" lang="zh-CN" sz="2800" spc="-1" strike="noStrike">
                <a:solidFill>
                  <a:srgbClr val="482400"/>
                </a:solidFill>
                <a:latin typeface="方正姚体"/>
                <a:ea typeface="方正姚体"/>
              </a:rPr>
              <a:t>角弓不得控”和“铁衣冷难着”，生动地表现了胡天的奇寒叫人难以忍受，“将军”与“都护”尚且如此，一般士兵就可想而知了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82400"/>
                </a:solidFill>
                <a:latin typeface="方正姚体"/>
                <a:ea typeface="方正姚体"/>
              </a:rPr>
              <a:t>    </a:t>
            </a:r>
            <a:r>
              <a:rPr b="1" lang="zh-CN" sz="2800" spc="-1" strike="noStrike">
                <a:solidFill>
                  <a:srgbClr val="482400"/>
                </a:solidFill>
                <a:latin typeface="方正姚体"/>
                <a:ea typeface="方正姚体"/>
              </a:rPr>
              <a:t>这两句与前两句既</a:t>
            </a:r>
            <a:r>
              <a:rPr b="1" lang="zh-CN" sz="2800" spc="-1" strike="noStrike">
                <a:solidFill>
                  <a:srgbClr val="0000ff"/>
                </a:solidFill>
                <a:latin typeface="方正姚体"/>
                <a:ea typeface="方正姚体"/>
              </a:rPr>
              <a:t>表现了边地军营中将士的苦寒生活，又从侧面烘托出了大雪的寒威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609480" y="304920"/>
            <a:ext cx="807732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9b80"/>
                </a:solidFill>
                <a:latin typeface="Arial"/>
                <a:ea typeface="隶书"/>
              </a:rPr>
              <a:t>瀚海阑干百丈冰，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9b80"/>
                </a:solidFill>
                <a:latin typeface="Arial"/>
                <a:ea typeface="隶书"/>
              </a:rPr>
              <a:t>愁云惨淡万里凝。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04920" y="2209680"/>
            <a:ext cx="85341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这两句转写野外雪景。“瀚海阑干”绘出了非常开阔的画面；“百丈冰”是夸张的说法，极言奇寒。一个“愁”字，一个“惨”字，具有浓烈的感情色彩，为饯别场面酝酿了气氛。这一图景与前面形成了鲜明的对照，表现出诗人思想感情上的矛盾：一方面他热爱边地的特有风光，另一方面武判官的“归京”又牵动了诗的乡土之思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990720" y="609480"/>
            <a:ext cx="769608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9b80"/>
                </a:solidFill>
                <a:latin typeface="Arial"/>
                <a:ea typeface="隶书"/>
              </a:rPr>
              <a:t>中军置酒饮归客，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9b80"/>
                </a:solidFill>
                <a:latin typeface="Arial"/>
                <a:ea typeface="隶书"/>
              </a:rPr>
              <a:t>胡琴琵琶与羌笛。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09480" y="2438280"/>
            <a:ext cx="80773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写送别宴会，</a:t>
            </a:r>
            <a:r>
              <a:rPr b="1" lang="zh-CN" sz="2800" spc="-1" strike="noStrike">
                <a:solidFill>
                  <a:srgbClr val="0000ff"/>
                </a:solidFill>
                <a:latin typeface="方正姚体"/>
                <a:ea typeface="方正姚体"/>
              </a:rPr>
              <a:t>点明地点</a:t>
            </a: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是在中军营帐。“饮归客”说明举行这次宴会是为了送武判官归京。此句紧扣诗题，连举三种乐器，以借代的方式，写出了送别宴会上的热闹情景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838080" y="533520"/>
            <a:ext cx="746784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9b80"/>
                </a:solidFill>
                <a:latin typeface="Arial"/>
                <a:ea typeface="隶书"/>
              </a:rPr>
              <a:t>纷纷暮雪下辕门，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9b80"/>
                </a:solidFill>
                <a:latin typeface="Arial"/>
                <a:ea typeface="隶书"/>
              </a:rPr>
              <a:t>风掣红旗冻不翻。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33520" y="2666880"/>
            <a:ext cx="81532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酒宴散后，送客出辕门。一个“暮”字，点明时间是在傍晚，“纷纷”极言雪之大，“冻不翻”极言天之寒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1066680" y="609480"/>
            <a:ext cx="708660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9b80"/>
                </a:solidFill>
                <a:latin typeface="Arial"/>
                <a:ea typeface="隶书"/>
              </a:rPr>
              <a:t>轮台东门送君去，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9b80"/>
                </a:solidFill>
                <a:latin typeface="Arial"/>
                <a:ea typeface="隶书"/>
              </a:rPr>
              <a:t>去时雪满天山路。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09480" y="2895480"/>
            <a:ext cx="8153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从辕门一直送到轮台东门，表现了诗人对朋友的依依不舍。“雪满天山路”既表现出了风雪之猛，路之难行，又传达出了诗人对朋友的关切的担忧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533520" y="380880"/>
            <a:ext cx="815328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9b80"/>
                </a:solidFill>
                <a:latin typeface="Arial"/>
                <a:ea typeface="隶书"/>
              </a:rPr>
              <a:t>山回路转不见君，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9b80"/>
                </a:solidFill>
                <a:latin typeface="Arial"/>
                <a:ea typeface="隶书"/>
              </a:rPr>
              <a:t>雪上空留马行处。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80880" y="2590920"/>
            <a:ext cx="80773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写与朋友的告别，着力表现诗人伫立远望的情形，“不见”和一个“空”字，均传达出诗人因朋友的离去而产生的无限惆怅之情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1219320" y="152388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华文行楷"/>
              </a:rPr>
              <a:t>     </a:t>
            </a:r>
            <a:r>
              <a:rPr b="1" lang="zh-CN" sz="3200" spc="-1" strike="noStrike">
                <a:solidFill>
                  <a:srgbClr val="d69b80"/>
                </a:solidFill>
                <a:latin typeface="Times New Roman"/>
                <a:ea typeface="华文行楷"/>
              </a:rPr>
              <a:t>在古代，因为交通不方便，常常一别经年，因此，送别就成了古代诗歌的一个重要题材，那么，你还知道哪些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送别诗</a:t>
            </a:r>
            <a:r>
              <a:rPr b="1" lang="zh-CN" sz="3200" spc="-1" strike="noStrike">
                <a:solidFill>
                  <a:srgbClr val="d69b80"/>
                </a:solidFill>
                <a:latin typeface="Times New Roman"/>
                <a:ea typeface="华文行楷"/>
              </a:rPr>
              <a:t>吗？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-30168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0" y="-1494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任选一首，自选角度，和《白雪歌送武判官归京》比较一下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923760"/>
            <a:ext cx="5486400" cy="602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王勃《送杜少府之任蜀川》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华文行楷"/>
                <a:ea typeface="华文行楷"/>
              </a:rPr>
              <a:t>城阙辅三秦，风烟望五津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华文行楷"/>
                <a:ea typeface="华文行楷"/>
              </a:rPr>
              <a:t>与君离别意，同是宦游人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华文行楷"/>
                <a:ea typeface="华文行楷"/>
              </a:rPr>
              <a:t>海内存知己，天涯若比邻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华文行楷"/>
                <a:ea typeface="华文行楷"/>
              </a:rPr>
              <a:t>无为在歧路，儿女共沾巾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李白《黄鹤楼送孟浩然之广陵》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华文行楷"/>
                <a:ea typeface="华文行楷"/>
              </a:rPr>
              <a:t>故人西辞黄鹤楼，烟花三月下扬州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华文行楷"/>
                <a:ea typeface="华文行楷"/>
              </a:rPr>
              <a:t>孤帆远影碧空尽，唯见长江天际流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王维《渭城曲》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华文行楷"/>
                <a:ea typeface="华文行楷"/>
              </a:rPr>
              <a:t>渭城朝雨浥轻尘，客舍青青柳色新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华文行楷"/>
                <a:ea typeface="华文行楷"/>
              </a:rPr>
              <a:t>劝君更进一杯酒，西出阳关无故人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3"/>
          <a:stretch/>
        </p:blipFill>
        <p:spPr>
          <a:xfrm>
            <a:off x="5562720" y="3886200"/>
            <a:ext cx="3124080" cy="210672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4"/>
          <a:stretch/>
        </p:blipFill>
        <p:spPr>
          <a:xfrm>
            <a:off x="5029200" y="1295280"/>
            <a:ext cx="350532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1905120" y="228600"/>
            <a:ext cx="7238880" cy="37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华文行楷"/>
                <a:ea typeface="华文行楷"/>
              </a:rPr>
              <a:t>《白》诗新疆轮台；《杜》诗京城长安；《黄》诗湖北武汉；《渭》诗京城长安。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华文行楷"/>
                <a:ea typeface="华文行楷"/>
              </a:rPr>
              <a:t>《白》诗京城长安；《杜》诗蜀州；《黄》诗江苏扬州；《渭》诗新疆安西。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华文行楷"/>
                <a:ea typeface="华文行楷"/>
              </a:rPr>
              <a:t>《白》诗冰天雪地；《杜》诗烟雾迷蒙；《黄》诗繁花似锦；《渭》诗初雨凄清。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华文行楷"/>
                <a:ea typeface="华文行楷"/>
              </a:rPr>
              <a:t>《白》诗百感交集战友别；《杜》诗洒脱少年刚阳别；《黄》诗诗意风流别；《渭》诗深情体贴真情别。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华文行楷"/>
                <a:ea typeface="华文行楷"/>
              </a:rPr>
              <a:t>《白》诗慷慨宛转；《杜》诗高亢爽朗；《黄》诗轻快潇洒；《渭》诗舒缓诚挚。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华文行楷"/>
                <a:ea typeface="华文行楷"/>
              </a:rPr>
              <a:t>《白》诗豪放雄奇；《杜》诗开阔俊朗；《黄》诗潇洒飘逸；《渭》诗清新明快。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华文行楷"/>
                <a:ea typeface="华文行楷"/>
              </a:rPr>
              <a:t>《白》诗咏雪显气概；《杜》诗直抒胸怀；《黄》诗绮丽意境，诗意细节；《渭》诗截取典型情节。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457200"/>
            <a:ext cx="2362320" cy="63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送别地点：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目的地：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送别环境：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送别心情：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朗读基调：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诗歌风格：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重要特点：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0" y="-243360"/>
            <a:ext cx="9756720" cy="710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语速快慢  语调高低  语气轻重  语音准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白雪歌送武判官归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北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卷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白草折，胡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八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即飞雪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忽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春风来，千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万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梨花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散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珠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湿罗幕，狐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暖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锦衾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将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角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得控，都护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铁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冷难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瀚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阑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百丈冰，愁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惨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万里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置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饮归客，胡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琵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羌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纷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暮雪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辕门，风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冻不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轮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东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送君去，去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雪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山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山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路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见君，雪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空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马行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8839080" y="126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80224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8375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测一测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0920" y="1905120"/>
            <a:ext cx="7846920" cy="31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哪句诗在文章中起过渡作用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此诗的内容由哪两部分组成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?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  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333360"/>
            <a:ext cx="9144000" cy="3141360"/>
          </a:xfrm>
          <a:prstGeom prst="rect">
            <a:avLst/>
          </a:prstGeom>
          <a:gradFill rotWithShape="0">
            <a:gsLst>
              <a:gs pos="0">
                <a:srgbClr val="0000ff">
                  <a:alpha val="59215"/>
                </a:srgbClr>
              </a:gs>
              <a:gs pos="100000">
                <a:srgbClr val="000075">
                  <a:alpha val="7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4f3d9"/>
                </a:solidFill>
                <a:latin typeface="Arial"/>
              </a:rPr>
              <a:t>北风卷地白草折，胡天八月即飞雪。</a:t>
            </a:r>
            <a:br>
              <a:rPr sz="4000"/>
            </a:br>
            <a:r>
              <a:rPr b="1" lang="zh-CN" sz="4000" spc="-1" strike="noStrike">
                <a:solidFill>
                  <a:srgbClr val="f4f3d9"/>
                </a:solidFill>
                <a:latin typeface="Arial"/>
              </a:rPr>
              <a:t>忽如一夜春风来，千树万树梨花开。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4f3d9"/>
                </a:solidFill>
                <a:latin typeface="Arial"/>
              </a:rPr>
              <a:t>散入珠帘湿罗幕，狐裘不暖锦衾薄。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4f3d9"/>
                </a:solidFill>
                <a:latin typeface="Arial"/>
              </a:rPr>
              <a:t>将军角弓不得控，都护铁衣冷难着。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4f3d9"/>
                </a:solidFill>
                <a:latin typeface="Arial"/>
              </a:rPr>
              <a:t>瀚海阑干百丈冰，愁云惨淡万里凝。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5280" y="2997360"/>
            <a:ext cx="8424720" cy="2736720"/>
          </a:xfrm>
          <a:prstGeom prst="upArrowCallout">
            <a:avLst>
              <a:gd name="adj1" fmla="val -64290"/>
              <a:gd name="adj2" fmla="val 76960"/>
              <a:gd name="adj3" fmla="val 16667"/>
              <a:gd name="adj4" fmla="val 66660"/>
            </a:avLst>
          </a:prstGeom>
          <a:gradFill rotWithShape="0">
            <a:gsLst>
              <a:gs pos="0">
                <a:srgbClr val="0000ff">
                  <a:alpha val="44313"/>
                </a:srgbClr>
              </a:gs>
              <a:gs pos="100000">
                <a:srgbClr val="000075">
                  <a:alpha val="57254"/>
                </a:srgbClr>
              </a:gs>
            </a:gsLst>
            <a:lin ang="5400000"/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4f3d9"/>
                </a:solidFill>
                <a:latin typeface="Arial"/>
              </a:rPr>
              <a:t>咏雪——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瀚海雪景图</a:t>
            </a:r>
            <a:r>
              <a:rPr b="1" lang="zh-CN" sz="4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4474800" y="-19080"/>
            <a:ext cx="429120" cy="2531880"/>
          </a:xfrm>
          <a:prstGeom prst="rect">
            <a:avLst/>
          </a:prstGeom>
          <a:solidFill>
            <a:srgbClr val="000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4f3d9"/>
                </a:solidFill>
                <a:latin typeface="Arial"/>
              </a:rPr>
              <a:t>中军置酒饮归客，胡琴琵琶与羌笛。</a:t>
            </a:r>
            <a:br>
              <a:rPr sz="4000"/>
            </a:br>
            <a:r>
              <a:rPr b="1" lang="zh-CN" sz="4000" spc="-1" strike="noStrike">
                <a:solidFill>
                  <a:srgbClr val="f4f3d9"/>
                </a:solidFill>
                <a:latin typeface="Arial"/>
              </a:rPr>
              <a:t>纷纷暮雪下辕门，风掣红旗冻不翻。</a:t>
            </a:r>
            <a:br>
              <a:rPr sz="4000"/>
            </a:br>
            <a:r>
              <a:rPr b="1" lang="zh-CN" sz="4000" spc="-1" strike="noStrike">
                <a:solidFill>
                  <a:srgbClr val="f4f3d9"/>
                </a:solidFill>
                <a:latin typeface="Arial"/>
              </a:rPr>
              <a:t>轮台东门送君去，去时雪满天山路。</a:t>
            </a:r>
            <a:br>
              <a:rPr sz="4000"/>
            </a:br>
            <a:r>
              <a:rPr b="1" lang="zh-CN" sz="4000" spc="-1" strike="noStrike">
                <a:solidFill>
                  <a:srgbClr val="f4f3d9"/>
                </a:solidFill>
                <a:latin typeface="Arial"/>
              </a:rPr>
              <a:t>山回路转不见君，雪上空留马行处。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9280" y="2421000"/>
            <a:ext cx="8964720" cy="3024000"/>
          </a:xfrm>
          <a:prstGeom prst="upArrowCallout">
            <a:avLst>
              <a:gd name="adj1" fmla="val -53718"/>
              <a:gd name="adj2" fmla="val 74113"/>
              <a:gd name="adj3" fmla="val 16667"/>
              <a:gd name="adj4" fmla="val 66660"/>
            </a:avLst>
          </a:prstGeom>
          <a:gradFill rotWithShape="0">
            <a:gsLst>
              <a:gs pos="0">
                <a:srgbClr val="0000ff">
                  <a:alpha val="62352"/>
                </a:srgbClr>
              </a:gs>
              <a:gs pos="100000">
                <a:srgbClr val="000075">
                  <a:alpha val="41176"/>
                </a:srgbClr>
              </a:gs>
            </a:gsLst>
            <a:lin ang="5400000"/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4f3d9"/>
                </a:solidFill>
                <a:latin typeface="Arial"/>
              </a:rPr>
              <a:t>送别——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风雪送客图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5T06:26:03Z</dcterms:created>
  <dc:creator>YlmF</dc:creator>
  <dc:description/>
  <dc:language>en-US</dc:language>
  <cp:lastModifiedBy>微软用户</cp:lastModifiedBy>
  <dcterms:modified xsi:type="dcterms:W3CDTF">2015-05-08T06:24:55Z</dcterms:modified>
  <cp:revision>82</cp:revision>
  <dc:subject/>
  <dc:title>幻灯片 1</dc:title>
</cp:coreProperties>
</file>