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gif" ContentType="image/gif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5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22.jpeg" ContentType="image/jpeg"/>
  <Override PartName="/ppt/media/image17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wmf" ContentType="image/x-wmf"/>
  <Override PartName="/ppt/media/image16.jpeg" ContentType="image/jpeg"/>
  <Override PartName="/ppt/media/image21.gif" ContentType="image/gif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A0D-317D-4AA8-9E1E-160A58D0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06E-AE1F-444C-8AAA-0DEF488D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CD6-474D-4A2C-904C-5FF0B770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370D-7F8A-46E4-A351-E04849B6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7DC7-DC67-4C4A-A7A3-D949DDC5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F055-6159-4C6C-92FF-978CAFE2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1060-BF23-4A04-BF2B-B26F8EFC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314E-A752-4F6B-9BFB-2755FA29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AEAB-C75F-4D6F-8F51-A2144773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02E7-B3FC-4E32-8C55-D6FA4B23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244C-9B1A-4F66-8C0A-BE2452DC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A30-EE6C-4AE5-B4C1-B5185F00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3142-BD69-491D-9924-116B3D19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44B7-118B-412E-B572-D2713C1B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7CBD-0866-4BDA-9581-08B5C46C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0388-5691-442B-82C5-2069B559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453B-4E95-423F-99AE-ACB57752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46233-66FB-4D91-A5DA-14F2D5C8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7BFF7-ED80-4CA1-A29C-19FFCA6B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F42C0-3AF1-4699-B5B7-EA70BEAC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3F8A4-51F0-42AD-82CE-68C9A184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4CDA9-4BFC-4CDE-8B22-1A5329D2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F00-44B6-45C4-BA6F-D94F493E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492AA-3654-49F0-B9A2-DF87439D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33DBE-3B9A-48B2-9340-1552E0BA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46760-F250-4547-9753-5F9E7CDC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8FFC2-205C-45F0-9E54-F0536516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8649-C60E-46C1-9FFA-294C3399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CB166-E2E0-4332-94EA-E04C9C1D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CD8FE-6206-463B-89A7-4EA3C692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2603-D176-4623-B492-27AD8371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6AAC-AEA1-4B9F-8F43-80C6C836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7E58-4B81-4A1A-BE4E-55A33413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DF4-5BAC-4576-B1D1-3B7264BF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5CA6-8E88-4851-AD70-4AFE70F1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0EEF-F4D4-4549-8509-AEB71334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80B5-D79D-4366-8CD8-26C9D5B6FE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B69F-8DF0-45E1-B7A1-B561FB64F5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2CE9-87C7-4C2B-B63D-B6B9EFC693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200411221419561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1447920" y="2057400"/>
            <a:ext cx="617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宋体"/>
              </a:rPr>
              <a:t>26.</a:t>
            </a: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面五星红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2514600" y="37339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b1921"/>
                </a:solidFill>
                <a:latin typeface="楷体_GB2312"/>
                <a:ea typeface="楷体_GB2312"/>
              </a:rPr>
              <a:t>营丘镇崖头小学 宋 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2286000"/>
            <a:ext cx="966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愣了一下，然后久久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凝视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手中的五星红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41911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楷体_GB2312"/>
              </a:rPr>
              <a:t>凝视：注意力集中地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2205000"/>
            <a:ext cx="807696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愣了一下，然后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看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中的五星红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愣了一下，然后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久久地凝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手中的五星红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371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己读读这两句话，体会一下有什么同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20070923154904376"/>
          <p:cNvPicPr/>
          <p:nvPr/>
        </p:nvPicPr>
        <p:blipFill>
          <a:blip r:embed="rId2"/>
          <a:srcRect l="0" t="0" r="0" b="33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1981080" y="304920"/>
            <a:ext cx="1447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1371600" y="22096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14842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3500280"/>
            <a:ext cx="230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219320"/>
            <a:ext cx="739152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可以吗？交换吧。”老板冲我打着手势。我摇摇头，吃力地穿上大衣，拿着鲜艳的国旗，趔趔趄趄地向外走去。突然，我摔倒在地上，就什么也不知道了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20070923154904376"/>
          <p:cNvPicPr/>
          <p:nvPr/>
        </p:nvPicPr>
        <p:blipFill>
          <a:blip r:embed="rId2"/>
          <a:srcRect l="0" t="0" r="0" b="33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1981080" y="304920"/>
            <a:ext cx="1447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371600" y="22096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14842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3500280"/>
            <a:ext cx="230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1219320"/>
            <a:ext cx="7391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醒来的时候，发现自己被一块巨石挡住了，头和身子被撞伤了好几处，筏子和背包都无影无踪。我迷路了，在荒无人烟的大山里转来转去。直到第三天中午，我才来到一座小镇，走进一家面包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20070923154904376"/>
          <p:cNvPicPr/>
          <p:nvPr/>
        </p:nvPicPr>
        <p:blipFill>
          <a:blip r:embed="rId2"/>
          <a:srcRect l="0" t="0" r="0" b="33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1981080" y="304920"/>
            <a:ext cx="1447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1371600" y="22096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14842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16000" y="3500280"/>
            <a:ext cx="230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56852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摇摇头，吃力地穿上衣，拿着鲜艳的国旗，趔趔趄趄地向外走去。突然，我摔倒在地上，就什么也不知道了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20070923154904376"/>
          <p:cNvPicPr/>
          <p:nvPr/>
        </p:nvPicPr>
        <p:blipFill>
          <a:blip r:embed="rId2"/>
          <a:srcRect l="0" t="0" r="0" b="33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1981080" y="304920"/>
            <a:ext cx="1447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1371600" y="22096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14842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3500280"/>
            <a:ext cx="230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1219320"/>
            <a:ext cx="7391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醒来的时候，发现自己躺在医院的病房里，身边站着的就是面包店的老板。他见我醒来，冲我竖起大拇指，说：“安心养一养，费用由我来付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432160" y="533520"/>
            <a:ext cx="3941640" cy="4800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33520" y="57913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新中国成立时在天安门广场第一次升起五星红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5791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中国队第一次登上南极时，在最高点升起的五星红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705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5257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1997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日，香港回归时升起的五星红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693432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600200" y="5257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1999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日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澳门回归时升起的五星红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59436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200981002431849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1614600"/>
            <a:ext cx="8381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第一句：“我很棒！”（送给你自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第二句：“你很棒！”（送给你的同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第三句：“我们都很棒！”（送给全班同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253480" y="708120"/>
            <a:ext cx="28342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《红旗飘飘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五星红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你是我的骄傲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五星红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我为你自豪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为你欢呼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我为你祝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你的名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比我生命更重要。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800100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50085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705200" y="1773360"/>
            <a:ext cx="145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24200" y="639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1844640"/>
            <a:ext cx="57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图片9"/>
          <p:cNvPicPr/>
          <p:nvPr/>
        </p:nvPicPr>
        <p:blipFill>
          <a:blip r:embed="rId2"/>
          <a:stretch/>
        </p:blipFill>
        <p:spPr>
          <a:xfrm>
            <a:off x="1979640" y="181620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989000" y="1644480"/>
            <a:ext cx="14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图片9"/>
          <p:cNvPicPr/>
          <p:nvPr/>
        </p:nvPicPr>
        <p:blipFill>
          <a:blip r:embed="rId3"/>
          <a:stretch/>
        </p:blipFill>
        <p:spPr>
          <a:xfrm>
            <a:off x="4884840" y="176040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879800" y="1600200"/>
            <a:ext cx="13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09480" y="4410000"/>
            <a:ext cx="1676520" cy="16858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52480" y="2133720"/>
            <a:ext cx="5562720" cy="2057400"/>
          </a:xfrm>
          <a:prstGeom prst="wedgeRoundRectCallout">
            <a:avLst>
              <a:gd name="adj1" fmla="val -40666"/>
              <a:gd name="adj2" fmla="val 91976"/>
              <a:gd name="adj3" fmla="val 16667"/>
            </a:avLst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23907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小组合作，演一演面包店老板和中国留学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1113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Arial"/>
              </a:rPr>
              <a:t>家庭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00000" y="2205000"/>
            <a:ext cx="701064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吵架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”的心里是怎么想的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克莱谛又是怎么做的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父亲知道这件事情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怎么做的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2627280" y="2421000"/>
            <a:ext cx="3672000" cy="15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五星红旗2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105520" cy="3397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14600" y="685800"/>
            <a:ext cx="441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6.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面五星红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20070923154904376"/>
          <p:cNvPicPr/>
          <p:nvPr/>
        </p:nvPicPr>
        <p:blipFill>
          <a:blip r:embed="rId1"/>
          <a:srcRect l="0" t="0" r="0" b="33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1981080" y="304920"/>
            <a:ext cx="1447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1066680" y="1992240"/>
            <a:ext cx="7086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假日  背包  防止  脖子  漆黑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壮胆  无影无踪  荒无人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小镇  处境  交易  鼻子  犹豫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反应  摔倒  竖起  费用 心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74600" y="112536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880920" cy="942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659400" y="2362320"/>
            <a:ext cx="155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把双手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一脸的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凝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视着手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竖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起大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拇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63880" y="1676520"/>
            <a:ext cx="1247400" cy="5205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我会做动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186440" y="3886200"/>
            <a:ext cx="137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课文写了一件什么事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34290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快速浏览一下课文，找一下课文中共有几处写到“五星红旗”，并画出有关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五星红旗2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33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080" y="1143000"/>
            <a:ext cx="76964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琥珀"/>
                <a:ea typeface="华文琥珀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由默读并回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同学们默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，找出面包店老板刚开始的态度是怎样的？后来的态度又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629400" y="5181480"/>
            <a:ext cx="83808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3bedd6ddfb229c2c5882dd2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WordArt 10"/>
          <p:cNvSpPr txBox="1"/>
          <p:nvPr/>
        </p:nvSpPr>
        <p:spPr>
          <a:xfrm rot="210000">
            <a:off x="3123720" y="837720"/>
            <a:ext cx="2433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想一想？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24210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包店老板刚开始的态度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3733920"/>
            <a:ext cx="640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来的态度又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311616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是特别愿意帮助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434340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无私热情地帮助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042920" y="191628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通过留学生的哪些动作，感受到他对国旗的热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5-09T13:12:23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