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DDF-2125-4E6B-B089-EF8DC189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79C-8ED0-4E11-BDC2-C7659CB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B14-1523-4937-BD19-FC4155BC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262-0D62-40CC-A0B1-A78B9557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A77-5F54-43D2-BB91-B635F55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33B-24EA-4A17-A410-57BC2FC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FF7-1AE4-455A-A02A-0E801E18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4A8-3908-4EC4-A554-D190F55F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D32-33A1-4D61-BD2E-4295909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1DC-3266-4E22-8880-9FC9D53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259-AB96-4611-96D6-C5A5D3D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37B-FEAF-4ED8-871B-527BC1F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66B4-2E89-4FEA-BF2E-87C7145043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2492280"/>
            <a:ext cx="460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骑马上天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981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语文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版   六年级  语文 上册 第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484280"/>
            <a:ext cx="8064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天山的雪峰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----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博格达峰上的积雪终年不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们叫它雪海。在博格达的山腰上，有一个名叫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池的湖泊，海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0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，深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。池中的水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由冰雪融化而成，清澈透明，像一面大镜子。洁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雪峰，翠绿的云杉倒映湖中，构成了一幅美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图画，是新疆著名的旅游胜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016360" cy="498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8483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126828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明月出天山，苍茫云海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地脉至此断，天山已包天。日月何处栖，总挂青松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洪亮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苍苍浮紫气，天山真雄伟。陵谷分阴阳，不假皴擦美。初阳照积雪，色如胭脂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汪曾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08080" y="907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中宋"/>
              </a:rPr>
              <a:t>诵读积累有关天山的诗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01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822760" cy="176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637000"/>
            <a:ext cx="86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，感受词句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练写生字，积累本课优美词句及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2276640"/>
            <a:ext cx="343692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20500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会写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正确、流利、有感情地朗读课文。体会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语言特色，积累佳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抓住景物特点，按照一定的顺序写景状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22431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91040" cy="410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5543640" cy="415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5905440" cy="4205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187280" y="1268280"/>
            <a:ext cx="6624720" cy="436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187280" y="981000"/>
            <a:ext cx="6696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181920" cy="159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953040" cy="1562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20286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3220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2360" y="3865680"/>
            <a:ext cx="5632200" cy="154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71640" y="476280"/>
            <a:ext cx="288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我会写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2276640"/>
            <a:ext cx="129564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2276640"/>
            <a:ext cx="136836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005360"/>
            <a:ext cx="1366560" cy="120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557360"/>
            <a:ext cx="82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碧野先生仿佛是我们的向导，带着我们畅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天山，你能找到提示我们游览路线的句子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26720" y="299664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游览的地方有什么特点？你有什么感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407664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先写天山外“戈壁滩炎暑逼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再写“进入天山……立刻会使你感到像秋天似的凉爽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再写“再往里走，天山显得越来越优美”，“再往里走就像是春天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628640"/>
            <a:ext cx="842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顺着这条线路，作者饱赏了天山哪些景物？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择你所喜欢的一两处景物美美地读一读，勾画出你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为优美的句子，谈谈你的理解与收获，或者是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348000" y="404640"/>
            <a:ext cx="244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习 交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2219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84280" y="177228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天山留给你的整体感受是什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511280" cy="149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2109960" cy="52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219640" y="3429000"/>
            <a:ext cx="3233880" cy="2676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900000" y="3357720"/>
            <a:ext cx="131292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3357720"/>
            <a:ext cx="1152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1341360"/>
            <a:ext cx="8209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天山是亚洲中部的一条大山脉，横贯中国新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中部，西端伸入哈萨克斯坦。长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5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里，宽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50--3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里，平均海拔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。最高峰是托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尔峰，海拔为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435.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，汗腾格里峰海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99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博格达峰的海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445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米。这些高峰都在中国境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峰顶白雪皑皑。新疆的三条大河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----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锡尔河、楚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和伊犁河都发源于此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016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02:05:33Z</dcterms:created>
  <dc:creator>微软用户</dc:creator>
  <dc:description/>
  <dc:language>en-US</dc:language>
  <cp:lastModifiedBy>微软用户</cp:lastModifiedBy>
  <dcterms:modified xsi:type="dcterms:W3CDTF">2015-07-26T12:48:20Z</dcterms:modified>
  <cp:revision>3</cp:revision>
  <dc:subject/>
  <dc:title>幻灯片 1</dc:title>
</cp:coreProperties>
</file>