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E0B-56CA-49A7-8DAA-DEFC792B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EC93-1BED-4451-BB56-BF66C101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76D-D2D5-4EDB-9D9F-409016A6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A7A3-7540-4CEF-B9ED-CAD75017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E950-FBDC-4DB4-AEED-EC2F2120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AC21-9B30-431F-8BF2-3B4C1535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60B-84DE-43F4-BAE5-0F3E3878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D5E-D9BC-4009-98AE-CE2BDB2D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EC1-82A7-4E5B-A596-02761668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20A7-4ACC-4716-9492-75FA4D82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3F7-8008-4F83-A960-AF1E3249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C12-D00F-467B-9F9A-DE0907D6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B325-9ACC-4927-B437-95E25FFA0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7520"/>
            <a:ext cx="9109080" cy="6767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000" y="2852640"/>
            <a:ext cx="4897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想当一棵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2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920" y="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歌曲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052640"/>
            <a:ext cx="38876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头顶一个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脚踏一方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风雨中你昂起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冰雪压不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好大一棵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任你狂风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绿叶中留下多少故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有乐也有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欢乐你不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痛苦你不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5080" y="981000"/>
            <a:ext cx="28065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撒给大地多少绿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那是爱的音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风是你的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云是你脚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无论白天和黑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都为人类造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好大一棵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绿色的祝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你的胸怀在蓝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隶书"/>
                <a:ea typeface="隶书"/>
              </a:rPr>
              <a:t>深情藏沃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4608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好大一棵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田震-好大一棵树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320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生字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" y="693720"/>
            <a:ext cx="507348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mo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沉默  默写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liao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聊天  闲聊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a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哇哇叫 哇哇哭）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zi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姿态   姿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24440" y="109548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1125360"/>
            <a:ext cx="403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ya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雅量  优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zhi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炙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炙热  炙烤）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ya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枝丫  脚丫）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幽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幽静  幽香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4920" y="5445000"/>
            <a:ext cx="2519280" cy="1584360"/>
            <a:chOff x="34920" y="5445000"/>
            <a:chExt cx="2519280" cy="1584360"/>
          </a:xfrm>
        </p:grpSpPr>
        <p:sp>
          <p:nvSpPr>
            <p:cNvPr id="54" name=""/>
            <p:cNvSpPr/>
            <p:nvPr/>
          </p:nvSpPr>
          <p:spPr>
            <a:xfrm>
              <a:off x="34920" y="5445000"/>
              <a:ext cx="2519280" cy="1584360"/>
            </a:xfrm>
            <a:prstGeom prst="cloudCallout">
              <a:avLst>
                <a:gd name="adj1" fmla="val 47291"/>
                <a:gd name="adj2" fmla="val -7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0920" y="5805360"/>
              <a:ext cx="21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Arial"/>
                  <a:ea typeface="方正舒体"/>
                </a:rPr>
                <a:t>别写错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3352680" cy="957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1341360"/>
            <a:ext cx="79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诗歌的特点之一就是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通过优美概括的语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激起人们的思考、遐想与激情。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大家再仔仔细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地品味诗句，看你能想到什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3713040"/>
            <a:ext cx="350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沉默”  “姿态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雅量”  “幽默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700360" y="1557360"/>
            <a:ext cx="25192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　　　　      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   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词语积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6922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炙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76500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像火烤一样的热，形容极热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141300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近义词：酷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27400" y="14860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反义词：冰凉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2276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姿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2492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词语有两层意思，一是姿势、体态，二是态度。课文既描述了大树的样子、体态，也暗示着”大树“那种为人处世的态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60360" y="3718080"/>
            <a:ext cx="31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近义词：姿势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4437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雅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60360" y="450864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宽宏的度量。诗中指大树为了他人不计较自己的得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5300640"/>
            <a:ext cx="26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近义词：气度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1006560" cy="768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47640" y="476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作业布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628640"/>
            <a:ext cx="82803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根据课文内容填空，尽量用上诗中的词语。　　　　　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大树常常是（ ）寡言、不吵不闹，它（ ）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拔，不怕（ ）的太阳，有甘于奉献的（ ）。有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候，大树也很顽皮（ ），悄悄和你开个小玩笑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把课文读熟，背给家长听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160" y="47520"/>
            <a:ext cx="9107280" cy="6811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627280" y="2276640"/>
            <a:ext cx="3724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隶书"/>
              </a:rPr>
              <a:t>再见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15:36:13Z</dcterms:created>
  <dc:creator>xiaoxi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